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FB1-5AEE-47BA-9593-9836D5F3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2D6-B95C-4875-BE43-D83019CE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229-DEDF-49D9-925D-EF62043D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89E-3582-4DBA-846A-9D043895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9E0-711C-4332-8DA0-3252A24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0ED-9115-4BEA-972D-5FC649E0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CF1-99F2-431C-BD8F-C7799B1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F26-CBDA-4147-9856-01A47BB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3CE-31C0-47B1-A078-CEE0E0B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510-331C-4B09-8153-4C20964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C02-5D26-4696-8BEC-2E0AC73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451-F667-4BE3-907F-99C3775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7A85-944A-406A-BBDD-00D32384C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im.glance-group.ru/upload/454291250839580_photo_005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flower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80880" y="380880"/>
            <a:ext cx="8610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МОУ Б-Неклиновская СОШ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5391000" y="5764320"/>
            <a:ext cx="37530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читель начальных классов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Шереверова С. Н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442880" y="2057400"/>
            <a:ext cx="62582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 земле исчезают цветы,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 каждым годом заметнее это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ьше радости и красот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ставляет нам каждое лето..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G:\рис\128507667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4"/>
          <p:cNvSpPr txBox="1"/>
          <p:nvPr/>
        </p:nvSpPr>
        <p:spPr>
          <a:xfrm>
            <a:off x="0" y="4191120"/>
            <a:ext cx="8991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Использование земель под пастбища сопряжено также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с выносом питательных веществ из почв в составе подножных кормов и сена.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Животноводческая отрасль является значительным потребителем воды.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52280" y="5715000"/>
            <a:ext cx="8839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Наиболее негативная сторона воздействия животноводства на ландшафт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 –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загрязнение природных вод стоками животноводческих ферм.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C:\Documents and Settings\Сергей\Рабочий стол\Безимени-111.gif"/>
          <p:cNvPicPr/>
          <p:nvPr/>
        </p:nvPicPr>
        <p:blipFill>
          <a:blip r:embed="rId2"/>
          <a:stretch/>
        </p:blipFill>
        <p:spPr>
          <a:xfrm>
            <a:off x="5410080" y="4492800"/>
            <a:ext cx="3733920" cy="23652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690480" y="609480"/>
            <a:ext cx="79153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РАНСПОРТНЫЕ ВОЗДЕЙСТВ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380880" y="1752480"/>
            <a:ext cx="8534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ействия транспорта на окружающую среду чрезвычайно многогранны.</a:t>
            </a:r>
            <a:endParaRPr b="0" lang="en-US" sz="20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ля всех видов транспортных воздействий характерны изъятие земель,</a:t>
            </a:r>
            <a:endParaRPr b="0" lang="en-US" sz="20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грязнение всех природных компонентов, водопотребление,</a:t>
            </a:r>
            <a:endParaRPr b="0" lang="en-US" sz="20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380880" y="3429000"/>
            <a:ext cx="8534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дущие к нарушению круговорота веществ в природных комплексах.</a:t>
            </a:r>
            <a:endParaRPr b="0" lang="en-US" sz="2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акже транспорт – постоянный потребитель топлива,</a:t>
            </a:r>
            <a:endParaRPr b="0" lang="en-US" sz="2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тимулирующий добычу топливных полезных ископаемых</a:t>
            </a:r>
            <a:endParaRPr b="0" lang="en-US" sz="2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4624E-007 L -0.68177 -0.00208 E">
                                      <p:cBhvr>
                                        <p:cTn id="158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304920" y="3809880"/>
            <a:ext cx="8534160" cy="28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Главное, однако, не в полноте списка этих проблем,а в осмыслении причин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х возникновения, характера и, что самое важное,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 выявлении эффективных путей и способов их разрешения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28600" y="1066680"/>
            <a:ext cx="8915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Мы знаем, что в природе всё взаимосвязано.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И если мы будем по частям убивать её,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то связи нарушатся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А поскольку человек часть природы,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разрушив её, он и сам погибнет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533520" y="2286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«Как сельскохозяйственная деятельность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трицательно влияет на окружающую среду.»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7" descr="C:\Documents and Settings\Сергей\Рабочий стол\Безимени-2.gif"/>
          <p:cNvPicPr/>
          <p:nvPr/>
        </p:nvPicPr>
        <p:blipFill>
          <a:blip r:embed="rId2"/>
          <a:stretch/>
        </p:blipFill>
        <p:spPr>
          <a:xfrm>
            <a:off x="0" y="4000680"/>
            <a:ext cx="2286000" cy="28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828800" y="35593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Обострение экологической ситуации во многих регионах России в значительной мере связано с влиянием сельскохозяйственной деятельности на природную среду.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 качестве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первого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 по значимости среди факторов воздействия можно рассматривать коэффициент эрозионной опасности сельскохозяйственных культур.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Вторым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фактором является количество и тип вносимых удобрений, компенсирующих вынос питательных веществ эрозионными процессами и культурными растениями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133720" y="380880"/>
            <a:ext cx="50292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ЗЕМЛЕДЕЛИ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0520" y="1295280"/>
            <a:ext cx="871524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действие земледелия на природный комплекс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чинается с уничтожения на больших площадях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бщества естественной растительности и 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ены ее культурными видами. Следующий компонент, 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9040" y="2782800"/>
            <a:ext cx="845820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ытывающий существенные изменения,–почва.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земледельческих комплексах основная часть элементов почвы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ымается вместе с урожаем,что характерно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однолетних культур.Для восполнения изъятых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6760" y="441972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 в почвы вносят в основном минеральные удобрения:азотные,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сфорные,калийные.Это имеет как положительные последствия–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полнение запасов питательных веществ в почве,так и отрицательные – 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440" y="5715000"/>
            <a:ext cx="8953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рязнение почвы, воды и воздуха. При внесении удобрений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очву попадают так называемые балластные элементы,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е не нужны ни растениям, ни почвенным микроорганизмам. 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52280" y="4272120"/>
            <a:ext cx="8991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SimSun"/>
              </a:rPr>
              <a:t>Кроме минеральных удобрений в почву вносятся различные химические вещества для борьбы с насекомыми (инсектициды), сорняками (пестициды), для подготовки растений к уборке, в частности дефолианты, ускоряющие сбрасывание листьев у хлопчатника для его машинной уборки.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SimSun"/>
              </a:rPr>
              <a:t>Большинство этих веществ очень токсичны, не имеют аналогов среди природных соединений, очень медленно разлагаются микроорганизмами, поэтому последствия их применения трудно предсказать. В целях увеличения урожая в развитых странах пестицидами обрабатывают около половины посевных площадей. Мигрируя вместе с пылью, подземными и наземными водами, ядохимикаты распространяются повсеместно и представляют повышенную экологическую опас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Картинка 13 из 20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5920" y="0"/>
            <a:ext cx="8524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громные площади в мире занимают заболоченные земли,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спользование которых становится возможным тольк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осле проведения осушительных мероприяти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сушение оказывает серьезное влияние на ландшафт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6760" y="3200400"/>
            <a:ext cx="8763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Изменяется тепловой баланс территорий–резко сокращаютс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затраты тепла на испарение, уменьшается относительна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влажность воздуха, увеличиваются суточные амплитуды температур.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" y="4724280"/>
            <a:ext cx="9075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Осушение вызывает и увеличение глубины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залегания грунтовых вод,а это, может вызвать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пересыхание многочисленных ручьев и даже небольших рек.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838080" y="0"/>
            <a:ext cx="7620120" cy="23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чень много полезных животных погибаю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сельскохозяйственных работах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рицательное влияние на почвенное плодородие оказыва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яжелая сельскохозяйственная техника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0" name="Picture 6" descr="C:\Documents and Settings\Сергей\Рабочий стол\Безимени-1111.gif"/>
          <p:cNvPicPr/>
          <p:nvPr/>
        </p:nvPicPr>
        <p:blipFill>
          <a:blip r:embed="rId2"/>
          <a:stretch/>
        </p:blipFill>
        <p:spPr>
          <a:xfrm>
            <a:off x="357120" y="500076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Documents and Settings\Сергей\Мои документы\Мои рисунки\Кот5.gif"/>
          <p:cNvPicPr/>
          <p:nvPr/>
        </p:nvPicPr>
        <p:blipFill>
          <a:blip r:embed="rId3"/>
          <a:stretch/>
        </p:blipFill>
        <p:spPr>
          <a:xfrm>
            <a:off x="7786800" y="5935680"/>
            <a:ext cx="1112760" cy="9223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b - 059.jpg"/>
          <p:cNvPicPr/>
          <p:nvPr/>
        </p:nvPicPr>
        <p:blipFill>
          <a:blip r:embed="rId4"/>
          <a:stretch/>
        </p:blipFill>
        <p:spPr>
          <a:xfrm>
            <a:off x="3571920" y="4500720"/>
            <a:ext cx="2139840" cy="1380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gallery_1291918644.jpg"/>
          <p:cNvPicPr/>
          <p:nvPr/>
        </p:nvPicPr>
        <p:blipFill>
          <a:blip r:embed="rId5"/>
          <a:stretch/>
        </p:blipFill>
        <p:spPr>
          <a:xfrm>
            <a:off x="5715000" y="550080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10631-src.jpg"/>
          <p:cNvPicPr/>
          <p:nvPr/>
        </p:nvPicPr>
        <p:blipFill>
          <a:blip r:embed="rId6"/>
          <a:stretch/>
        </p:blipFill>
        <p:spPr>
          <a:xfrm>
            <a:off x="2214720" y="55008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2.77457E-006 C -0.03056 -0.02312 -0.06094 -0.04601 -0.05417 -0.0763 C -0.0474 -0.10659 -0.0033 -0.14405 0.04097 -0.18127 E">
                                      <p:cBhvr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-6.93642E-007 C 0.02222 -0.0437 0.05711 -0.0874 0.04948 -0.13665 C 0.04184 -0.1859 -0.00816 -0.24092 -0.05799 -0.29572 E">
                                      <p:cBhvr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685800" y="533520"/>
            <a:ext cx="830592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636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ЖИВОТНОВОДСТВО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304920" y="2362320"/>
            <a:ext cx="8839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Животноводческие ландшафты состоят из разнородных частей,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таких как пастбища,выгоны,фермы,зоны утилизации отходов...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"/>
              </a:rPr>
              <a:t>Каждая часть вносит особый вклад в общий поток воздействия на природные комплекс.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95360" y="4267080"/>
            <a:ext cx="83059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-за выпаса животных уменьшается биомасса растений и происходят измен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видовом составе растительного сообщества. При особо длительном выпасе,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 уплотняется,поверхность пастбищ оголяется,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04920" y="5486400"/>
            <a:ext cx="883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то усиливает испарение и приводит в континентальных секторах умеренного пояса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засолению почв,а во влажных районах способствует заболачиванию.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1-03-16T16:54:40Z</dcterms:modified>
  <cp:revision>28</cp:revision>
  <dc:subject/>
  <dc:title>PowerPoint Presentation</dc:title>
</cp:coreProperties>
</file>