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wmf" ContentType="image/x-wmf"/>
  <Override PartName="/ppt/media/image27.gif" ContentType="image/gif"/>
  <Override PartName="/ppt/media/image21.png" ContentType="image/png"/>
  <Override PartName="/ppt/media/image20.jpeg" ContentType="image/jpeg"/>
  <Override PartName="/ppt/media/image22.wmf" ContentType="image/x-wmf"/>
  <Override PartName="/ppt/media/image19.gif" ContentType="image/gif"/>
  <Override PartName="/ppt/media/image17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wmf" ContentType="image/x-wmf"/>
  <Override PartName="/ppt/media/image11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254-280E-42D2-A382-5D65AD34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CEB-E4FF-40FF-AFB5-47240DA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D96-D6EC-4D20-A479-CF59F675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4A5-E395-49A6-AFAB-06130EAA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398-D567-408B-B7D0-0F01DBEB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E226-2DCF-4D5F-852D-E225215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FB6-711E-4A2A-91FF-AC86B2D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90A1-2FE4-4620-9549-BA9C6F82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68A-77EF-42C6-A8CD-3CAA662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726-485C-44B8-9ECB-8124A89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640-269E-417F-98E0-5D5FF52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F17-8A1C-48C9-A3B9-A481771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0D13-E6AC-4792-AB60-18C0614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F1C7-4EC3-45B6-A3D8-7E82DF4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DDD8-AF47-4AC4-9A99-EA3DDC72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2FC-D8BD-4B82-8600-D461FD06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F2BF-4B3A-4A84-BA29-D5CFA764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E28-02E5-4FCE-A185-5E7B0B4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2CC-0E91-4982-8EB9-18F6EC7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22C-C225-4B5A-9A56-22D6A9E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6AB-0D69-4B48-B9B4-E4923593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1E6-E779-4C30-B34B-BB45FE9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A55-5644-4437-A064-5780504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C02-AEFB-4813-AC6A-8B8E3CF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519A-FDE3-444D-A188-3656A436F9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A2E-D446-4CF9-89C4-81F8AAA9ABC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Урок - презент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А.И. Куприн «Тапёр». Талант и труд в рассказе.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144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19520"/>
            <a:ext cx="96012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Обучающая –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бучение анализу прозаического произведения, знакомство с жизнью и творчеством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А.И. Куприна, представление творчества А.Г. Рубинштейна и  Ф. Лист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4956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Развивающ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развитие представлений о литературе и музыке как о видах искусства, о значении этих видов искусства для человек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74880" y="52992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-1752480" y="5715000"/>
            <a:ext cx="10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Воспитательн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оспитание интереса к классической музыке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Picture 7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979560" y="1981080"/>
            <a:ext cx="322272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5257800" y="2438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тон Григорьевич   Рубинштейн (1829 – 1894)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Picture 6" descr="C:\Documents and Settings\Пользователь\Мои документы\Куприн\rubinshtm.jpg"/>
          <p:cNvPicPr/>
          <p:nvPr/>
        </p:nvPicPr>
        <p:blipFill>
          <a:blip r:embed="rId2"/>
          <a:stretch/>
        </p:blipFill>
        <p:spPr>
          <a:xfrm>
            <a:off x="1219320" y="1981080"/>
            <a:ext cx="3149640" cy="3733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572000" y="213372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2000" y="20574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великий русский композитор, пианист, известный всему миру  дирижёр, директор Петербургской консерватори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1862 по 1867 годы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Основная мысль расска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Трудолюбие, воля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скромность, чувство собственного достоинства помогут человеку найти своё место в жизни. Нужно развивать  данные тебе от природы способности, не зарывать свой талант в землю, а радовать своим даром других люде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Picture 11" descr="C:\Program Files\Common Files\Microsoft Shared\Clipart\cagcat50\PE01000_.wmf"/>
          <p:cNvPicPr/>
          <p:nvPr/>
        </p:nvPicPr>
        <p:blipFill>
          <a:blip r:embed="rId1"/>
          <a:stretch/>
        </p:blipFill>
        <p:spPr>
          <a:xfrm>
            <a:off x="7086600" y="1447920"/>
            <a:ext cx="145728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:\Program Files\Common Files\Microsoft Shared\Clipart\cagcat50\PE01659_.wmf"/>
          <p:cNvPicPr/>
          <p:nvPr/>
        </p:nvPicPr>
        <p:blipFill>
          <a:blip r:embed="rId2"/>
          <a:stretch/>
        </p:blipFill>
        <p:spPr>
          <a:xfrm>
            <a:off x="4648320" y="4267080"/>
            <a:ext cx="2228760" cy="19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:\Program Files\Common Files\Microsoft Shared\Clipart\cagcat50\BS02064_.WMF"/>
          <p:cNvPicPr/>
          <p:nvPr/>
        </p:nvPicPr>
        <p:blipFill>
          <a:blip r:embed="rId3"/>
          <a:stretch/>
        </p:blipFill>
        <p:spPr>
          <a:xfrm>
            <a:off x="4495680" y="2057400"/>
            <a:ext cx="172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:\Program Files\Common Files\Microsoft Shared\Clipart\cagcat50\PE01981_.wmf"/>
          <p:cNvPicPr/>
          <p:nvPr/>
        </p:nvPicPr>
        <p:blipFill>
          <a:blip r:embed="rId4"/>
          <a:stretch/>
        </p:blipFill>
        <p:spPr>
          <a:xfrm>
            <a:off x="6553080" y="415764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7c7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очитать рассказ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.И.Куприна «Скворц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ответить на вопрос 3 на стр. 64 учебника (устно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Picture 5" descr="C:\Мои документы\Мои рисунки\Скворцы\скворцы21.jpg"/>
          <p:cNvPicPr/>
          <p:nvPr/>
        </p:nvPicPr>
        <p:blipFill>
          <a:blip r:embed="rId4"/>
          <a:stretch/>
        </p:blipFill>
        <p:spPr>
          <a:xfrm>
            <a:off x="4800600" y="2303640"/>
            <a:ext cx="3657600" cy="362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Пользователь\Мои документы\анимация и рисунки\линии\2.gif"/>
          <p:cNvPicPr/>
          <p:nvPr/>
        </p:nvPicPr>
        <p:blipFill>
          <a:blip r:embed="rId5"/>
          <a:stretch/>
        </p:blipFill>
        <p:spPr>
          <a:xfrm>
            <a:off x="1143000" y="685800"/>
            <a:ext cx="69040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зентацию подготовила Алямкина Татьяна Борисовна, учитель школы №30 г. Саранс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C:\Documents and Settings\Пользователь\Мои документы\image089.jpg"/>
          <p:cNvPicPr/>
          <p:nvPr/>
        </p:nvPicPr>
        <p:blipFill>
          <a:blip r:embed="rId2"/>
          <a:stretch/>
        </p:blipFill>
        <p:spPr>
          <a:xfrm>
            <a:off x="2819520" y="21114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3139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.И. Купри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Пользователь\Мои документы\анимация и рисунки\линии\15.gif"/>
          <p:cNvPicPr/>
          <p:nvPr/>
        </p:nvPicPr>
        <p:blipFill>
          <a:blip r:embed="rId2"/>
          <a:stretch/>
        </p:blipFill>
        <p:spPr>
          <a:xfrm>
            <a:off x="1523880" y="304920"/>
            <a:ext cx="5794560" cy="274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3200400" y="62895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870 - 193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ды учёбы в кадетском корпус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946600" cy="441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3124080" y="228600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сяти лет Куприн был отдан во 2 –ю  московскую военную гимназию, реорганизованную вскоре в кадетский корпус с суровым солдатским режимом и телесными наказаниями. Порывистый, горячий, непокорный мальчик много потерпел от жестоких корпусных порядков. С детства Куприн возненавидел насилие, стал чутким к чужому страданию. Тягостная жизнь «казённого мальчика» была изображена им впоследствии в повести «На переломе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48120" y="3962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.И. Куприн – молодой офиц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90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0" y="23623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1888 году Куприн поступил в московское Александровское военное училище. После его окончания он в чине подпоручика направлен в пехотный полк, стоявший в захолустном городке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оветуем прочита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0" name="Picture 6" descr="C:\Documents and Settings\Пользователь\Мои документы\Куприн\813430.jpg"/>
          <p:cNvPicPr/>
          <p:nvPr/>
        </p:nvPicPr>
        <p:blipFill>
          <a:blip r:embed="rId2"/>
          <a:stretch/>
        </p:blipFill>
        <p:spPr>
          <a:xfrm>
            <a:off x="530280" y="1828800"/>
            <a:ext cx="3216240" cy="421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Documents and Settings\Пользователь\Мои документы\Куприн\822768.jpg"/>
          <p:cNvPicPr/>
          <p:nvPr/>
        </p:nvPicPr>
        <p:blipFill>
          <a:blip r:embed="rId3"/>
          <a:stretch/>
        </p:blipFill>
        <p:spPr>
          <a:xfrm>
            <a:off x="5638680" y="1981080"/>
            <a:ext cx="2730600" cy="398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Пользователь\Мои документы\анимашки\2.GIF"/>
          <p:cNvPicPr/>
          <p:nvPr/>
        </p:nvPicPr>
        <p:blipFill>
          <a:blip r:embed="rId4"/>
          <a:stretch/>
        </p:blipFill>
        <p:spPr>
          <a:xfrm>
            <a:off x="3886200" y="5105520"/>
            <a:ext cx="14446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9" descr="C:\Documents and Settings\Пользователь\Мои документы\анимашки\елка.gif"/>
          <p:cNvPicPr/>
          <p:nvPr/>
        </p:nvPicPr>
        <p:blipFill>
          <a:blip r:embed="rId2"/>
          <a:stretch/>
        </p:blipFill>
        <p:spPr>
          <a:xfrm>
            <a:off x="0" y="2743200"/>
            <a:ext cx="30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3"/>
          <a:stretch/>
        </p:blipFill>
        <p:spPr>
          <a:xfrm>
            <a:off x="388620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448280" y="-30492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пёр, -а, м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узыкант (пианист, баянист и т. п.), игравший за плату на танцевальных вечера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981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псод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нструментальное или вокально – инструментальное произведение на темы народных песен, танцев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тхий, -ая,-о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зрушающийся или пришедший в    негодность от времени, от употребления; обветшалый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3048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Безалаберный, -ая,-ое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. Беспорядочный в своём образе жизни, в своих поступках. 2.Лишенный упорядоченности, последовательности, системност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епутац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здавшееся  общее мнение о достоинствах и недостатках кого –либо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6095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ыск, -а, м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ар., теперь ирон. Потомок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15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629400" y="0"/>
            <a:ext cx="213372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C:\Program Files\Common Files\Microsoft Shared\Clipart\cagcat50\EN00354_.wmf"/>
          <p:cNvPicPr/>
          <p:nvPr/>
        </p:nvPicPr>
        <p:blipFill>
          <a:blip r:embed="rId3"/>
          <a:stretch/>
        </p:blipFill>
        <p:spPr>
          <a:xfrm>
            <a:off x="7467480" y="5899320"/>
            <a:ext cx="122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8" name="Picture 5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5105520" y="1828800"/>
            <a:ext cx="3343320" cy="426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1219320" y="3581280"/>
            <a:ext cx="1842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Ференц Лист и его «Венгерская рапсодия №2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7" descr="C:\Documents and Settings\Пользователь\Мои документы\Куприн\Ф. Лист.jpg"/>
          <p:cNvPicPr/>
          <p:nvPr/>
        </p:nvPicPr>
        <p:blipFill>
          <a:blip r:embed="rId1"/>
          <a:stretch/>
        </p:blipFill>
        <p:spPr>
          <a:xfrm>
            <a:off x="0" y="1447920"/>
            <a:ext cx="3297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Пользователь\Мои документы\анимация и рисунки\разное\1.gif"/>
          <p:cNvPicPr/>
          <p:nvPr/>
        </p:nvPicPr>
        <p:blipFill>
          <a:blip r:embed="rId2"/>
          <a:stretch/>
        </p:blipFill>
        <p:spPr>
          <a:xfrm>
            <a:off x="8305920" y="0"/>
            <a:ext cx="582480" cy="903240"/>
          </a:xfrm>
          <a:prstGeom prst="rect">
            <a:avLst/>
          </a:prstGeom>
          <a:ln w="0">
            <a:noFill/>
          </a:ln>
        </p:spPr>
      </p:pic>
      <p:pic>
        <p:nvPicPr>
          <p:cNvPr id="183" name="Венгерская Рапсодия 02 01 (Фортепиано)[2].mi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4876920" y="1285920"/>
            <a:ext cx="4267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еобходимым элементом музыки является виртуозность… От её дуновения зависит жизнь и смерть доверенного ей художественного произведения… Виртуоз должен быть в той же мере поэтом, как живописец и ваятель, которые тоже как бы передают по-своему природу, как бы поют её с листа по нотам творца»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6809760" y="628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Ф. Лис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6988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16:50Z</dcterms:created>
  <dc:creator>Пользователь</dc:creator>
  <dc:description/>
  <dc:language>en-US</dc:language>
  <cp:lastModifiedBy>школа30</cp:lastModifiedBy>
  <dcterms:modified xsi:type="dcterms:W3CDTF">2011-03-10T12:49:31Z</dcterms:modified>
  <cp:revision>19</cp:revision>
  <dc:subject/>
  <dc:title>Урок - презентация</dc:title>
</cp:coreProperties>
</file>