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AB6-D979-44C9-8967-A5FC2739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C62-76AD-4ACB-9E00-69974EE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882-7F67-48B5-A6C1-B32C217B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315-1176-4DE6-AACD-A18C5BB0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0CB-6051-472A-B456-EC8CCA36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D3CE-AE36-48B6-8611-B704E53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260F-0D83-49B2-9907-0674143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C5B-8705-433D-B402-E1D7AAB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ED5C-5270-4951-94D9-C99B414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51C-67B0-4772-85A0-B765B69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1A69-0CEE-496A-A35B-D24407C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B0F-D575-4A12-B8B1-29A3EA44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4CEE-F99E-4D79-BE25-5EC65D4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F1D4-802E-4F95-B727-0747412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9C1B-3D05-4B60-AE8D-4DD6FB3C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D20-C194-4D35-A0F0-4157055B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5E3D-6309-4F45-B02C-2D318C10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091-C876-4A88-BC38-A8A03E3F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A7E-83B5-49A9-9AD3-6EA9E922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A20-0C93-499A-8984-DB6F9CD6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BCA-A259-4944-8CBB-D9F4CF14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A08-A844-4650-B000-5483323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516-44FF-452F-8B05-A8EA6B1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778-CAD9-40FD-946E-8FCC85A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0DD-4517-4D4E-8EE3-9B6E066DC0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59D7-FE5B-4BE3-BBBB-B4E2576DC9D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Arial"/>
              </a:rPr>
              <a:t>Урок русского языка </a:t>
            </a:r>
            <a:br>
              <a:rPr sz="5100"/>
            </a:br>
            <a:r>
              <a:rPr b="0" lang="en-US" sz="5100" spc="-1" strike="noStrike">
                <a:solidFill>
                  <a:srgbClr val="0000ff"/>
                </a:solidFill>
                <a:latin typeface="Arial"/>
              </a:rPr>
              <a:t>3 класс</a:t>
            </a:r>
            <a:br>
              <a:rPr sz="5100"/>
            </a:br>
            <a:r>
              <a:rPr b="0" lang="en-US" sz="5100" spc="-1" strike="noStrike">
                <a:solidFill>
                  <a:srgbClr val="0000ff"/>
                </a:solidFill>
                <a:latin typeface="Arial"/>
              </a:rPr>
              <a:t>«Школа России» Зеленин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«Емельяновская средняя школа имени М.В.Захаров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Учитель начальных классов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Фролова М.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«Получите карточки и выполните задание, если сможете»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Словарная работ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КАРТОЧК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Замени одним словом, близким по смыслу, где есть непроизносимая согласна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19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« А сейчас, творческое задание.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ужно «пошевелить мозгами»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Разбейтесь на группы. У каждой группы на карточках даны предлож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Замените выделенные слова подходящими по смыслу синонимами с непроизносимыми согласными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«Последнее испытание. Вспомните изученный на уроке материал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8764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0" y="549360"/>
            <a:ext cx="49068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Сегодня я проведу у вас урок. Я предлагаю вам  несколько заданий. Справитесь с ними – отдам вам ваши учебники, не справитесь не видать вам их больше никогда. Ну, что, попутешествуем? Кикимора- непогодушка»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6226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Первое испытани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000" y="1599840"/>
            <a:ext cx="442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  К  Х  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  Д  Т  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З  С  Ц  В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Л  Ф  Ч  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Найдите  в столбике лишнюю букв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1901880"/>
            <a:ext cx="4751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спытание второ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«Я люблю  когда на улице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ненасный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день.  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Сонцэ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не светит.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Ужасна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грусна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кругом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Расшифровать транскрипцию слов  и записать и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2205000"/>
            <a:ext cx="0" cy="503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20500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70828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205000"/>
            <a:ext cx="217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205000"/>
            <a:ext cx="0" cy="43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263700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2205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2205000"/>
            <a:ext cx="73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565360"/>
            <a:ext cx="21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20500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2205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27640" y="256536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411280" y="263700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63700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306864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2708280"/>
            <a:ext cx="21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270828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11280" y="306864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427280" y="2708280"/>
            <a:ext cx="21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270828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270828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270828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011640" y="306864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«со.це», «ненас.ный», «ужас.ный», «грус.ный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Расшифровать транскрипцию слов  и записать и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ывести правило проверки непроизносимой согласн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305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Алгоритм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Произнести слов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Проверь, есть ли в нем непроизносимый согласный зву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Для этого подбери однокоренное проверочное слово, где согласный произносится четко и ясн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Напиши слов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Проверь написание и обозначь орфограмму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«Раз вы такие догадливые  – дам вам небольшую подсказку как их проверить»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Стихотворение-правил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орой в словах встречаютс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Ужасные согласны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Они не произносятся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И что писать не ясно нам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Чтобы знать, как пис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адо слово изменя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И за звуком непонятным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Быстро гласную иск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7510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«А умеете ли вы играть в футбол?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Чтоб ошибок избежать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Зоркость будем развив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В работе проверить можешь сам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Своё внимание к словам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ОБЛЕС…НЫЙ, ЗВЁЗ…НЫЙ, РАДОС…НЫЙ, ИНТЕРЕС…НЫЙ, ПРЕКРАС…НЫЙ,  ОПАС…НЫЙ, ВКУС…НЫЙ, КАПУС…НЫЙ, СЧАС…ЛИВЫЙ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48360" y="3286080"/>
            <a:ext cx="2005200" cy="132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306720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9120" y="358776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0040" y="35258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Д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Поработали отличн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Отдохнуть пора сейчас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И зарядка к нам привычн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на урок приходит в класс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28573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9:39:49Z</dcterms:created>
  <dc:creator>user</dc:creator>
  <dc:description/>
  <dc:language>en-US</dc:language>
  <cp:lastModifiedBy>user</cp:lastModifiedBy>
  <dcterms:modified xsi:type="dcterms:W3CDTF">2012-01-24T20:19:16Z</dcterms:modified>
  <cp:revision>2</cp:revision>
  <dc:subject/>
  <dc:title>Слайд 1</dc:title>
</cp:coreProperties>
</file>