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809-CCD7-4926-96B9-5BD56C78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321-D771-4ABD-8C34-8F28AC29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17D-076A-453E-8DBE-02AAA0E8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96C-9DB4-4F28-B435-A4705C9A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9C23-0D93-4134-8503-57CC24D8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B6D8-2CE7-4749-8933-5B73ACE2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7C00-F3E9-454C-83DB-F29660C9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A080-15C4-42A1-8521-D680DFD6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A8BD-FDE5-49F0-A505-61DC046D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39BD-75C7-45A3-BF9F-A8B3C6EB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954F-709C-4C72-8658-A3694923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34C-281D-4A6D-BC41-E711E7B3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41F4-BCD9-4EA7-A774-F817575C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0B55-05E3-4D05-8B3B-DB59FF4B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B495-C9B5-4A0C-9459-D35D4FF4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6EE0-C675-4211-83DF-FB4D4FDF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30A8-7B0D-44A2-8DD1-A4A211E6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6C3-61D5-4AD8-9AC8-3CBDB64A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BC7-0CE4-48F2-8098-8A4C060C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8A2-4405-419D-8E26-6DB47495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5C39-FE0D-4F91-85B3-9EDDCEA5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28D-1FF5-46AC-9E24-4869E8A3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FA9-69C4-4B7E-8543-42A378A3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1A8-8515-499D-AAE9-25EF2D0E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60F-FF59-4F34-A634-1550C1163A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555C-93F2-4DD4-90DC-7CFDC925214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609480" y="609480"/>
            <a:ext cx="7848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гостях у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мешар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продолжение)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380880" y="914400"/>
            <a:ext cx="84582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неси в поле ту картинку,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торая не соответствует запис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6781680" cy="415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3124080" y="3124080"/>
            <a:ext cx="129564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1143000" y="3124080"/>
            <a:ext cx="990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7543800" cy="4359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295280" y="380988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3276720" y="3886200"/>
            <a:ext cx="15238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304920" y="533520"/>
            <a:ext cx="69339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удесно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Picture 5" descr="f1217b8c2741"/>
          <p:cNvPicPr/>
          <p:nvPr/>
        </p:nvPicPr>
        <p:blipFill>
          <a:blip r:embed="rId1"/>
          <a:stretch/>
        </p:blipFill>
        <p:spPr>
          <a:xfrm>
            <a:off x="5175360" y="3578400"/>
            <a:ext cx="2987640" cy="28461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6"/>
          <p:cNvSpPr txBox="1"/>
          <p:nvPr/>
        </p:nvSpPr>
        <p:spPr>
          <a:xfrm>
            <a:off x="1219320" y="4114800"/>
            <a:ext cx="3047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осяш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4"/>
          <p:cNvSpPr txBox="1"/>
          <p:nvPr/>
        </p:nvSpPr>
        <p:spPr>
          <a:xfrm>
            <a:off x="533520" y="990720"/>
            <a:ext cx="67910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ыстро сосчитай!!!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5" name="WordArt 5" descr=""/>
          <p:cNvPicPr/>
          <p:nvPr/>
        </p:nvPicPr>
        <p:blipFill>
          <a:blip r:embed="rId1"/>
          <a:stretch/>
        </p:blipFill>
        <p:spPr>
          <a:xfrm>
            <a:off x="1060560" y="2816280"/>
            <a:ext cx="6681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77320" cy="42102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7391520" y="3048120"/>
            <a:ext cx="7617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762120" y="2438280"/>
            <a:ext cx="76176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7"/>
          <p:cNvSpPr txBox="1"/>
          <p:nvPr/>
        </p:nvSpPr>
        <p:spPr>
          <a:xfrm>
            <a:off x="4800600" y="3809880"/>
            <a:ext cx="7621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8"/>
          <p:cNvSpPr txBox="1"/>
          <p:nvPr/>
        </p:nvSpPr>
        <p:spPr>
          <a:xfrm>
            <a:off x="1981080" y="571500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всего?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9"/>
          <p:cNvSpPr txBox="1"/>
          <p:nvPr/>
        </p:nvSpPr>
        <p:spPr>
          <a:xfrm>
            <a:off x="6705720" y="5638680"/>
            <a:ext cx="13716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3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380880" y="457200"/>
            <a:ext cx="73915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мниц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Picture 5" descr="f1217b8c2741"/>
          <p:cNvPicPr/>
          <p:nvPr/>
        </p:nvPicPr>
        <p:blipFill>
          <a:blip r:embed="rId1"/>
          <a:stretch/>
        </p:blipFill>
        <p:spPr>
          <a:xfrm>
            <a:off x="5784840" y="3121200"/>
            <a:ext cx="2805120" cy="313344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3352680" y="259092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вунь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5" name="Picture 7" descr="f1217b8c2741"/>
          <p:cNvPicPr/>
          <p:nvPr/>
        </p:nvPicPr>
        <p:blipFill>
          <a:blip r:embed="rId2"/>
          <a:stretch/>
        </p:blipFill>
        <p:spPr>
          <a:xfrm>
            <a:off x="2889360" y="3956040"/>
            <a:ext cx="2431800" cy="27558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8"/>
          <p:cNvSpPr txBox="1"/>
          <p:nvPr/>
        </p:nvSpPr>
        <p:spPr>
          <a:xfrm>
            <a:off x="228600" y="4343400"/>
            <a:ext cx="2533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 - Карыч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 rot="21288600">
            <a:off x="304920" y="2036520"/>
            <a:ext cx="80769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71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 герои вместе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71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9T18:08:1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