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E0C-096F-4BEB-B3BC-966CD3A2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568-45D0-473A-A511-037FEB9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74E-E65F-48E9-89F0-F216DCED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034-4F31-4FF9-A0B5-73E2DD6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9A2A-3974-4942-9D0C-DB047F1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F9F7-CD45-4E1A-A41C-FFAC957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14A2-B7A5-4ED9-9B61-44E62D11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09D8-8539-482E-AE1F-2DF02B8D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D8F6-99D2-402D-9556-0CD4858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7F3-A896-4270-94B3-1CD16ED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8740-4EE3-42A0-88E5-1178CDA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4C4-3B1F-425C-8B01-EEB703D9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C1DC-40F1-41B5-BA21-8E87B02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0CB-45CD-4875-9D37-8B35D49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3A86-F61F-41F6-998A-3DCF67F8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690A-A31C-4E7E-BDAD-9174F633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2463-EC79-4BDB-AD44-0A3DDCCC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2E5-4A5A-4A07-8370-E9C1F51D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C72-AF29-4767-AB18-34156A8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A3C-611A-4F43-BF98-E268861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AA2-07A1-46E9-B0CC-51B3EB9E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EBA-BAD7-4976-96B9-10D6F22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C4A-E347-4868-8E9D-2E1A4F7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3CE-667E-4621-80D2-03C0C32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F32-7E61-4C7F-A54A-4BE01F963B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D9C-9DEF-402E-93CA-60373E2CB87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есна на картинах русских художников и в стихах русских поэ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Чиста небесная лазурь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Теплей и ярче солнце стало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ора метелей злых и бур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пять надолго миновал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уинджи Архип. «Ранняя весн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kuind_78"/>
          <p:cNvPicPr/>
          <p:nvPr/>
        </p:nvPicPr>
        <p:blipFill>
          <a:blip r:embed="rId1"/>
          <a:stretch/>
        </p:blipFill>
        <p:spPr>
          <a:xfrm>
            <a:off x="3348000" y="1557360"/>
            <a:ext cx="51944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есна, весн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ак воздух чист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ак ясен небосклон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воей лазурею жив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лепит мне очи о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онстантин Юон. «Мартовское солнце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martovskoe_soln_e"/>
          <p:cNvPicPr/>
          <p:nvPr/>
        </p:nvPicPr>
        <p:blipFill>
          <a:blip r:embed="rId1"/>
          <a:stretch/>
        </p:blipFill>
        <p:spPr>
          <a:xfrm>
            <a:off x="3059280" y="1125360"/>
            <a:ext cx="48592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сна, весна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 высоко на крыльях ветерк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саясь солнечных лучей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тают обла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аак Левитан. «Весна – большая вод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027"/>
          <p:cNvPicPr/>
          <p:nvPr/>
        </p:nvPicPr>
        <p:blipFill>
          <a:blip r:embed="rId1"/>
          <a:stretch/>
        </p:blipFill>
        <p:spPr>
          <a:xfrm>
            <a:off x="3564000" y="1052640"/>
            <a:ext cx="521172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коро гости к тебе соберутся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колько гнезд понавьют, посмотр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Что за крики, за песни польются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ень деньской от зари до зар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ексей Саврасов. «Грачи прилетели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45~4"/>
          <p:cNvPicPr/>
          <p:nvPr/>
        </p:nvPicPr>
        <p:blipFill>
          <a:blip r:embed="rId1"/>
          <a:stretch/>
        </p:blipFill>
        <p:spPr>
          <a:xfrm>
            <a:off x="4284720" y="404640"/>
            <a:ext cx="446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ж тает снег, бегут ручь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окно повеяло весною..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Засвищут скоро соловь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 лес оденется листвою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асилий Бакшеев. «Голубая весн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080813142857"/>
          <p:cNvPicPr/>
          <p:nvPr/>
        </p:nvPicPr>
        <p:blipFill>
          <a:blip r:embed="rId1"/>
          <a:stretch/>
        </p:blipFill>
        <p:spPr>
          <a:xfrm>
            <a:off x="3276720" y="981000"/>
            <a:ext cx="586728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орис Кустодиев. «Весн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се лица весело глядят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"Весна!"- читаешь в каждом взоре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 тот, как празднику, ей рад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Чья жизнь - лишь тяжкий труд и гор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kustod_242"/>
          <p:cNvPicPr/>
          <p:nvPr/>
        </p:nvPicPr>
        <p:blipFill>
          <a:blip r:embed="rId1"/>
          <a:stretch/>
        </p:blipFill>
        <p:spPr>
          <a:xfrm>
            <a:off x="3851280" y="2708280"/>
            <a:ext cx="4968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4:49:44Z</dcterms:created>
  <dc:creator>BLACK</dc:creator>
  <dc:description/>
  <dc:language>en-US</dc:language>
  <cp:lastModifiedBy>USER</cp:lastModifiedBy>
  <dcterms:modified xsi:type="dcterms:W3CDTF">2011-04-26T23:04:03Z</dcterms:modified>
  <cp:revision>3</cp:revision>
  <dc:subject/>
  <dc:title>    </dc:title>
</cp:coreProperties>
</file>