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5FA-7391-4777-8093-C956523426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087-4CAF-405B-B891-2934D1BF8F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D4B-6408-4415-ACB8-223802D4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5C5-0736-4A34-8958-A24E863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D23-8AE7-406A-BA1A-D0B07A25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4D8-FC05-46BE-B1D8-37545F66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643-AEF9-4412-A353-270C10EE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DBC5-AA15-472C-A3C8-105E8CA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1C2E-6188-4421-98DD-30CABE7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0F3F-7071-497E-9979-3F3D7329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CA31-DFD9-4552-A35B-690DCE0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4A9B-4FFB-45CF-ACAA-F3ED9D24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F66D-5C7E-473B-99E8-75164A1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AC4-E15E-4D5C-B552-C154931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76F-9770-4402-BD31-4A99FC1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CAD-F370-4C91-821F-CD04829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8D8D-B44F-49FD-B6D4-9C9FF2E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12A8-40AB-4C73-8694-1C71768F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A7DA-559C-4975-AD38-8365BB4B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63EC-4A3D-46F5-B371-8B9B6446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24B9-EC21-4072-8DFE-597ABB6B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2C18-BC35-4478-A610-97AA8CC9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B130-AAEC-49BD-A180-85D3A9FE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0914-2A5E-4A51-9165-946D067B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9E9-0CC0-41AE-915F-8701613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7F4A-352B-4435-A5E8-7732EA4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DC9B-5950-4367-B5D2-9ED6E11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7993-57C2-4A92-B318-0D9FBC3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0BB3-9737-4EEA-ACA1-ECA992A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8D92-7546-4477-8DDE-6E61AB4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AD6D-8863-434A-9595-2553A1AB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410B-D59F-467E-8F4E-3D01E530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3083-C04D-40EE-AAF1-476E8C0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11ED-AE69-4991-A943-C170B1F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F6F7-6E55-472B-92F5-4CD7D55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2D9-E3B3-4CB4-ABA4-631DBB3B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6B4D-981F-48D1-A7BA-B107F09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F6C6-EFBB-48A5-BDB6-FFE7A03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4FC4-79A6-4261-A402-B7C395A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CD3E-8AC8-4C98-A190-B23A025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9925-6D1E-4240-8B99-A86F39F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981D-4254-44B4-9ADE-E1D13C6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CEB8-C0A4-4FAB-B612-C3B9E32C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F5F7-20B1-4E69-AB11-86B129F2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8B94-03DF-4029-979C-0AEE4507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EA9-D5B9-41BB-98A7-9B9674C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CAE-2543-48B2-9E7E-BAB1A28B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114-4CF9-42A6-A749-CD01D28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A01-2818-40DA-8CC6-4E034E2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11F-225A-4CFB-BD84-E66A8363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34E8-19A2-450B-A0F6-3D1C39C896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BFFC-AE5C-4100-B945-532677E8B52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56F1-F43F-46A9-A554-DB7E31B6EC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9AA-40BF-487F-80B9-D890566C12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107000"/>
            <a:ext cx="7851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1412640"/>
            <a:ext cx="78548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МОУ ЛИЦЕЙ №37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льза и вред жесткой/мягкой во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 жизни челове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Выполнила работу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ученица 2 класса «А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ИНКИНА ОЛЬГ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Руководител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ШАЛИМОВА Н.М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Цель работ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полезных и вредных свойств такого показателя качества воды как жесткость и его влияние на жизнь челове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800" spc="-1" strike="noStrike">
                <a:solidFill>
                  <a:srgbClr val="04617b"/>
                </a:solidFill>
                <a:latin typeface="Arial"/>
                <a:ea typeface="Arial"/>
              </a:rPr>
              <a:t>Показатели качества воды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да имеет свои показатели качества. Эти показатели можно разделить на три группы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, содержание взвешенных веществ, цветность, запах, вкус и др.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жесткость, щелочность, активная реакция, окисляемость, сухой остаток и др.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иологические и бактериологическ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общее количество бактерий, коли-индекс и др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Виды жесткости в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следующие виды жесткости вод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рбонатную (временную, т.е. устранимая)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арбонатную (постоянную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щу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Отрицательные свойства жесткой в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ходуется в 2 раза больше моющих средст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жесткая вода, взаимодействуя с мылом, образует «мыльные шлаки», которые не смываются водой и оставляют разводы на посуде и поверхности сантехни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«мыльные шлаки» забивают поры, что может стать причиной появления сыпи, раздражения, зу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нагревании содержащиеся в воде соли жесткости кристаллизуются, выпадая в виде накип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дляется процесс приготовления пищ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ыстрый износ водонагревательной техн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Опыты с водо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D:\Документы\Desktop\вода\фото 1.jpg"/>
          <p:cNvPicPr/>
          <p:nvPr/>
        </p:nvPicPr>
        <p:blipFill>
          <a:blip r:embed="rId2"/>
          <a:stretch/>
        </p:blipFill>
        <p:spPr>
          <a:xfrm>
            <a:off x="900000" y="213372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D:\Документы\Desktop\вода\фото 9.jpg"/>
          <p:cNvPicPr/>
          <p:nvPr/>
        </p:nvPicPr>
        <p:blipFill>
          <a:blip r:embed="rId3"/>
          <a:stretch/>
        </p:blipFill>
        <p:spPr>
          <a:xfrm>
            <a:off x="4067280" y="1916280"/>
            <a:ext cx="4897440" cy="41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D:\Документы\Desktop\вода\фото 6.jpg"/>
          <p:cNvPicPr/>
          <p:nvPr/>
        </p:nvPicPr>
        <p:blipFill>
          <a:blip r:embed="rId4"/>
          <a:stretch/>
        </p:blipFill>
        <p:spPr>
          <a:xfrm>
            <a:off x="900000" y="4365720"/>
            <a:ext cx="2625840" cy="2030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476000" y="1844640"/>
            <a:ext cx="766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560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Отрицательное влияние жесткой воды на организм челове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2997000"/>
            <a:ext cx="8229600" cy="35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зни сердечно - сосудистой систем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моторики желудка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болевания суставов (артриты и полиартриты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е камней в почках, желчном и мочевом пузыр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Отрицательное влияние мягкой воды на организм челове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36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ымывает из костей кальц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Ломкость костей у взрослого челове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Риск развития рахита у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ымывает минеральные вещества и полезные бактер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526752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мы хотим заботиться о своем здоровье, мы должны больше знать о таком качестве воды, как жесткость, о способах изменения жесткости воды. В настоящее время ведутся научные разработки  и идет поиск удешевления процесса «смягчения» или увеличения жесткости воды. Но в домашних условиях мы можем и сами немного помочь себе и своему орган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1:09:43Z</dcterms:created>
  <dc:creator>Михаил</dc:creator>
  <dc:description/>
  <dc:language>en-US</dc:language>
  <cp:lastModifiedBy>Лена</cp:lastModifiedBy>
  <dcterms:modified xsi:type="dcterms:W3CDTF">2012-02-09T15:43:02Z</dcterms:modified>
  <cp:revision>21</cp:revision>
  <dc:subject/>
  <dc:title>Слайд 1</dc:title>
</cp:coreProperties>
</file>