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B38-CDD7-4151-BD06-0708565C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6E7-6480-4B41-B274-C5B86B79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CE9-AD82-4ECF-9A64-0F9DB40F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10A-E6F3-46AA-BDA4-3A8CAFB3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1FF5-E914-4496-89FE-22B85DE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A59B-5A5B-4580-AFD8-441B0CD9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129-2644-4F2B-9917-693288B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4B0B-5744-456F-B30A-BE2B025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412F-9214-44BF-A759-7C54CA7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6CC8-E6EC-4032-ACC2-F4593B06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1C64-8022-4D0B-B8DD-63764CC1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E33-348F-4221-AC99-E2CACB8B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26A3-49E4-4A47-9B31-26397A8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827-E9E9-4C76-8CB1-FFC3D8E5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4C8-134A-45DE-AACA-2D2AC72C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8561-A92C-48E8-AA0C-D86CE85D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4BD9-7726-4C76-A120-DFF239EC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1D58-3DBC-4987-8C9B-07F66999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5176-0FBF-406C-92A9-29146DDE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F6DA-D3CA-4FA3-B3D4-CDFCEC7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D855-D911-4353-B1EF-0870605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EE99-BD1A-43FD-98B4-3CCDCC36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8C7-92F1-42F2-BA1B-C62A7DE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74A5-8E54-4242-8EB1-8235AB2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DFAD-9704-4D58-B894-7179B31D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3F35-CBD7-4160-9BF8-40706C9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0F47-6E23-4241-8960-1C6B870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683B-B279-4AAD-8758-32CCD59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16E2-3179-49FF-881B-01488D44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F06C-6682-4B85-B4CB-C0FFCA4F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6E6C-BB2A-4EC6-B1FC-45A6CDDE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0FBB-7BF0-49D7-B56D-1664B7D3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5DF3-0471-4086-A2CF-21E9C41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5DA-6F98-4083-A3F4-D0C415AF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BC4B-FE64-4CBF-9751-64305B0F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413D-139C-4C61-97BE-0C676D1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549D-F7D6-40DE-BC0C-82DB923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93BF-8DAA-417E-9101-AA66A81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9989-3F97-47B1-A2A1-4D866B0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5D8C-B0C1-496C-82F8-BE51703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7884-0B6D-4895-8A95-4540CC9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D5E8-D022-498B-9A1D-5696C63E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AEA1-FE94-48FA-9250-B42F0F3F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008F-037A-4CD2-8355-17D3940B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3B2-4723-477C-AE86-7DD44F3E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D03C-BB1A-4AD5-9417-AED3FC7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A167-A5BA-4206-99AC-1C245535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D4F8-62F2-41C6-BC37-02320C4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6FE2-F7B4-438C-9563-E534899A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48A5-7D41-416D-BD46-B9C2BBE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D91B-B2FD-4378-A7E4-2CEC0A6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9BBCD-EBEE-4772-B239-A03D6AE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50292-EF7B-481B-BCBE-8DC3EF9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03CCC-F485-426D-A2AC-4B61B7E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53AD-8D3A-4F02-BC37-160A0C04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7E5-ECC5-4E32-98DB-96E645A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45DEF-768F-4889-9D8F-098CB4E6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06F7-0E64-4622-8700-90068FC9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18A5-A76B-4A73-8E7D-47DF8DE9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BEF1-8D70-4455-80FF-FF90D1EF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8639-9804-410A-83CD-519967B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623B3-E6A5-42BC-9CB7-C01F7695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06C88-4DC9-452D-982E-89DDF9D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10D7-D566-445A-83F2-B05676D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9760-507F-4FA6-9FEC-7E1DEAA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9774B-F40E-4730-B8BD-5FA96B9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9BF-1000-4ED0-ADC7-DF25748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D71D-DAEB-4A4A-BBB3-DDD972CA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F6431-4C23-4F81-955C-03E5B183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C07D-F017-43CB-96A8-C811199F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E3FC-F900-4DFD-A308-A1D3F1D7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7BA3-8620-4D9B-B239-E111212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2BB7-5E99-449B-842F-2B89572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9568-E87C-4796-8065-36EA65CD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4AE06-598E-47D9-82F5-8E404F1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711E-B7B1-4B52-B88A-ACDE0A2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999F-B77C-4C51-9864-59D832D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CD9-5121-42FC-BC86-5B4A8AA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18FE-F51B-4857-9458-7D8DA65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8E246-B07A-452A-9468-07D27C6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5649C-5ACF-4C32-B794-C4A3E2D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31ADC-D5A6-4495-8485-8FB91CD2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005A-9F8C-4783-B90F-4BF6C34D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E8DB4-674D-47FD-ABF7-F5B7E59F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91816-E98C-41AA-BD06-DA316BD5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EC63-C694-497F-8125-057AFDA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ED82-BE2B-4859-BDD6-D9930D87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1407-64AD-4911-83F4-59898016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985-F9FD-486A-BF96-E6E014BF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7C76-D57A-40CA-ACE5-5C331B12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89806-B70E-4803-90CD-A7E5CE8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64CA-53ED-44F5-B5E7-CEA33FE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4252-C05C-4179-8074-0C2E868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7112-4505-4E93-A21F-46919121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FF2D0-A1A0-42CE-8F2F-576422AB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863B-DE41-4A5F-A281-E1CDAA13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A02-D967-48F6-907B-C9DEB426DE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86C-B5F4-4071-BAA0-ED9E3305BC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55C-955E-4899-B1B4-E5332FB3AC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25C-881B-45A0-8E4A-85D26995CC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2A9-150A-4534-A33C-08548C0955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F4C-5BA2-4490-B3EF-4ABB6D954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8D4-5F70-44F4-8DAE-F8FC108D70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6DB-7017-486A-8D02-B7D0CE4D5E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-main-pic" descr="Картинка 33 из 1704821"/>
          <p:cNvPicPr/>
          <p:nvPr/>
        </p:nvPicPr>
        <p:blipFill>
          <a:blip r:embed="rId1"/>
          <a:stretch/>
        </p:blipFill>
        <p:spPr>
          <a:xfrm>
            <a:off x="6553080" y="1751040"/>
            <a:ext cx="2133720" cy="23972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1"/>
          <p:cNvSpPr/>
          <p:nvPr/>
        </p:nvSpPr>
        <p:spPr>
          <a:xfrm>
            <a:off x="228600" y="762120"/>
            <a:ext cx="5791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Bookman Old Style"/>
              </a:rPr>
              <a:t>Всегда ли правы взрослы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Маша получила отметку «2» по математике. Пришла из школы и стала просить маму отпустить её гулять. Мама сказала Маше, что гулять она сегодня не пойд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Картинка 58 из 152478"/>
          <p:cNvPicPr/>
          <p:nvPr/>
        </p:nvPicPr>
        <p:blipFill>
          <a:blip r:embed="rId2"/>
          <a:stretch/>
        </p:blipFill>
        <p:spPr>
          <a:xfrm>
            <a:off x="7467480" y="4788000"/>
            <a:ext cx="13716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Bookman Old Style"/>
              </a:rPr>
              <a:t>Миша попросил у папы купить наушники для компьютера. Папа сказал, что после празднования Нового года, в семье остались деньги только на продукты. Со следующей зарплаты  они с мамой постараются купить наушники. Миша обиделся и не помог маме вытереть пыль</a:t>
            </a:r>
            <a:r>
              <a:rPr b="0" lang="ru-RU" sz="2700" spc="-1" strike="noStrike">
                <a:solidFill>
                  <a:srgbClr val="3333cc"/>
                </a:solidFill>
                <a:latin typeface="Bookman Old Styl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i-main-pic" descr="Картинка 30 из 1704821"/>
          <p:cNvPicPr/>
          <p:nvPr/>
        </p:nvPicPr>
        <p:blipFill>
          <a:blip r:embed="rId2"/>
          <a:stretch/>
        </p:blipFill>
        <p:spPr>
          <a:xfrm>
            <a:off x="152280" y="457200"/>
            <a:ext cx="12956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4040280" cy="28195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а что а клад, коли в семье ла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44720" y="3352680"/>
            <a:ext cx="4041720" cy="28195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ся семья вместе, так и душа на мест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444320"/>
            <a:ext cx="40402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Bookman Old Style"/>
              </a:rPr>
              <a:t>Взрослые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Bookman Old Style"/>
              </a:rPr>
              <a:t>В, на, и, что, лад, клад, семье, коли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4720" y="1444680"/>
            <a:ext cx="404172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Дети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man Old Style"/>
              </a:rPr>
              <a:t>На, и, так, вся, душа, семья, месте, вмест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63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6840" y="3962520"/>
            <a:ext cx="4040280" cy="22096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Вместе точно, а врозь скучно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1640" y="3962520"/>
            <a:ext cx="4419720" cy="22096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Любовь да совет – так и горя не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444320"/>
            <a:ext cx="404028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Bookman Old Style"/>
              </a:rPr>
              <a:t>Взрослые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man Old Style"/>
              </a:rPr>
              <a:t>Тошно, скучно, а, вместе, врозь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4720" y="1444680"/>
            <a:ext cx="404172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Bookman Old Style"/>
              </a:rPr>
              <a:t>Дети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man Old Style"/>
              </a:rPr>
              <a:t>И, так, да, нет, горя, совет, любовь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27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взаимопонимание;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доверие;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Комфорт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reading-teacher-color"/>
          <p:cNvPicPr/>
          <p:nvPr/>
        </p:nvPicPr>
        <p:blipFill>
          <a:blip r:embed="rId2"/>
          <a:stretch/>
        </p:blipFill>
        <p:spPr>
          <a:xfrm>
            <a:off x="5950080" y="2944800"/>
            <a:ext cx="2498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ссоры;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конфликты;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ложь;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Bookman Old Style"/>
              </a:rPr>
              <a:t>лень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573200"/>
          </a:xfrm>
          <a:prstGeom prst="rect">
            <a:avLst/>
          </a:prstGeom>
          <a:ln w="0">
            <a:noFill/>
          </a:ln>
        </p:spPr>
      </p:pic>
      <p:pic>
        <p:nvPicPr>
          <p:cNvPr id="393" name="i-main-pic" descr="Картинка 69 из 1704821"/>
          <p:cNvPicPr/>
          <p:nvPr/>
        </p:nvPicPr>
        <p:blipFill>
          <a:blip r:embed="rId2"/>
          <a:stretch/>
        </p:blipFill>
        <p:spPr>
          <a:xfrm>
            <a:off x="5562720" y="3352680"/>
            <a:ext cx="2643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хема 6" descr=""/>
          <p:cNvPicPr/>
          <p:nvPr/>
        </p:nvPicPr>
        <p:blipFill>
          <a:blip r:embed="rId1"/>
          <a:stretch/>
        </p:blipFill>
        <p:spPr>
          <a:xfrm>
            <a:off x="285840" y="231840"/>
            <a:ext cx="827244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457200" y="1143000"/>
            <a:ext cx="82296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latin typeface="Bookman Old Style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0000"/>
              </a:solidFill>
              <a:latin typeface="Bookman Old Style"/>
              <a:ea typeface="Bookman Old Style"/>
            </a:endParaRPr>
          </a:p>
        </p:txBody>
      </p:sp>
      <p:pic>
        <p:nvPicPr>
          <p:cNvPr id="396" name="i-tmb-0x" descr="http://im0-tub.yandex.net/i?id=102477022&amp;tov=0"/>
          <p:cNvPicPr/>
          <p:nvPr/>
        </p:nvPicPr>
        <p:blipFill>
          <a:blip r:embed="rId1"/>
          <a:stretch/>
        </p:blipFill>
        <p:spPr>
          <a:xfrm>
            <a:off x="2871720" y="4632480"/>
            <a:ext cx="14875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2-01-24T09:38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