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CF6-B7A1-4A76-9650-B4D3C660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30D-F513-4ED6-AD3A-0CAF9ED6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B98-E9ED-4FBE-AF9A-5FC4495B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856-C74E-4412-B34F-83BB17FD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276-6CC3-43BA-A525-FB247CAC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283-3136-405C-AECC-39180F76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019-6A00-4B0D-B4A8-62BCCC3B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CC26-3B76-409E-98BB-A44E44A2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C5C9-82C9-40F0-A2C0-A37A0DEE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7098-668C-46C2-B15F-D478A25C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8C4-63E4-4C99-8FD2-144D10FE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BCB-46C4-4034-BF9D-750A6C91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CA8C-CAFE-4930-9432-5EB8AFD14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zoopicture.ru/borodataya-gazel-tomsona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нимательный урок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В мире животных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14240" y="178596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на Викторовна и Асновин Иван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5" descr="i[85].jpg"/>
          <p:cNvPicPr/>
          <p:nvPr/>
        </p:nvPicPr>
        <p:blipFill>
          <a:blip r:embed="rId1"/>
          <a:stretch/>
        </p:blipFill>
        <p:spPr>
          <a:xfrm>
            <a:off x="3017880" y="2657520"/>
            <a:ext cx="204768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214200" y="6688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Учитель: А сейчас мы оказались в Афр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Африка – огромный континент. Здесь протекает самая длинная река в мире – Нил и находится самая большая пустыня – Саха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В Африке нет привычных для нас зимы и лета, осени и ве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Загад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1. Страшен гривы этой гн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Царь зверей, конечно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2. Ходит важно, словно 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С длинной шеей наш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3. В джунглях качели – это лиа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Любят качаться на них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4. Через зарослей зас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Шел по джунглям толсты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2808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А теперь поговорим о </a:t>
            </a:r>
            <a:r>
              <a:rPr b="1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тропических лесах</a:t>
            </a:r>
            <a:r>
              <a:rPr b="0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В Южной и Восточной Азии постоянно дуют влажные ветры с океана – пассаты и муссоны, поэтому там особенно влажно и растут многоярусные заболоченные леса. Это область тропического поя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Пальмы, акации, гигантский бамбук и другие тропические растения, нередко густо переплетенные лианами, почти непроходи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Это и есть знаменитые джунгли, в которых рос герой Киплинга Мауг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Определи, кто лишн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2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орангутан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2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ланг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2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носа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2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гавиа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2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гибб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(Гавиал – крокодил, остальные – обезьяны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Кого называют бамбуковым медвед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2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гималайского медвед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2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бурого медвед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2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большую пан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2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c30"/>
                </a:solidFill>
                <a:latin typeface="Arial"/>
                <a:ea typeface="Times New Roman"/>
              </a:rPr>
              <a:t>белого медвед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ородатая газель Томс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4" descr="67458585[1].jpg"/>
          <p:cNvPicPr/>
          <p:nvPr/>
        </p:nvPicPr>
        <p:blipFill>
          <a:blip r:embed="rId2"/>
          <a:stretch/>
        </p:blipFill>
        <p:spPr>
          <a:xfrm>
            <a:off x="5857920" y="3000240"/>
            <a:ext cx="571320" cy="1071720"/>
          </a:xfrm>
          <a:prstGeom prst="rect">
            <a:avLst/>
          </a:prstGeom>
          <a:ln w="76320">
            <a:solidFill>
              <a:srgbClr val="ac0000"/>
            </a:solidFill>
            <a:miter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от такую вот необычную газель Томсона умудрился заснять фотограф Пауло Торчио. Фотография была сделана Кении, заповедник Масай Мара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корее всего, эта необычная для этого вида борода появилась в результате какого то генетического дефект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34200"/>
            <a:ext cx="9144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Знаете ли вы, чт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Белый медведь, умываясь, может набирать в лапы снег и протирать им глаза и около ушей.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Белая медведица спит на боку, прижимая медвежонка лапой к своей мохнатой груди.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Мышь ложится спать на своих мышат, накрыв их собой, как одеялом, чтобы они не замерзли.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Самка снежного барса, когда спит, прижимает малыша к себе и закрывает его хвостом, чтобы ему было тепло.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Волк вытаскивает из лапы занозу зубами, а если заболевает, лечится голодом и лекарственными травами.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Заяц не потеет, а в жару сбрасывает лишнее тепло через длинные тонкие уши, в которых множество кровеносных сосудов.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У лисиц в основании хвоста есть небольшая проплешина. Отдыхая и свернувшись клубочком, лисицы часто утыкаются туда носом. Там у них расположена железа, источающая запах фиалки. Фиалковая железа есть и у лиса, и у лисицы, и особенно ароматна она зимой. А для чего она нужна лисицам, ученые пока точно не знают.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Калан (морская выдра) пользуется камнем как наковальней. Перевернется на спину, положит камень на грудь и, крепко зажав в лапах ракушку, с силой ударяет ею по камню. Разобьет – и съест содержимое.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Многие птицы преподносят подругам подарки: жених крачки дарит невесте рыбу, чомга и северная олуша – обрывки водорослей, цапля – палки.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Лис приносит лисичке, ожидающей потомство, корм и заботится о ее чистоте: вытаскивает блох из меха.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Верблюд может подолгу обходиться без воды, но зато потом за один раз выпивает сразу несколько ведер.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Индийский носорог, погружаясь в воду, спасается от слепней и оводов, которые откладывают в складках его кожи яйца.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Родственница большой панды – малая панда. Она втягивает когти и умывается, как кошка, взбирается на деревья, как медведь, и передвигается вприпрыжку, как енот.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Индийский слон меньше африканского, и уши у него не такие большие, но зато он менее агрессивен, очень сообразителен и легко приручается.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100_9419[1].jpg"/>
          <p:cNvPicPr/>
          <p:nvPr/>
        </p:nvPicPr>
        <p:blipFill>
          <a:blip r:embed="rId1"/>
          <a:stretch/>
        </p:blipFill>
        <p:spPr>
          <a:xfrm>
            <a:off x="3773520" y="774720"/>
            <a:ext cx="1152360" cy="1030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5" descr="4634748[1].jpg"/>
          <p:cNvPicPr/>
          <p:nvPr/>
        </p:nvPicPr>
        <p:blipFill>
          <a:blip r:embed="rId2"/>
          <a:stretch/>
        </p:blipFill>
        <p:spPr>
          <a:xfrm>
            <a:off x="5772240" y="341280"/>
            <a:ext cx="890640" cy="749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6" descr="67458585[1].jpg"/>
          <p:cNvPicPr/>
          <p:nvPr/>
        </p:nvPicPr>
        <p:blipFill>
          <a:blip r:embed="rId3"/>
          <a:stretch/>
        </p:blipFill>
        <p:spPr>
          <a:xfrm>
            <a:off x="7632720" y="1987560"/>
            <a:ext cx="700200" cy="816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7" descr="198609134_b2b8da2dcb[1].jpg"/>
          <p:cNvPicPr/>
          <p:nvPr/>
        </p:nvPicPr>
        <p:blipFill>
          <a:blip r:embed="rId4"/>
          <a:stretch/>
        </p:blipFill>
        <p:spPr>
          <a:xfrm>
            <a:off x="1700280" y="554040"/>
            <a:ext cx="1201680" cy="896760"/>
          </a:xfrm>
          <a:prstGeom prst="rect">
            <a:avLst/>
          </a:prstGeom>
          <a:ln w="0">
            <a:noFill/>
          </a:ln>
        </p:spPr>
      </p:pic>
      <p:sp>
        <p:nvSpPr>
          <p:cNvPr id="74" name="Овал 18"/>
          <p:cNvSpPr/>
          <p:nvPr/>
        </p:nvSpPr>
        <p:spPr>
          <a:xfrm>
            <a:off x="2571840" y="2000160"/>
            <a:ext cx="4000320" cy="2071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3071880" y="27147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cc"/>
                </a:solidFill>
                <a:latin typeface="Arial"/>
              </a:rPr>
              <a:t>Спасибо за внимание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0" descr="789569690[1].jpg"/>
          <p:cNvPicPr/>
          <p:nvPr/>
        </p:nvPicPr>
        <p:blipFill>
          <a:blip r:embed="rId5"/>
          <a:stretch/>
        </p:blipFill>
        <p:spPr>
          <a:xfrm>
            <a:off x="774720" y="2914560"/>
            <a:ext cx="743040" cy="9622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1" descr="3106209599_3af859d646[1].jpg"/>
          <p:cNvPicPr/>
          <p:nvPr/>
        </p:nvPicPr>
        <p:blipFill>
          <a:blip r:embed="rId6"/>
          <a:stretch/>
        </p:blipFill>
        <p:spPr>
          <a:xfrm>
            <a:off x="1274760" y="5059440"/>
            <a:ext cx="1103400" cy="11034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2" descr="4518090687_76fa16da41[1].jpg"/>
          <p:cNvPicPr/>
          <p:nvPr/>
        </p:nvPicPr>
        <p:blipFill>
          <a:blip r:embed="rId7"/>
          <a:stretch/>
        </p:blipFill>
        <p:spPr>
          <a:xfrm>
            <a:off x="4059360" y="5486400"/>
            <a:ext cx="1055520" cy="963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4" descr="5057557233_24efd454ae_b[1].jpg"/>
          <p:cNvPicPr/>
          <p:nvPr/>
        </p:nvPicPr>
        <p:blipFill>
          <a:blip r:embed="rId8"/>
          <a:stretch/>
        </p:blipFill>
        <p:spPr>
          <a:xfrm>
            <a:off x="8132760" y="3846600"/>
            <a:ext cx="816120" cy="8906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5" descr="hemeroplanes_00[1].jpg"/>
          <p:cNvPicPr/>
          <p:nvPr/>
        </p:nvPicPr>
        <p:blipFill>
          <a:blip r:embed="rId9"/>
          <a:stretch/>
        </p:blipFill>
        <p:spPr>
          <a:xfrm>
            <a:off x="6913440" y="5486400"/>
            <a:ext cx="919440" cy="890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2" descr="376.JPG"/>
          <p:cNvPicPr/>
          <p:nvPr/>
        </p:nvPicPr>
        <p:blipFill>
          <a:blip r:embed="rId10"/>
          <a:stretch/>
        </p:blipFill>
        <p:spPr>
          <a:xfrm>
            <a:off x="4059360" y="3627360"/>
            <a:ext cx="817560" cy="10368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3" descr="179.JPG"/>
          <p:cNvPicPr/>
          <p:nvPr/>
        </p:nvPicPr>
        <p:blipFill>
          <a:blip r:embed="rId11"/>
          <a:stretch/>
        </p:blipFill>
        <p:spPr>
          <a:xfrm>
            <a:off x="3273480" y="3413160"/>
            <a:ext cx="8906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500040" y="428760"/>
            <a:ext cx="82152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cc"/>
                </a:solidFill>
                <a:latin typeface="Arial"/>
              </a:rPr>
              <a:t>Сегодня вы отправитесь в путешествие по планете Земля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будете вести наблюдение за животными и птицами, отвечать на мои вопросы и выполнять 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ешествие на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йчас мы находим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территории Евраз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вразии расположена самая большая страна – </a:t>
            </a:r>
            <a:r>
              <a:rPr b="1" lang="ru-RU" sz="1800" spc="-1" strike="noStrike">
                <a:solidFill>
                  <a:srgbClr val="258ccb"/>
                </a:solidFill>
                <a:latin typeface="Arial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ри и птицы, рыбы и насекомые, черви и пауки – у каждого свое, отведенное ему природой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х вы знаете животных и птиц, обитающих на этой территории?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1. Пастуху нужна двуствол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Напугать чтоб злог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(волка)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2. Будет сильно тот реве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Кому встрети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(медведь)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3. Что случилось? Что стрясло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На опушку выше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(лось)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4. Ищет ягель целый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 тундре северны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(олень)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0" y="-4968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Определите животное по описан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Зимой белый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на снегу его не заметить. Летом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бурый, лишь брюхо белое.</a:t>
            </a:r>
            <a:r>
              <a:rPr b="1" i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Дикий вид этого животного сохранился только в Монголии, в самых глухих уголках кустарниковых пустынь. Зимует в горах: спасается от холодных ветров. Кормится колючими кустарниками, молодыми побегами саксаула. Может подолгу не есть и не пить. Пищу и воду запасает в виде жира "впрок" в горб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Хоть и хищница, но не отказывается от фруктов и ягод, а в голодный год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и от падали. Знаменитая участница большинства детских ска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__DSC8946"/>
          <p:cNvPicPr/>
          <p:nvPr/>
        </p:nvPicPr>
        <p:blipFill>
          <a:blip r:embed="rId1"/>
          <a:stretch/>
        </p:blipFill>
        <p:spPr>
          <a:xfrm>
            <a:off x="3786120" y="2428920"/>
            <a:ext cx="2571840" cy="242892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sp>
        <p:nvSpPr>
          <p:cNvPr id="49" name="TextBox 5"/>
          <p:cNvSpPr/>
          <p:nvPr/>
        </p:nvSpPr>
        <p:spPr>
          <a:xfrm>
            <a:off x="1071720" y="214200"/>
            <a:ext cx="6572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Черепаха красноуха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итает в восточных штатах США. Обитает в реках и озерах. Продолжительность жизни 20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Arial"/>
              </a:rPr>
              <a:t>Зеленая игуана.  Это древесная ящерица .Благодаря острым когтям она прекрасно умеет лазить по деревьям, используя хвост для  балансировки. Окраска прекрасно помогает ей прятаться. Отдыхает игуана на значительной выс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G_0988"/>
          <p:cNvPicPr/>
          <p:nvPr/>
        </p:nvPicPr>
        <p:blipFill>
          <a:blip r:embed="rId1"/>
          <a:stretch/>
        </p:blipFill>
        <p:spPr>
          <a:xfrm>
            <a:off x="3286080" y="2571840"/>
            <a:ext cx="2071800" cy="21430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Arial"/>
              </a:rPr>
              <a:t>Квакша- Древесные квакши выделяют липкую субстанцию из крошечных желез . Они могут подняться по ровной вертикальной поверх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00_3019"/>
          <p:cNvPicPr/>
          <p:nvPr/>
        </p:nvPicPr>
        <p:blipFill>
          <a:blip r:embed="rId1"/>
          <a:stretch/>
        </p:blipFill>
        <p:spPr>
          <a:xfrm>
            <a:off x="3500280" y="2214720"/>
            <a:ext cx="1428840" cy="14284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c0000"/>
                </a:solidFill>
                <a:latin typeface="Arial"/>
              </a:rPr>
              <a:t>Свинохвостый макак- Его так называют за загнутый кверху хвостик. Очень смышленные животные. Местное население использует их для собирания оре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IMG_2007"/>
          <p:cNvPicPr/>
          <p:nvPr/>
        </p:nvPicPr>
        <p:blipFill>
          <a:blip r:embed="rId1"/>
          <a:stretch/>
        </p:blipFill>
        <p:spPr>
          <a:xfrm>
            <a:off x="3286080" y="2428920"/>
            <a:ext cx="1357200" cy="928800"/>
          </a:xfrm>
          <a:prstGeom prst="rect">
            <a:avLst/>
          </a:prstGeom>
          <a:ln w="57240">
            <a:solidFill>
              <a:srgbClr val="a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229600" cy="439920"/>
          </a:xfrm>
          <a:prstGeom prst="rect">
            <a:avLst/>
          </a:prstGeom>
          <a:noFill/>
          <a:ln w="324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итон тигровый- до 8 метров. Место обитания леса и каменистые низкогор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_0997"/>
          <p:cNvPicPr/>
          <p:nvPr/>
        </p:nvPicPr>
        <p:blipFill>
          <a:blip r:embed="rId1"/>
          <a:stretch/>
        </p:blipFill>
        <p:spPr>
          <a:xfrm>
            <a:off x="4214880" y="2286000"/>
            <a:ext cx="2000160" cy="15001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c0000"/>
                </a:solidFill>
                <a:latin typeface="Arial"/>
              </a:rPr>
              <a:t>Самый маленький муравь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3" descr="4634748[1].jpg"/>
          <p:cNvPicPr/>
          <p:nvPr/>
        </p:nvPicPr>
        <p:blipFill>
          <a:blip r:embed="rId1"/>
          <a:stretch/>
        </p:blipFill>
        <p:spPr>
          <a:xfrm>
            <a:off x="5072040" y="2428920"/>
            <a:ext cx="1357200" cy="13572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7:07:10Z</dcterms:created>
  <dc:creator>Admin</dc:creator>
  <dc:description/>
  <dc:language>en-US</dc:language>
  <cp:lastModifiedBy>Леночка</cp:lastModifiedBy>
  <dcterms:modified xsi:type="dcterms:W3CDTF">2012-02-08T11:55:36Z</dcterms:modified>
  <cp:revision>31</cp:revision>
  <dc:subject/>
  <dc:title>Слайд 1</dc:title>
</cp:coreProperties>
</file>