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4E4-8566-4FFC-B2DD-3FBC3AEE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9A2-62FE-40F5-8669-E4B55B21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4FE-D131-49FA-90B3-78393ADD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433-8FF5-4716-BCE4-572689FB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C96D-2057-4A01-AD9E-124CA354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6CE6-4C0B-42B4-989B-1AAD14CF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BAB3-E6D7-4F51-ADC2-CA515363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DFD9-EA33-48C4-864D-C5CA24E6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8BD3-3099-4A4E-8194-3E1ECE3A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1EE0-9C10-46DA-8D99-A5238E29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F171-D067-48A0-83A4-E40098F4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540-4AEF-4F6B-B8D2-08E1B885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95A0-5844-443E-8531-75753A1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68A7-B576-4EB6-90AE-282CDA2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CB10-FCFA-4056-8DB6-C0FBE9FE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060D-643F-4BD5-B349-699264FD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1A7C-C422-4003-94A5-1561CF92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45AB-F1D9-4F55-A517-873D9F13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6E6B-0CD2-462E-A6DD-028CC684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EC044-8318-4031-B84C-E3C4336A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0037-5F31-40FB-B39B-523C8BDA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2CB5-54C2-4CA9-972F-49BB50B6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DC7-7804-4C64-A76B-3A28F9B4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DB491-2B8D-4428-A62D-BF898C36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706C-361B-4B3F-A799-2B4348BD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67F4-AE52-44D7-9844-274C63A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FDC4-72EC-4B59-9EF3-089B181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F5EA-C4AD-40D8-84F4-0B456360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C955-929A-4635-9B39-198525C4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0DD3-25BE-4C2B-8998-2A64B81B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C19E4-2486-4AD7-8028-1D49FDB9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A303-8125-4641-9394-8D0ED349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D151-5056-4C5C-8F91-61F35063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A40-0D60-4872-9FAB-9681CA12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1394-4EF0-495E-9BC4-4FB39F56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16AEB-8281-4132-8189-CC52848F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3304-F80C-4713-B9E6-F185B119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80A9-38C9-405E-A138-84378155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88EF-C486-4C52-9F02-122A53AD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4B6E-E593-49E6-862E-DD21CE7D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4270-AD53-45D6-BB0D-4D978481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D7C2-EB97-498A-87C8-F1D8DEE1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6E59-74FD-402C-A1EF-3530C1A6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B46C7-37A3-4D27-9A95-61811C1C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EA8-7918-44B0-BD04-B0F5DE03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822A3-0797-4FA1-A7A0-B0C3B23D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81472-2713-4BE3-BE86-59FDB002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14C6-2092-46ED-9342-325DFCA6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9D80-CADB-4800-889A-B65B638E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0F427-073D-4C38-9E04-E72E599E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94F34-9E62-47E1-AFD7-B2A69F9B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D2E5-B6C1-453C-939F-B5F8A05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C938-8E44-4C4A-B4B3-4A576D72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102EA-82A6-4F62-8ED0-1E07F26A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71FA2-835B-4729-B77D-BF27D3BC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B29-CF13-424D-BC91-0B2FE35D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436FE-1484-410A-98F0-55B7A205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D93EC-0E66-4F1A-B542-1A39001E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B3157-18F4-4C81-B311-C0E9983C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E7CB-0E90-4612-A521-0B0221DA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8A0C5-D585-4C7B-A67E-3A25A69C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3A63-A228-4C69-A5CF-AA0A3F7B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BE6E2-953E-48F1-BDC9-C8956B1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E91B-04D4-489B-92C4-59544DCE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AAF8-5CB9-485A-9EA1-DD726039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8A4B-D0EA-4C04-B7F2-A5A36BF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563-6A07-4AB6-A2F2-77D85FA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A2BC7-BAB1-411C-8DED-6CC6A037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2829B-008C-4C52-99A9-1CFAACB7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6BFA5-97F0-447A-9C75-E1395E46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B8766-EFB8-41F3-971F-679D9A73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4F50-B1EF-4D39-B650-E5B97D3E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9F4BB-BBF8-4623-860A-E8D0AEEE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02851-44A0-4053-88D0-B301B25B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E2B98-E151-40EA-8019-69C5DAFD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FDADF-C712-4A40-AF75-BB5DF6E9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F1A81-D5DD-492A-9870-6B586680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F53-3E61-48B8-B931-A7B70389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7AB76-51AD-4BB1-8B01-CE1E16E4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22997-56B6-4F4E-908F-EDEA00F0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93D8-77AC-46C5-A7A0-D181FFF9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59AB-CC50-4BAD-BFA0-1C7CAB66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68DFA-6BE5-4936-814B-E3E394A1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DB8-1E0D-4F70-B876-F8734EB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C1B2-3470-44FB-8954-37DCD55CC9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B0D-BF21-4FDA-B6C3-8DFEDAB304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15B6-F5ED-4FF6-8CE9-D73F16F103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514-D403-49FB-AA71-65EAAFF42C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84B7-771B-4A8D-8C91-E9F2AC6B36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588C-7851-4346-ACB5-8941BD108F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534E-4CD8-40A8-8E1E-743F54097A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571680"/>
            <a:ext cx="74149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orbel"/>
              </a:rPr>
              <a:t>Значение предмета </a:t>
            </a:r>
            <a:r>
              <a:rPr b="1" lang="ru-RU" sz="6600" spc="-1" strike="noStrike">
                <a:solidFill>
                  <a:srgbClr val="ffc000"/>
                </a:solidFill>
                <a:latin typeface="Corbel"/>
              </a:rPr>
              <a:t>«Технология» 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Corbel"/>
              </a:rPr>
              <a:t>в образовательном процессе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071360" y="356760"/>
            <a:ext cx="761508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372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руд как вид человеческой деятельности представляется очень богатым и сложным процессом, в котором участвуют основные функциональные комплексы нашего организма: органы чувств, мозг, моторик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480" indent="372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оцесс изготовления вещи, кроме «схватывания» предмета и изображения зрением, осязанием, двигательными ощущениями, предполагает анализ и синтез, поиск вариантов достижения цели, сравнение результатов работы с оригиналом или замыслом, их корректировк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480" indent="372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 мнению физиологов, наши пальцы органически связаны с мозговыми центрами  и внутренними органами, поэтому физическая тренировка рук стимулирует саморегуляцию организма, имеет общеукрепляющее и развивающее значени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480" indent="372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ровень развития речи детей находится в прямой зависимости от сформированности мелких движений пальцев ру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480" indent="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472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b050"/>
                </a:solidFill>
                <a:latin typeface="Comic Sans MS"/>
                <a:ea typeface="Calibri"/>
              </a:rPr>
              <a:t>Уроки технологии уникальны по своим возможностям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3" descr=""/>
          <p:cNvPicPr/>
          <p:nvPr/>
        </p:nvPicPr>
        <p:blipFill>
          <a:blip r:embed="rId1"/>
          <a:stretch/>
        </p:blipFill>
        <p:spPr>
          <a:xfrm>
            <a:off x="706320" y="1279440"/>
            <a:ext cx="5730840" cy="534060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4"/>
          <p:cNvSpPr/>
          <p:nvPr/>
        </p:nvSpPr>
        <p:spPr>
          <a:xfrm>
            <a:off x="6429240" y="2071800"/>
            <a:ext cx="2500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казывают использование предметов в работе промышленности, сельского хозяйства, в быту и других направлениях деятельности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71360" y="499680"/>
            <a:ext cx="761508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46512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mic Sans MS"/>
                <a:ea typeface="Calibri"/>
              </a:rPr>
              <a:t>Уроки технологии дают возможность раскрытия и развития творческого потенциала каждого ребенк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480" indent="46512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нализ зарубежного опыта показывает, что урокам труда в различных типах образовательных учреждений уделяется серьезное внимание. Это выражается как в количестве часов (Франция, Япония, США – 20% учебного времени, или по 5 часов в неделю на весь цикл технологических и художественных дисциплин), так и в определении цели трудового обучен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480" indent="46512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руд, обладающий исключительными возможностями развивающего воздействия на интеллект и нравственную сферу личности, должен стать одним из основных средств развития и воспитания школьник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480" indent="465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142640" y="428400"/>
            <a:ext cx="77151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465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нашем обществе и образовательной системе в целом есть недопонимание роли технологии. Каждый учитель и создатели учебников по образовательным дисциплинам четко представляют, что дети изучают основы соответствующих наук, их законы и закономернос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80" indent="465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сли спросить учителей, что за наука лежит в основе предмета «трудовое обучение» или «технология», то большинство не сможет дать четкого ответа. Ведь на уроках, главным образом, изготавливаются изделия из доступных материалов, и большинство учителей считает своим долгом научить детей именно этому: изготовлению изделий, которые чем привлекательнее, тем лучше. Но какие знания при этом даются, какие практические умения при этом осваиваются, в каком направлении идет развитие ребенка, до конца не осознаетс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80" indent="465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6" descr="sm.gif"/>
          <p:cNvPicPr/>
          <p:nvPr/>
        </p:nvPicPr>
        <p:blipFill>
          <a:blip r:embed="rId1"/>
          <a:stretch/>
        </p:blipFill>
        <p:spPr>
          <a:xfrm>
            <a:off x="7286760" y="48578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9"/>
          <p:cNvSpPr/>
          <p:nvPr/>
        </p:nvSpPr>
        <p:spPr>
          <a:xfrm>
            <a:off x="1214280" y="4929120"/>
            <a:ext cx="578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465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 ведь именно на уроке технологии ребенок имеет возможность выступить в роли исследователя и преобразовател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1:31:38Z</dcterms:created>
  <dc:creator/>
  <dc:description/>
  <dc:language>en-US</dc:language>
  <cp:lastModifiedBy>Ирина</cp:lastModifiedBy>
  <dcterms:modified xsi:type="dcterms:W3CDTF">2009-03-25T22:55:49Z</dcterms:modified>
  <cp:revision>9</cp:revision>
  <dc:subject/>
  <dc:title>Слайд 1</dc:title>
</cp:coreProperties>
</file>