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3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12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5.png" ContentType="image/png"/>
  <Override PartName="/ppt/media/image10.jpeg" ContentType="image/jpeg"/>
  <Override PartName="/ppt/media/image29.jpeg" ContentType="image/jpeg"/>
  <Override PartName="/ppt/media/image37.gif" ContentType="image/gif"/>
  <Override PartName="/ppt/media/image20.png" ContentType="image/png"/>
  <Override PartName="/ppt/media/image2.jpeg" ContentType="image/jpeg"/>
  <Override PartName="/ppt/media/image30.jpeg" ContentType="image/jpeg"/>
  <Override PartName="/ppt/media/image31.png" ContentType="image/png"/>
  <Override PartName="/ppt/media/image3.gif" ContentType="image/gif"/>
  <Override PartName="/ppt/media/image32.png" ContentType="image/png"/>
  <Override PartName="/ppt/media/image35.jpeg" ContentType="image/jpeg"/>
  <Override PartName="/ppt/media/image1.jpeg" ContentType="image/jpeg"/>
  <Override PartName="/ppt/media/image33.jpeg" ContentType="image/jpeg"/>
  <Override PartName="/ppt/media/image6.png" ContentType="image/png"/>
  <Override PartName="/ppt/media/image36.png" ContentType="image/png"/>
  <Override PartName="/ppt/media/image4.jpeg" ContentType="image/jpeg"/>
  <Override PartName="/ppt/media/image7.png" ContentType="image/png"/>
  <Override PartName="/ppt/media/image34.jpeg" ContentType="image/jpeg"/>
  <Override PartName="/ppt/media/image25.gif" ContentType="image/gif"/>
  <Override PartName="/ppt/media/image18.png" ContentType="image/png"/>
  <Override PartName="/ppt/media/image22.jpeg" ContentType="image/jpeg"/>
  <Override PartName="/ppt/media/image9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B9EE-6BA1-4B2A-80B3-EA5D8D492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C0E3-1BCF-4A70-9277-0C2DFC573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0450-99DE-4FCF-8285-1D616A5D9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A581-505C-48DE-B5C2-D82E1B1B0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EC15B-36D2-4E8A-B1C6-BFC3C4A60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50CFC-0429-4AD6-93E3-63B839C71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F6D21-B51F-4E02-B7EB-D38B53B17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61D6D-F76F-4463-8E73-9791D16D8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6C8E2-3FE1-4D8A-8850-66B99E19F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A5F97-CEDC-46F4-811F-5108328EB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2FEA9-35F8-4527-86A5-3CC86EDB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37B8-D41F-47A6-9053-80A2C092A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3E493-F07C-4853-BEB6-32D1FE7D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5DB86-C4BC-4E2C-90A1-C2BCB063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C5D56-7641-4568-B4F2-67D0814D0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12AFF-A43A-4D5E-BA97-D693F5642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6BF66-F0CE-4D0E-853C-BEB4D6FBE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5B57-A595-4CB7-A099-6A66AE8C6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C37C-E651-471C-9F14-0F1D51FDC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657E-FD0D-4BDD-8552-EE7319F46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684A-2807-4F91-8793-C5665EC99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586F-F056-4B4E-AB7A-4B30380C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8C21-ABE9-45CC-B9E7-F6246DD8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282F-CCE5-4BB8-B012-B7BBA68C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0DB7F-CCC2-4055-8BC8-AEB316DF8BE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F31C1-46BB-41DF-8D89-DA83B95B2F7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gif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160" y="189000"/>
            <a:ext cx="8142120" cy="14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Сила трения.</a:t>
            </a:r>
            <a:br>
              <a:rPr sz="4000"/>
            </a:b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Трение в природе и технике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2" name="Picture 4" descr="{855A69FD-20A3-4C06-B70B-E3CDF23F6E00}"/>
          <p:cNvPicPr/>
          <p:nvPr/>
        </p:nvPicPr>
        <p:blipFill>
          <a:blip r:embed="rId2"/>
          <a:stretch/>
        </p:blipFill>
        <p:spPr>
          <a:xfrm>
            <a:off x="1692360" y="1989000"/>
            <a:ext cx="6408720" cy="439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30E1-A690-4AAD-9D86-394B724BADA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Изучение зависимости силы трения скольжения от рода трущихся поверхностей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32360" y="2349360"/>
            <a:ext cx="396072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Сила трения зависит от свойств соприкасающихся тел (от рода поверхностей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55640" y="2349360"/>
            <a:ext cx="4032360" cy="381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E8E9-8419-4254-B9CD-D4E7B607857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Изучение зависимости силы трения скольжения от давления и независимости от площади трущихся поверхностей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2565360"/>
            <a:ext cx="32400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Сила трения зависит от силы давления и не зависит от площадей трущихся поверхност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068720" y="2781360"/>
            <a:ext cx="3816360" cy="317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D1A1-70A1-47FF-91B9-5ABE122C73C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7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Сравним результа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71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Леонардо да Винчи получил следующие результаты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от площади не зависит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от величины нагрузки зависит (пропорциональна ей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от шероховатости поверхностей зависи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овпадают ли наши результаты эксперимента с его результатами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BCA5-10B5-4228-8C92-08686C46A1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6372360" y="2060640"/>
            <a:ext cx="1655640" cy="431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826920" y="2060640"/>
            <a:ext cx="1513080" cy="431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Трение: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полезно или вредно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826920" y="1989000"/>
            <a:ext cx="29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Усили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6372360" y="1989000"/>
            <a:ext cx="180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Ослаби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8"/>
          <p:cNvSpPr/>
          <p:nvPr/>
        </p:nvSpPr>
        <p:spPr>
          <a:xfrm flipH="1">
            <a:off x="1547640" y="1628640"/>
            <a:ext cx="1440000" cy="43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9"/>
          <p:cNvSpPr/>
          <p:nvPr/>
        </p:nvSpPr>
        <p:spPr>
          <a:xfrm>
            <a:off x="5867280" y="1628640"/>
            <a:ext cx="1441440" cy="43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684360" y="3284640"/>
            <a:ext cx="28796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величить шероховат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величить нагрузк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5003640" y="2852640"/>
            <a:ext cx="38894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маз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дшипники: шариковые и роликов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оздушная подуш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538A-C4EC-4DEB-9647-5B4FB6C92424}" type="slidenum">
              <a:t>13</a:t>
            </a:fld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Роль силы трения при ходьб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9280" y="1989000"/>
            <a:ext cx="3864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отсутствии трения покоя ни люди, ни животные не могли бы ходить по земл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7" descr="pol_vredn"/>
          <p:cNvPicPr/>
          <p:nvPr/>
        </p:nvPicPr>
        <p:blipFill>
          <a:blip r:embed="rId2"/>
          <a:stretch/>
        </p:blipFill>
        <p:spPr>
          <a:xfrm>
            <a:off x="4356000" y="1916280"/>
            <a:ext cx="3888000" cy="38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6BEA-88E4-4697-84EC-C0E9F3EBC608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Движение по скользкой поверхност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76720" y="1916280"/>
            <a:ext cx="361008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Ходить по льду нелегко, т.к. трение, возникающее между поверхностью льда и подошвой обуви, мал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Как можно облегчить хождение по скользкой поверхност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2"/>
          <a:stretch/>
        </p:blipFill>
        <p:spPr>
          <a:xfrm>
            <a:off x="395280" y="1989000"/>
            <a:ext cx="4321080" cy="402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E55B-FC3E-4F8F-844D-D8DD9F36930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Смазк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140000" y="1981080"/>
            <a:ext cx="454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и наличии смазки соприкасаются не сами поверхности тел, а ее соседние слои. Трение между слоями жидкости слабее, чем между твердыми поверхностя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Res" descr="resA004AAAC-925D-47C8-B8A1-998399C22D9B"/>
          <p:cNvPicPr/>
          <p:nvPr/>
        </p:nvPicPr>
        <p:blipFill>
          <a:blip r:embed="rId2"/>
          <a:srcRect l="15118" t="0" r="7559" b="0"/>
          <a:stretch/>
        </p:blipFill>
        <p:spPr>
          <a:xfrm>
            <a:off x="324000" y="1628640"/>
            <a:ext cx="3311280" cy="453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AD87-09ED-4020-8A7F-1F1B66C43287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одшипник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284720" y="1980720"/>
            <a:ext cx="440208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нутреннее кольцо подшипника насаживают на вал, который при вращении не скользит, а катится на шариках или ролика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Res" descr="resBB484AC2-1991-4A93-A221-03523F58AD7F"/>
          <p:cNvPicPr/>
          <p:nvPr/>
        </p:nvPicPr>
        <p:blipFill>
          <a:blip r:embed="rId2"/>
          <a:stretch/>
        </p:blipFill>
        <p:spPr>
          <a:xfrm>
            <a:off x="324000" y="3933720"/>
            <a:ext cx="3382920" cy="27068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Res" descr="res76FD9522-0216-497E-8871-7954DABEE93E"/>
          <p:cNvPicPr/>
          <p:nvPr/>
        </p:nvPicPr>
        <p:blipFill>
          <a:blip r:embed="rId3"/>
          <a:stretch/>
        </p:blipFill>
        <p:spPr>
          <a:xfrm>
            <a:off x="611280" y="1557360"/>
            <a:ext cx="2808360" cy="224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4F03-24E7-4F4C-B09A-3E30FFDA6F09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Воздушная подушк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038120" y="1981080"/>
            <a:ext cx="461988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оздушная подушка – область повышенного давления воздуха между основанием машины и опорной поверхностью, которая препятствует их непосредственному контакт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4" descr="V3583i"/>
          <p:cNvPicPr/>
          <p:nvPr/>
        </p:nvPicPr>
        <p:blipFill>
          <a:blip r:embed="rId2"/>
          <a:stretch/>
        </p:blipFill>
        <p:spPr>
          <a:xfrm>
            <a:off x="971640" y="2205000"/>
            <a:ext cx="2587680" cy="287964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5"/>
          <p:cNvSpPr/>
          <p:nvPr/>
        </p:nvSpPr>
        <p:spPr>
          <a:xfrm>
            <a:off x="684360" y="57340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орабль на воздушной подушк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ADFE-9D5A-45C9-A419-DC0B90EA2FAE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Упражнение 1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539640" y="22050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466560" y="1628640"/>
            <a:ext cx="8642520" cy="50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Соотнесите виды трения с соответствующими фразам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Трение скольжения                              Одно тело катится по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поверхности другого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Трение качения                                   Я слишком слаб, чтоб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сдвинуть эту коробку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Трение покоя                                      Одно тело скользит по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поверхности другого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810C-6C3C-4EC0-81C8-E6397A1B05A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Значение силы трен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вижущийся автомобил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419360" y="5715000"/>
            <a:ext cx="236196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19320" y="5715000"/>
            <a:ext cx="213336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5714640" y="2514600"/>
            <a:ext cx="1066680" cy="0"/>
          </a:xfrm>
          <a:prstGeom prst="line">
            <a:avLst/>
          </a:prstGeom>
          <a:ln w="76320">
            <a:solidFill>
              <a:srgbClr val="2b54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05120" y="5943600"/>
            <a:ext cx="77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5867280"/>
            <a:ext cx="77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57400" y="60199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181480" y="59436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43600" y="19810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95880" y="20574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Рисунок 7" descr="5.gif"/>
          <p:cNvPicPr/>
          <p:nvPr/>
        </p:nvPicPr>
        <p:blipFill>
          <a:blip r:embed="rId2"/>
          <a:stretch/>
        </p:blipFill>
        <p:spPr>
          <a:xfrm>
            <a:off x="990720" y="2666880"/>
            <a:ext cx="6324480" cy="281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6349-A5C5-422C-A7C9-42006828F832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Упражнение 2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Выберите факторы, которые влияют на силу тр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корость движения те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ес груз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лощади движущихся поверхност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аправление движ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ровность поверхн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A62D-3D75-467B-80CB-E01A0DA50F7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indefinite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4" dur="indefinite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5" dur="indefinite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indefinite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40" dur="indefinite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1" dur="indefinite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indefinite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46" dur="indefinite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7" dur="indefinite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Упражнение 3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а каком из рисунков правильно отображены силы, сопровождающие движение деревянного брус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2"/>
          <a:stretch/>
        </p:blipFill>
        <p:spPr>
          <a:xfrm>
            <a:off x="304920" y="2819520"/>
            <a:ext cx="8280360" cy="3687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2B0C-2240-4D84-924B-9A5A8840B49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Шевели мозгами…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685800" y="2301480"/>
            <a:ext cx="3240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чему санки, скатившись с горы, останавливаютс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Рисунок 6" descr="med_37137706.jpg"/>
          <p:cNvPicPr/>
          <p:nvPr/>
        </p:nvPicPr>
        <p:blipFill>
          <a:blip r:embed="rId2"/>
          <a:stretch/>
        </p:blipFill>
        <p:spPr>
          <a:xfrm>
            <a:off x="4857840" y="1857240"/>
            <a:ext cx="3362400" cy="425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E679-8718-4EF5-825F-17CD9A198B0E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Шевели мозгами…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638640" y="4723560"/>
            <a:ext cx="842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чему мел оставляет след на классной доск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4" descr="AG00052_"/>
          <p:cNvPicPr/>
          <p:nvPr/>
        </p:nvPicPr>
        <p:blipFill>
          <a:blip r:embed="rId2"/>
          <a:stretch/>
        </p:blipFill>
        <p:spPr>
          <a:xfrm>
            <a:off x="2629080" y="1809720"/>
            <a:ext cx="3743280" cy="234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3CAA-35AF-48BF-8F56-1065AFD379A5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Шевели мозгами…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755640" y="2113560"/>
            <a:ext cx="4248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Может ли велосипедис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вигаться равномер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 горизонтально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ороге, не вращая педал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4" descr="bmp1d30_01_02_c"/>
          <p:cNvPicPr/>
          <p:nvPr/>
        </p:nvPicPr>
        <p:blipFill>
          <a:blip r:embed="rId2"/>
          <a:stretch/>
        </p:blipFill>
        <p:spPr>
          <a:xfrm>
            <a:off x="5219640" y="2637000"/>
            <a:ext cx="3327480" cy="236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40CD-39EB-426D-9141-7D5318A3E4D8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Шевели мозгами…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4788000" y="2619360"/>
            <a:ext cx="397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Для чего «разводят» пилы (наклоняют в противоположные стороны соседние зубья)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Рисунок 6" descr="4012_pil10_b.jpg"/>
          <p:cNvPicPr/>
          <p:nvPr/>
        </p:nvPicPr>
        <p:blipFill>
          <a:blip r:embed="rId2"/>
          <a:stretch/>
        </p:blipFill>
        <p:spPr>
          <a:xfrm>
            <a:off x="500040" y="2071800"/>
            <a:ext cx="3838680" cy="3809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6CFC-1D38-43CD-B8AD-A1653F3E756D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Шевели мозгами…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5076720" y="2276640"/>
            <a:ext cx="3162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чему медицинские иглы полируют до зеркального блеска?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Рисунок 6" descr="Disposable_Syringe.jpg"/>
          <p:cNvPicPr/>
          <p:nvPr/>
        </p:nvPicPr>
        <p:blipFill>
          <a:blip r:embed="rId2"/>
          <a:stretch/>
        </p:blipFill>
        <p:spPr>
          <a:xfrm>
            <a:off x="714240" y="214308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0503-1F64-4EFB-999D-51AE1C33D765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Шевели мозгами…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2209680" y="5789880"/>
            <a:ext cx="518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чему после дождя грунтов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дорога становится скользкой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Рисунок 6" descr="19692356_132.jpg"/>
          <p:cNvPicPr/>
          <p:nvPr/>
        </p:nvPicPr>
        <p:blipFill>
          <a:blip r:embed="rId2"/>
          <a:stretch/>
        </p:blipFill>
        <p:spPr>
          <a:xfrm>
            <a:off x="2000160" y="1797120"/>
            <a:ext cx="5000760" cy="375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07F4-0027-41F5-B4BC-B43E7320225C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Шевели мозгами…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4572000" y="2414160"/>
            <a:ext cx="385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чему при росе косить траву легче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Рисунок 7" descr="0_ee5_79699b0e_orig.jpg"/>
          <p:cNvPicPr/>
          <p:nvPr/>
        </p:nvPicPr>
        <p:blipFill>
          <a:blip r:embed="rId2"/>
          <a:srcRect l="0" t="0" r="0" b="2485"/>
          <a:stretch/>
        </p:blipFill>
        <p:spPr>
          <a:xfrm>
            <a:off x="571680" y="1716120"/>
            <a:ext cx="3238200" cy="473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21ED-E004-44D0-B4FF-1944DEB0C4F4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Шевели мозгами…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371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акой вид трения имеет место при катании на велосипеде? При перевозке груза на санках? При катании на лыжах? При передвижении рабочим катушки с проводом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и движении вагонетк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Picture 6" descr="76150E45"/>
          <p:cNvPicPr/>
          <p:nvPr/>
        </p:nvPicPr>
        <p:blipFill>
          <a:blip r:embed="rId2"/>
          <a:srcRect l="0" t="0" r="0" b="1915"/>
          <a:stretch/>
        </p:blipFill>
        <p:spPr>
          <a:xfrm>
            <a:off x="4211640" y="2349360"/>
            <a:ext cx="4753080" cy="352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8A8B-A701-47BB-8ED6-F6D50CD55B80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Сила трен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5364000" y="1773360"/>
            <a:ext cx="36212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ила, возникающая при движении одного тела по поверхности другого, приложения к движущемуся телу и направленная против движения, называется силой тр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95280" y="2146320"/>
            <a:ext cx="4608360" cy="337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98EA-8751-458E-9FDD-20929EB16017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Шевели мозгами…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50920" y="1980720"/>
            <a:ext cx="374472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акой вид трения удерживает ящик при его перемещении на наклонном транспортер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Res" descr="res2395EE2B-4D4A-4074-958D-549CB77A879A"/>
          <p:cNvPicPr/>
          <p:nvPr/>
        </p:nvPicPr>
        <p:blipFill>
          <a:blip r:embed="rId2"/>
          <a:stretch/>
        </p:blipFill>
        <p:spPr>
          <a:xfrm>
            <a:off x="4284720" y="2182680"/>
            <a:ext cx="4608360" cy="3687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A81B-F585-4D25-A9C3-6AEA6B540B9A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Шевели мозгами…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419640" y="1988640"/>
            <a:ext cx="51228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теклянную бутылку с узким горлышком ученик  быстро и чисто отмыл теплой водой, в которую добавил мелко накрошенную яичную скорлупу и кусочки газетной бумаги. Бутылку он все время встряхивал. Какое физическое явление помогло ему отмыть бутылку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2" name="Рисунок 6" descr="bottle01a.jpg"/>
          <p:cNvPicPr/>
          <p:nvPr/>
        </p:nvPicPr>
        <p:blipFill>
          <a:blip r:embed="rId2"/>
          <a:srcRect l="0" t="4126" r="0" b="0"/>
          <a:stretch/>
        </p:blipFill>
        <p:spPr>
          <a:xfrm>
            <a:off x="857160" y="1773360"/>
            <a:ext cx="2151000" cy="4694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FD75-DDB3-41E6-806A-0A0CABE675FA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Шевели мозгами…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3898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чему металлические ступеньки (лестницы, подножки трамвая, поезда и т.п.) не гладкие, а имеют рельефные выступы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Рисунок 6" descr="stup_02-04-04_2.jpg"/>
          <p:cNvPicPr/>
          <p:nvPr/>
        </p:nvPicPr>
        <p:blipFill>
          <a:blip r:embed="rId2"/>
          <a:stretch/>
        </p:blipFill>
        <p:spPr>
          <a:xfrm>
            <a:off x="4572000" y="2143080"/>
            <a:ext cx="4383000" cy="328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0BA6-98EF-450D-B951-0D78B95EFD63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716000" y="1981080"/>
            <a:ext cx="3970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Зачем шины автомобилей делают ребристым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7" name="Picture 4" descr="bmp1c26_01_03_c"/>
          <p:cNvPicPr/>
          <p:nvPr/>
        </p:nvPicPr>
        <p:blipFill>
          <a:blip r:embed="rId2"/>
          <a:stretch/>
        </p:blipFill>
        <p:spPr>
          <a:xfrm>
            <a:off x="539640" y="2205000"/>
            <a:ext cx="3311640" cy="3311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3A08-9411-4557-B41D-31315AEB423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Шевели мозгами…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Что должен сделать водитель машины, подъезжая к крутому повороту? Почему водитель должен быть особенно внимательным в сырую погоду, во время листопада и при гололеде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931D-660C-4BE3-B5ED-8860C2DCE40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ЭКСПРЕСС-ДИАГНОСТИК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4360" y="1052640"/>
            <a:ext cx="8964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65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акая сила не позволяет сдвинуть с места тяжелый шкаф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) сила трения скольжения;  2) сила трения покоя;         3) сила тяж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 Сила трения относится к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)силам в механике;   2) силе электрического происхождения;   3) магнитного  происхожд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 При смазке трущихся поверхностей сила трения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) не изменяется; 2) увеличивается; 3) уменьшает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. Как направлена сила трения, когда брусок движется по столу вправо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) вправо;  2) влево,  3) вертикально вни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. В гололед тротуары посыпают песком. При этом трение подошв обуви о лед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) не изменяется;   2) уменьшается;  3) увеличивает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244D-CD24-4A0A-8F0A-AA74D4EE522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3"/>
          <p:cNvSpPr/>
          <p:nvPr/>
        </p:nvSpPr>
        <p:spPr>
          <a:xfrm>
            <a:off x="3711240" y="333360"/>
            <a:ext cx="24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40000"/>
                </a:solidFill>
                <a:latin typeface="Times New Roman"/>
                <a:ea typeface="Times New Roman"/>
              </a:rPr>
              <a:t>Рефлекс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684360" y="2209680"/>
          <a:ext cx="7572240" cy="1981080"/>
        </p:xfrm>
        <a:graphic>
          <a:graphicData uri="http://schemas.openxmlformats.org/drawingml/2006/table">
            <a:tbl>
              <a:tblPr/>
              <a:tblGrid>
                <a:gridCol w="1109520"/>
                <a:gridCol w="1632240"/>
                <a:gridCol w="1697040"/>
                <a:gridCol w="1619280"/>
                <a:gridCol w="1514160"/>
              </a:tblGrid>
              <a:tr h="76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740000"/>
                          </a:solidFill>
                          <a:latin typeface="Tahoma"/>
                          <a:ea typeface="Times New Roman"/>
                        </a:rPr>
                        <a:t>Фамилия, им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740000"/>
                          </a:solidFill>
                          <a:latin typeface="Tahoma"/>
                          <a:ea typeface="Times New Roman"/>
                        </a:rPr>
                        <a:t>Что знал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740000"/>
                          </a:solidFill>
                          <a:latin typeface="Tahoma"/>
                          <a:ea typeface="Times New Roman"/>
                        </a:rPr>
                        <a:t>Что узнал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740000"/>
                          </a:solidFill>
                          <a:latin typeface="Tahoma"/>
                          <a:ea typeface="Times New Roman"/>
                        </a:rPr>
                        <a:t>С чем не согласен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740000"/>
                          </a:solidFill>
                          <a:latin typeface="Tahoma"/>
                          <a:ea typeface="Times New Roman"/>
                        </a:rPr>
                        <a:t>Что непонятно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</a:tr>
              <a:tr h="121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14" name="Прямоугольник 5"/>
          <p:cNvSpPr/>
          <p:nvPr/>
        </p:nvSpPr>
        <p:spPr>
          <a:xfrm>
            <a:off x="2143080" y="1000080"/>
            <a:ext cx="63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40000"/>
                </a:solidFill>
                <a:latin typeface="Times New Roman"/>
                <a:ea typeface="Times New Roman"/>
              </a:rPr>
              <a:t>(заполнение концептуальной таблицы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Рисунок 4" descr="la_essays_s.gif"/>
          <p:cNvPicPr/>
          <p:nvPr/>
        </p:nvPicPr>
        <p:blipFill>
          <a:blip r:embed="rId2"/>
          <a:stretch/>
        </p:blipFill>
        <p:spPr>
          <a:xfrm>
            <a:off x="214200" y="5286240"/>
            <a:ext cx="1714680" cy="120672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41" descr="123.gif"/>
          <p:cNvPicPr/>
          <p:nvPr/>
        </p:nvPicPr>
        <p:blipFill>
          <a:blip r:embed="rId3"/>
          <a:stretch/>
        </p:blipFill>
        <p:spPr>
          <a:xfrm>
            <a:off x="4643280" y="4286160"/>
            <a:ext cx="857520" cy="857520"/>
          </a:xfrm>
          <a:prstGeom prst="rect">
            <a:avLst/>
          </a:prstGeom>
          <a:ln w="0">
            <a:noFill/>
          </a:ln>
        </p:spPr>
      </p:pic>
      <p:sp>
        <p:nvSpPr>
          <p:cNvPr id="217" name="Прямоугольник 10"/>
          <p:cNvSpPr/>
          <p:nvPr/>
        </p:nvSpPr>
        <p:spPr>
          <a:xfrm>
            <a:off x="2000160" y="5445000"/>
            <a:ext cx="714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40000"/>
                </a:solidFill>
                <a:latin typeface="Times New Roman"/>
                <a:ea typeface="Times New Roman"/>
              </a:rPr>
              <a:t>Обмен мнениями, цитаты из таблиц с рефлекси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3260-44C4-4DD5-9EBC-2932C247083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ДОМАШНЕЕ   ЗАДАНИЕ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арод сложил множество поговорок о трении. Например: «не подмажешь – не поедешь», «пошло дело как по маслу». Какие пословицы о трении вы знаете? Объясните их физический смыс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§ § 38, 39 СТР. 91-95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78D7-937C-4A2C-9B96-BA0DFB72D2E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0"/>
          <p:cNvSpPr/>
          <p:nvPr/>
        </p:nvSpPr>
        <p:spPr>
          <a:xfrm>
            <a:off x="6877080" y="2276640"/>
            <a:ext cx="1657440" cy="936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3492360" y="2205000"/>
            <a:ext cx="2089440" cy="1008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611280" y="2205000"/>
            <a:ext cx="1368360" cy="1008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Виды трен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539640" y="2205000"/>
            <a:ext cx="144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Тр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ко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348000" y="2276640"/>
            <a:ext cx="230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Тр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кольж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6659640" y="2205000"/>
            <a:ext cx="194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Тр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ач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11"/>
          <p:cNvSpPr/>
          <p:nvPr/>
        </p:nvSpPr>
        <p:spPr>
          <a:xfrm flipH="1">
            <a:off x="1186920" y="1484280"/>
            <a:ext cx="2808360" cy="6494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12"/>
          <p:cNvSpPr/>
          <p:nvPr/>
        </p:nvSpPr>
        <p:spPr>
          <a:xfrm>
            <a:off x="4427640" y="1484280"/>
            <a:ext cx="0" cy="7207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Line 13"/>
          <p:cNvSpPr/>
          <p:nvPr/>
        </p:nvSpPr>
        <p:spPr>
          <a:xfrm>
            <a:off x="4932360" y="1484280"/>
            <a:ext cx="2952720" cy="7923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15" descr=""/>
          <p:cNvPicPr/>
          <p:nvPr/>
        </p:nvPicPr>
        <p:blipFill>
          <a:blip r:embed="rId2"/>
          <a:srcRect l="14441" t="0" r="0" b="0"/>
          <a:stretch/>
        </p:blipFill>
        <p:spPr>
          <a:xfrm>
            <a:off x="179280" y="5157720"/>
            <a:ext cx="2579760" cy="1320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6" descr=""/>
          <p:cNvPicPr/>
          <p:nvPr/>
        </p:nvPicPr>
        <p:blipFill>
          <a:blip r:embed="rId3"/>
          <a:srcRect l="6589" t="0" r="0" b="0"/>
          <a:stretch/>
        </p:blipFill>
        <p:spPr>
          <a:xfrm>
            <a:off x="6156360" y="5157720"/>
            <a:ext cx="2789280" cy="1243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7" descr=""/>
          <p:cNvPicPr/>
          <p:nvPr/>
        </p:nvPicPr>
        <p:blipFill>
          <a:blip r:embed="rId4"/>
          <a:srcRect l="2630" t="0" r="2630" b="0"/>
          <a:stretch/>
        </p:blipFill>
        <p:spPr>
          <a:xfrm>
            <a:off x="3059280" y="5084640"/>
            <a:ext cx="2895480" cy="1354320"/>
          </a:xfrm>
          <a:prstGeom prst="rect">
            <a:avLst/>
          </a:prstGeom>
          <a:ln w="0">
            <a:noFill/>
          </a:ln>
        </p:spPr>
      </p:pic>
      <p:sp>
        <p:nvSpPr>
          <p:cNvPr id="111" name="Line 18"/>
          <p:cNvSpPr/>
          <p:nvPr/>
        </p:nvSpPr>
        <p:spPr>
          <a:xfrm>
            <a:off x="755640" y="6381720"/>
            <a:ext cx="720720" cy="0"/>
          </a:xfrm>
          <a:prstGeom prst="line">
            <a:avLst/>
          </a:prstGeom>
          <a:ln w="63360">
            <a:solidFill>
              <a:srgbClr val="ff0000"/>
            </a:solidFill>
            <a:miter/>
            <a:headEnd len="med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19" descr="4BC55034"/>
          <p:cNvPicPr/>
          <p:nvPr/>
        </p:nvPicPr>
        <p:blipFill>
          <a:blip r:embed="rId5"/>
          <a:srcRect l="0" t="24387" r="61258" b="53346"/>
          <a:stretch/>
        </p:blipFill>
        <p:spPr>
          <a:xfrm>
            <a:off x="3348000" y="3708360"/>
            <a:ext cx="2424240" cy="1015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1" descr="4BC55034"/>
          <p:cNvPicPr/>
          <p:nvPr/>
        </p:nvPicPr>
        <p:blipFill>
          <a:blip r:embed="rId6"/>
          <a:srcRect l="61258" t="24387" r="0" b="53346"/>
          <a:stretch/>
        </p:blipFill>
        <p:spPr>
          <a:xfrm>
            <a:off x="179280" y="3651120"/>
            <a:ext cx="2376720" cy="1074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2" descr="4BC55034"/>
          <p:cNvPicPr/>
          <p:nvPr/>
        </p:nvPicPr>
        <p:blipFill>
          <a:blip r:embed="rId7"/>
          <a:srcRect l="37697" t="22862" r="35341" b="53346"/>
          <a:stretch/>
        </p:blipFill>
        <p:spPr>
          <a:xfrm>
            <a:off x="6732720" y="3638520"/>
            <a:ext cx="2028600" cy="1085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6549-A6C2-42EE-B5A5-910FB37032A7}" type="slidenum">
              <a:t>4</a:t>
            </a:fld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Трение поко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541440" y="1936800"/>
            <a:ext cx="4535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ила трения покоя препятствует относительному смещению соприкасающихся тел. Она растет вместе с силой, стремящейся сдвинуть тело с мес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2"/>
          <a:stretch/>
        </p:blipFill>
        <p:spPr>
          <a:xfrm>
            <a:off x="5416560" y="1916280"/>
            <a:ext cx="2684520" cy="37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0814-477C-48C5-8979-74D90BF52FE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Трение скольжен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388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ила, возникающая при движении одного тела по поверхности другого и направленная в сторону, противоположную движению, называется силой трения скольж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4" descr="{C83940E7-A174-497D-8D92-94B9A69FDAC5}"/>
          <p:cNvPicPr/>
          <p:nvPr/>
        </p:nvPicPr>
        <p:blipFill>
          <a:blip r:embed="rId2"/>
          <a:stretch/>
        </p:blipFill>
        <p:spPr>
          <a:xfrm>
            <a:off x="4427640" y="2637000"/>
            <a:ext cx="4356000" cy="248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0CF6-C874-4452-883C-437C07EB4DF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Трение качен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2" name="Picture 4" descr="{A7096625-E40B-422B-BBD5-706842603821}"/>
          <p:cNvPicPr/>
          <p:nvPr/>
        </p:nvPicPr>
        <p:blipFill>
          <a:blip r:embed="rId2"/>
          <a:stretch/>
        </p:blipFill>
        <p:spPr>
          <a:xfrm>
            <a:off x="684360" y="1773360"/>
            <a:ext cx="2860560" cy="43196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4067280" y="1773360"/>
            <a:ext cx="4680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Если тело катится по поверхности другого тела, то возникающее в месте их контакта трение называют трением качения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6" descr="bmp1c26_01_01_c"/>
          <p:cNvPicPr/>
          <p:nvPr/>
        </p:nvPicPr>
        <p:blipFill>
          <a:blip r:embed="rId3"/>
          <a:stretch/>
        </p:blipFill>
        <p:spPr>
          <a:xfrm>
            <a:off x="6659640" y="4363920"/>
            <a:ext cx="2241360" cy="2241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D5C2-3B51-48C7-BF0C-79723EE68ED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Опыты Леонардо да Винч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03280" y="1773000"/>
            <a:ext cx="5761080" cy="46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Учёных издавна интересовало, от чего зависит сила трения. Леонардо да Винчи в 1500 году исследовал зависимость силы трения от материала, из которого изготовлены тела, от величины нагрузки на эти тела, от степени гладкости или шероховатости их поверхносте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4" descr="l_204"/>
          <p:cNvPicPr/>
          <p:nvPr/>
        </p:nvPicPr>
        <p:blipFill>
          <a:blip r:embed="rId2"/>
          <a:stretch/>
        </p:blipFill>
        <p:spPr>
          <a:xfrm>
            <a:off x="468360" y="1844640"/>
            <a:ext cx="2886120" cy="4000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6EC2-07C0-4438-AE25-B16AB6C16C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Сравнение сил трения скольжения, качения и веса тела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463680" y="5618520"/>
            <a:ext cx="841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P</a:t>
            </a: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 &gt; 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 тр пок &gt; 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 тр ск &gt; 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 тр ка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133720" y="1752480"/>
            <a:ext cx="5472000" cy="356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F400-06F9-41F0-A3A3-FE68678BA16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03-01-03T11:09:10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