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28.gif" ContentType="image/gif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2862263" cy="21399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E72-F42D-4875-BCE3-F12987E3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400" y="117720"/>
            <a:ext cx="27187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271872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5400" y="1222560"/>
            <a:ext cx="271872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3E2-8C66-43B7-8925-3E4889B0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400" y="117720"/>
            <a:ext cx="27187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132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88600" y="484920"/>
            <a:ext cx="132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5400" y="1222560"/>
            <a:ext cx="132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88600" y="1222560"/>
            <a:ext cx="132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E64-4AE1-468C-9BD1-4DC3B611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5400" y="117720"/>
            <a:ext cx="27187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87516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14840" y="484920"/>
            <a:ext cx="87516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933920" y="484920"/>
            <a:ext cx="87516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5400" y="1222560"/>
            <a:ext cx="87516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014840" y="1222560"/>
            <a:ext cx="87516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933920" y="1222560"/>
            <a:ext cx="87516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F35-9D3B-41D7-86C2-A4C25D9D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400" y="117720"/>
            <a:ext cx="27187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5400" y="484920"/>
            <a:ext cx="2718720" cy="14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4AD-840F-407C-BE70-A3F549EC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400" y="117720"/>
            <a:ext cx="27187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2718720" cy="14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782-D1BD-471A-BC15-B6FE20B4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400" y="117720"/>
            <a:ext cx="27187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1326600" cy="14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488600" y="484920"/>
            <a:ext cx="1326600" cy="14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488-6F34-497D-B1F7-1D67867B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400" y="117720"/>
            <a:ext cx="27187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F7A-C780-4FC5-9E67-E22B5EC3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5400" y="142560"/>
            <a:ext cx="271872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5D8-CA8D-44BE-9449-9CD05924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400" y="117720"/>
            <a:ext cx="27187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132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488600" y="484920"/>
            <a:ext cx="1326600" cy="14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5400" y="1222560"/>
            <a:ext cx="132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1B4-6744-46F3-AF22-0987455B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5400" y="117720"/>
            <a:ext cx="27187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1326600" cy="14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488600" y="484920"/>
            <a:ext cx="132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8600" y="1222560"/>
            <a:ext cx="132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513-F0CD-4279-A9AF-8DB831AA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5400" y="117720"/>
            <a:ext cx="27187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132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88600" y="484920"/>
            <a:ext cx="132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5400" y="1222560"/>
            <a:ext cx="271872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997-69EC-41EA-A433-48F2DEA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160920" y="327600"/>
            <a:ext cx="2701080" cy="7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8440" rIns="28440" tIns="360" bIns="3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160920" y="327600"/>
            <a:ext cx="2701080" cy="7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8440" rIns="28440" tIns="360" bIns="3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160920" y="330120"/>
            <a:ext cx="2701080" cy="7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8440" rIns="28440" tIns="360" bIns="3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5400" y="484920"/>
            <a:ext cx="2718720" cy="141192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p>
            <a:pPr marL="107280" indent="-107280">
              <a:lnSpc>
                <a:spcPct val="10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10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32200" indent="-89280">
              <a:lnSpc>
                <a:spcPct val="100000"/>
              </a:lnSpc>
              <a:spcBef>
                <a:spcPts val="18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9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9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57120" indent="-71280">
              <a:lnSpc>
                <a:spcPct val="100000"/>
              </a:lnSpc>
              <a:spcBef>
                <a:spcPts val="15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8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500040" indent="-71280">
              <a:lnSpc>
                <a:spcPct val="100000"/>
              </a:lnSpc>
              <a:spcBef>
                <a:spcPts val="119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6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6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642960" indent="-71280">
              <a:lnSpc>
                <a:spcPct val="100000"/>
              </a:lnSpc>
              <a:spcBef>
                <a:spcPts val="119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6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027520" y="23760"/>
            <a:ext cx="786600" cy="8964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4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4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121040" y="23760"/>
            <a:ext cx="906120" cy="8964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576160" y="2019960"/>
            <a:ext cx="237240" cy="7668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4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367D3C-1E19-4741-9019-1C2E2B766297}" type="slidenum">
              <a:rPr b="0" lang="ru-RU" sz="4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rsk_rayon_coa.gif" TargetMode="External"/><Relationship Id="rId2" Type="http://schemas.openxmlformats.org/officeDocument/2006/relationships/image" Target="../media/image4.gif"/><Relationship Id="rId3" Type="http://schemas.openxmlformats.org/officeDocument/2006/relationships/hyperlink" Target="http://ru.wikipedia.org/wiki/&#1060;&#1072;&#1081;&#1083;:Arsk_rayon_flag.gif" TargetMode="Externa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>
              <a:buNone/>
            </a:pPr>
            <a:endParaRPr b="0" lang="ru-RU" sz="11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" name="Picture 2" descr="C:\Documents and Settings\1\Рабочий стол\school-bg01.thumbnail[1].jpg"/>
          <p:cNvPicPr/>
          <p:nvPr/>
        </p:nvPicPr>
        <p:blipFill>
          <a:blip r:embed="rId1"/>
          <a:stretch/>
        </p:blipFill>
        <p:spPr>
          <a:xfrm>
            <a:off x="0" y="0"/>
            <a:ext cx="2862000" cy="21394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-162360" y="421920"/>
            <a:ext cx="3024000" cy="334440"/>
          </a:xfrm>
          <a:prstGeom prst="rect">
            <a:avLst/>
          </a:prstGeom>
          <a:noFill/>
          <a:ln w="0">
            <a:noFill/>
          </a:ln>
          <a:scene3d>
            <a:camera prst="orthographicFront">
              <a:rot lat="300000" lon="21299997" rev="600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Я</a:t>
            </a:r>
            <a:r>
              <a:rPr b="1" lang="tt-RU" sz="1600" spc="-1" strike="noStrike">
                <a:solidFill>
                  <a:srgbClr val="7030a0"/>
                </a:solidFill>
                <a:latin typeface="Times New Roman"/>
              </a:rPr>
              <a:t>ңа уку елы котлы булс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tt-RU" sz="900" spc="-1" strike="noStrike" cap="all">
                <a:solidFill>
                  <a:srgbClr val="7030a0"/>
                </a:solidFill>
                <a:latin typeface="Times New Roman"/>
              </a:rPr>
              <a:t>Арчада  әдәбият  һәм  сәнгат</a:t>
            </a:r>
            <a:r>
              <a:rPr b="1" lang="ru-RU" sz="900" spc="-1" strike="noStrike" cap="all">
                <a:solidFill>
                  <a:srgbClr val="7030a0"/>
                </a:solidFill>
                <a:latin typeface="Times New Roman"/>
              </a:rPr>
              <a:t>ь</a:t>
            </a:r>
            <a:r>
              <a:rPr b="1" lang="tt-RU" sz="900" spc="-1" strike="noStrike" cap="all">
                <a:solidFill>
                  <a:srgbClr val="7030a0"/>
                </a:solidFill>
                <a:latin typeface="Times New Roman"/>
              </a:rPr>
              <a:t> музее</a:t>
            </a:r>
            <a:endParaRPr b="0" lang="ru-RU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2" name="Содержимое 3" descr="Фрагмент экспозиции"/>
          <p:cNvPicPr/>
          <p:nvPr/>
        </p:nvPicPr>
        <p:blipFill>
          <a:blip r:embed="rId1"/>
          <a:stretch/>
        </p:blipFill>
        <p:spPr>
          <a:xfrm>
            <a:off x="1503000" y="781920"/>
            <a:ext cx="1223640" cy="1295640"/>
          </a:xfrm>
          <a:prstGeom prst="rect">
            <a:avLst/>
          </a:prstGeom>
          <a:ln w="9525">
            <a:noFill/>
          </a:ln>
        </p:spPr>
      </p:pic>
      <p:pic>
        <p:nvPicPr>
          <p:cNvPr id="83" name="Рисунок 5" descr="Арский музей литературы и искусства"/>
          <p:cNvPicPr/>
          <p:nvPr/>
        </p:nvPicPr>
        <p:blipFill>
          <a:blip r:embed="rId2"/>
          <a:stretch/>
        </p:blipFill>
        <p:spPr>
          <a:xfrm>
            <a:off x="63000" y="421920"/>
            <a:ext cx="1384200" cy="1645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tt-RU" sz="900" spc="-1" strike="noStrike" cap="all">
                <a:solidFill>
                  <a:srgbClr val="7030a0"/>
                </a:solidFill>
                <a:latin typeface="Times New Roman"/>
              </a:rPr>
              <a:t>Казан  арты  этнографик  музее</a:t>
            </a:r>
            <a:endParaRPr b="0" lang="ru-RU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3000" y="421920"/>
            <a:ext cx="1079640" cy="155664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1287000" y="1141920"/>
            <a:ext cx="1367640" cy="88596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1575000" y="421920"/>
            <a:ext cx="1066320" cy="712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>
              <a:buNone/>
            </a:pPr>
            <a:endParaRPr b="0" lang="ru-RU" sz="11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503000" y="709920"/>
            <a:ext cx="1210320" cy="122364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3000" y="421920"/>
            <a:ext cx="1295640" cy="129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tt-RU" sz="1100" spc="-1" strike="noStrike" cap="all">
                <a:solidFill>
                  <a:srgbClr val="7030a0"/>
                </a:solidFill>
                <a:latin typeface="Times New Roman"/>
              </a:rPr>
              <a:t>Советлар Союзы Геройлары</a:t>
            </a:r>
            <a:endParaRPr b="0" lang="ru-RU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2718720" cy="141192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3" name="Picture 5" descr="C:\Documents and Settings\1\Мои документы\Мои рисунки\сафиуллин.jpg"/>
          <p:cNvPicPr/>
          <p:nvPr/>
        </p:nvPicPr>
        <p:blipFill>
          <a:blip r:embed="rId1"/>
          <a:stretch/>
        </p:blipFill>
        <p:spPr>
          <a:xfrm>
            <a:off x="351000" y="565920"/>
            <a:ext cx="647640" cy="79164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279000" y="1357920"/>
            <a:ext cx="791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t-RU" sz="700" spc="-1" strike="noStrike">
                <a:solidFill>
                  <a:srgbClr val="000000"/>
                </a:solidFill>
                <a:latin typeface="Times New Roman"/>
              </a:rPr>
              <a:t>Сафиуллин Г.Б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1\Мои документы\Мои рисунки\соколов.jpg"/>
          <p:cNvPicPr/>
          <p:nvPr/>
        </p:nvPicPr>
        <p:blipFill>
          <a:blip r:embed="rId2"/>
          <a:stretch/>
        </p:blipFill>
        <p:spPr>
          <a:xfrm>
            <a:off x="1431000" y="493920"/>
            <a:ext cx="647640" cy="854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1"/>
          <p:cNvSpPr/>
          <p:nvPr/>
        </p:nvSpPr>
        <p:spPr>
          <a:xfrm>
            <a:off x="1287000" y="1357920"/>
            <a:ext cx="1439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Соколов Л.М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1\Мои документы\Мои рисунки\b5b2a5e6988fb51c9ebf1ab6bf320f63.gif"/>
          <p:cNvPicPr/>
          <p:nvPr/>
        </p:nvPicPr>
        <p:blipFill>
          <a:blip r:embed="rId3"/>
          <a:stretch/>
        </p:blipFill>
        <p:spPr>
          <a:xfrm>
            <a:off x="1431000" y="1285920"/>
            <a:ext cx="1430640" cy="100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>
              <a:buNone/>
            </a:pPr>
            <a:endParaRPr b="0" lang="ru-RU" sz="11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99" name="Picture 2" descr="C:\Documents and Settings\1\Мои документы\Мои рисунки\b5b2a5e6988fb51c9ebf1ab6bf320f63.gif"/>
          <p:cNvPicPr/>
          <p:nvPr/>
        </p:nvPicPr>
        <p:blipFill>
          <a:blip r:embed="rId1"/>
          <a:stretch/>
        </p:blipFill>
        <p:spPr>
          <a:xfrm>
            <a:off x="1359000" y="1213920"/>
            <a:ext cx="1430640" cy="100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1\Мои документы\Мои рисунки\салихов.jpg"/>
          <p:cNvPicPr/>
          <p:nvPr/>
        </p:nvPicPr>
        <p:blipFill>
          <a:blip r:embed="rId2"/>
          <a:stretch/>
        </p:blipFill>
        <p:spPr>
          <a:xfrm>
            <a:off x="1071000" y="421920"/>
            <a:ext cx="503640" cy="93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1\Мои документы\Мои рисунки\сафин.jpg"/>
          <p:cNvPicPr/>
          <p:nvPr/>
        </p:nvPicPr>
        <p:blipFill>
          <a:blip r:embed="rId3"/>
          <a:stretch/>
        </p:blipFill>
        <p:spPr>
          <a:xfrm>
            <a:off x="135000" y="637920"/>
            <a:ext cx="5310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1\Мои документы\Мои рисунки\ежков.jpg"/>
          <p:cNvPicPr/>
          <p:nvPr/>
        </p:nvPicPr>
        <p:blipFill>
          <a:blip r:embed="rId4"/>
          <a:stretch/>
        </p:blipFill>
        <p:spPr>
          <a:xfrm>
            <a:off x="2151360" y="205920"/>
            <a:ext cx="534600" cy="935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135000" y="1429920"/>
            <a:ext cx="807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Сафин Н.С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999000" y="1357920"/>
            <a:ext cx="876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" spc="-1" strike="noStrike">
                <a:solidFill>
                  <a:srgbClr val="000000"/>
                </a:solidFill>
                <a:latin typeface="Franklin Gothic Book"/>
              </a:rPr>
              <a:t>Салихов Г.С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2151360" y="1141920"/>
            <a:ext cx="1502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t-RU" sz="7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r>
              <a:rPr b="0" lang="ru-RU" sz="700" spc="-1" strike="noStrike">
                <a:solidFill>
                  <a:srgbClr val="000000"/>
                </a:solidFill>
                <a:latin typeface="Franklin Gothic Book"/>
              </a:rPr>
              <a:t>ж</a:t>
            </a:r>
            <a:r>
              <a:rPr b="0" lang="tt-RU" sz="700" spc="-1" strike="noStrike">
                <a:solidFill>
                  <a:srgbClr val="000000"/>
                </a:solidFill>
                <a:latin typeface="Franklin Gothic Book"/>
              </a:rPr>
              <a:t>ков В.Ф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picture"/>
          <p:cNvPicPr/>
          <p:nvPr/>
        </p:nvPicPr>
        <p:blipFill>
          <a:blip r:embed="rId1"/>
          <a:stretch/>
        </p:blipFill>
        <p:spPr>
          <a:xfrm>
            <a:off x="135000" y="493920"/>
            <a:ext cx="2592000" cy="1583640"/>
          </a:xfrm>
          <a:prstGeom prst="rect">
            <a:avLst/>
          </a:prstGeom>
          <a:ln w="9525">
            <a:solidFill>
              <a:srgbClr val="000000"/>
            </a:solidFill>
            <a:round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100" spc="-1" strike="noStrike" cap="all">
                <a:solidFill>
                  <a:srgbClr val="7030a0"/>
                </a:solidFill>
                <a:latin typeface="Times New Roman"/>
              </a:rPr>
              <a:t>Районыбыз буйлап сәяхәт</a:t>
            </a:r>
            <a:endParaRPr b="0" lang="ru-RU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2718720" cy="141192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picture"/>
          <p:cNvPicPr/>
          <p:nvPr/>
        </p:nvPicPr>
        <p:blipFill>
          <a:blip r:embed="rId1"/>
          <a:stretch/>
        </p:blipFill>
        <p:spPr>
          <a:xfrm>
            <a:off x="135000" y="477720"/>
            <a:ext cx="2664000" cy="1661760"/>
          </a:xfrm>
          <a:prstGeom prst="rect">
            <a:avLst/>
          </a:prstGeom>
          <a:ln w="9525">
            <a:solidFill>
              <a:srgbClr val="000000"/>
            </a:solidFill>
            <a:round/>
          </a:ln>
        </p:spPr>
      </p:pic>
      <p:sp>
        <p:nvSpPr>
          <p:cNvPr id="110" name="AutoShape 2"/>
          <p:cNvSpPr/>
          <p:nvPr/>
        </p:nvSpPr>
        <p:spPr>
          <a:xfrm>
            <a:off x="2095560" y="2060280"/>
            <a:ext cx="228960" cy="76680"/>
          </a:xfrm>
          <a:solidFill>
            <a:srgbClr val="ffff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>
              <a:buNone/>
            </a:pPr>
            <a:endParaRPr b="0" lang="ru-RU" sz="11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5400" y="421920"/>
            <a:ext cx="2718720" cy="7164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 fontScale="28000"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picture"/>
          <p:cNvPicPr/>
          <p:nvPr/>
        </p:nvPicPr>
        <p:blipFill>
          <a:blip r:embed="rId1"/>
          <a:stretch/>
        </p:blipFill>
        <p:spPr>
          <a:xfrm>
            <a:off x="135000" y="493920"/>
            <a:ext cx="2520000" cy="1583640"/>
          </a:xfrm>
          <a:prstGeom prst="rect">
            <a:avLst/>
          </a:prstGeom>
          <a:ln w="9525">
            <a:solidFill>
              <a:srgbClr val="000000"/>
            </a:solidFill>
            <a:round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>
              <a:buNone/>
            </a:pPr>
            <a:endParaRPr b="0" lang="ru-RU" sz="11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2718720" cy="8064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 fontScale="34000"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picture"/>
          <p:cNvPicPr/>
          <p:nvPr/>
        </p:nvPicPr>
        <p:blipFill>
          <a:blip r:embed="rId1"/>
          <a:stretch/>
        </p:blipFill>
        <p:spPr>
          <a:xfrm>
            <a:off x="135000" y="565920"/>
            <a:ext cx="2655000" cy="1451880"/>
          </a:xfrm>
          <a:prstGeom prst="rect">
            <a:avLst/>
          </a:prstGeom>
          <a:ln w="9525">
            <a:solidFill>
              <a:srgbClr val="000000"/>
            </a:solidFill>
            <a:round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>
              <a:buNone/>
            </a:pPr>
            <a:endParaRPr b="0" lang="ru-RU" sz="11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2718720" cy="141192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135000" y="781920"/>
            <a:ext cx="2574000" cy="1285560"/>
          </a:xfrm>
          <a:prstGeom prst="rect">
            <a:avLst/>
          </a:prstGeom>
          <a:ln w="9525">
            <a:solidFill>
              <a:srgbClr val="000000"/>
            </a:solidFill>
            <a:round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42300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100" spc="-1" strike="noStrike" cap="all">
                <a:solidFill>
                  <a:srgbClr val="7030a0"/>
                </a:solidFill>
                <a:latin typeface="Times New Roman"/>
              </a:rPr>
              <a:t>Данлы Арча-нурлы Арча</a:t>
            </a:r>
            <a:endParaRPr b="0" lang="ru-RU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400" y="421920"/>
            <a:ext cx="2718720" cy="14364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tt-RU" sz="1000" spc="-1" strike="noStrike" cap="all">
                <a:solidFill>
                  <a:srgbClr val="7030a0"/>
                </a:solidFill>
                <a:latin typeface="Times New Roman"/>
              </a:rPr>
              <a:t>Районның  гербы, флагы</a:t>
            </a:r>
            <a:endParaRPr b="0" lang="ru-RU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" name="Рисунок 3" descr="Герб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3000" y="565920"/>
            <a:ext cx="719640" cy="1050480"/>
          </a:xfrm>
          <a:prstGeom prst="rect">
            <a:avLst/>
          </a:prstGeom>
          <a:ln w="9525">
            <a:noFill/>
          </a:ln>
        </p:spPr>
      </p:pic>
      <p:pic>
        <p:nvPicPr>
          <p:cNvPr id="52" name="Содержимое 4" descr="Флаг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31000" y="709920"/>
            <a:ext cx="882000" cy="74052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900" spc="-1" strike="noStrike" cap="all">
                <a:solidFill>
                  <a:srgbClr val="7030a0"/>
                </a:solidFill>
                <a:latin typeface="Times New Roman"/>
              </a:rPr>
              <a:t>Халкыбыз</a:t>
            </a:r>
            <a:r>
              <a:rPr b="1" lang="tt-RU" sz="900" spc="-1" strike="noStrike" cap="all">
                <a:solidFill>
                  <a:srgbClr val="7030a0"/>
                </a:solidFill>
                <a:latin typeface="Times New Roman"/>
              </a:rPr>
              <a:t>ның милли баш һәм аяк киемнәре.</a:t>
            </a:r>
            <a:endParaRPr b="0" lang="ru-RU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" name="Picture 2" descr="picture"/>
          <p:cNvPicPr/>
          <p:nvPr/>
        </p:nvPicPr>
        <p:blipFill>
          <a:blip r:embed="rId1"/>
          <a:stretch/>
        </p:blipFill>
        <p:spPr>
          <a:xfrm>
            <a:off x="1647000" y="421920"/>
            <a:ext cx="1079640" cy="1717560"/>
          </a:xfrm>
          <a:prstGeom prst="rect">
            <a:avLst/>
          </a:prstGeom>
          <a:ln w="9525">
            <a:solidFill>
              <a:srgbClr val="000000"/>
            </a:solidFill>
            <a:round/>
          </a:ln>
        </p:spPr>
      </p:pic>
      <p:pic>
        <p:nvPicPr>
          <p:cNvPr id="55" name="Picture 2" descr="picture"/>
          <p:cNvPicPr/>
          <p:nvPr/>
        </p:nvPicPr>
        <p:blipFill>
          <a:blip r:embed="rId2"/>
          <a:stretch/>
        </p:blipFill>
        <p:spPr>
          <a:xfrm>
            <a:off x="63000" y="421920"/>
            <a:ext cx="1466280" cy="1223640"/>
          </a:xfrm>
          <a:prstGeom prst="rect">
            <a:avLst/>
          </a:prstGeom>
          <a:ln w="9525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tt-RU" sz="1100" spc="-1" strike="noStrike" cap="all">
                <a:solidFill>
                  <a:srgbClr val="7030a0"/>
                </a:solidFill>
                <a:latin typeface="Times New Roman"/>
              </a:rPr>
              <a:t>Социалистик Хезмәт Геройлары</a:t>
            </a:r>
            <a:endParaRPr b="0" lang="ru-RU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7" name="Picture 2" descr="C:\Documents and Settings\1\Мои документы\Мои рисунки\1.jpg"/>
          <p:cNvPicPr/>
          <p:nvPr/>
        </p:nvPicPr>
        <p:blipFill>
          <a:blip r:embed="rId1"/>
          <a:stretch/>
        </p:blipFill>
        <p:spPr>
          <a:xfrm>
            <a:off x="207000" y="709920"/>
            <a:ext cx="719640" cy="876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1\Мои документы\Мои рисунки\2.jpg"/>
          <p:cNvPicPr/>
          <p:nvPr/>
        </p:nvPicPr>
        <p:blipFill>
          <a:blip r:embed="rId2"/>
          <a:stretch/>
        </p:blipFill>
        <p:spPr>
          <a:xfrm>
            <a:off x="1071000" y="637920"/>
            <a:ext cx="719640" cy="88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1\Мои документы\Мои рисунки\3.jpg"/>
          <p:cNvPicPr/>
          <p:nvPr/>
        </p:nvPicPr>
        <p:blipFill>
          <a:blip r:embed="rId3"/>
          <a:stretch/>
        </p:blipFill>
        <p:spPr>
          <a:xfrm>
            <a:off x="1935360" y="421920"/>
            <a:ext cx="719640" cy="935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1"/>
          <p:cNvSpPr/>
          <p:nvPr/>
        </p:nvSpPr>
        <p:spPr>
          <a:xfrm>
            <a:off x="63000" y="1645920"/>
            <a:ext cx="935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Сәгъдуллин Ш.С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999000" y="1645920"/>
            <a:ext cx="1007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tt-RU" sz="700" spc="-1" strike="noStrike">
                <a:solidFill>
                  <a:srgbClr val="000000"/>
                </a:solidFill>
                <a:latin typeface="Times New Roman"/>
              </a:rPr>
              <a:t>әйхетдинов И.Г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1791000" y="1429920"/>
            <a:ext cx="1007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t-RU" sz="700" spc="-1" strike="noStrike">
                <a:solidFill>
                  <a:srgbClr val="000000"/>
                </a:solidFill>
                <a:latin typeface="Times New Roman"/>
              </a:rPr>
              <a:t>Габдрахманова С.З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1\Мои документы\Мои рисунки\150px-Serp_i_molot.jpg"/>
          <p:cNvPicPr/>
          <p:nvPr/>
        </p:nvPicPr>
        <p:blipFill>
          <a:blip r:embed="rId4"/>
          <a:stretch/>
        </p:blipFill>
        <p:spPr>
          <a:xfrm>
            <a:off x="2439360" y="1645920"/>
            <a:ext cx="359640" cy="41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000" y="13392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>
              <a:buNone/>
            </a:pPr>
            <a:endParaRPr b="0" lang="ru-RU" sz="11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5" name="Picture 2" descr="C:\Documents and Settings\1\Мои документы\Мои рисунки\5.jpg"/>
          <p:cNvPicPr/>
          <p:nvPr/>
        </p:nvPicPr>
        <p:blipFill>
          <a:blip r:embed="rId1"/>
          <a:stretch/>
        </p:blipFill>
        <p:spPr>
          <a:xfrm>
            <a:off x="135000" y="747000"/>
            <a:ext cx="719640" cy="886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Documents and Settings\1\Мои документы\Мои рисунки\4.jpg"/>
          <p:cNvPicPr/>
          <p:nvPr/>
        </p:nvPicPr>
        <p:blipFill>
          <a:blip r:embed="rId2"/>
          <a:stretch/>
        </p:blipFill>
        <p:spPr>
          <a:xfrm>
            <a:off x="2007360" y="42192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1\Мои документы\Мои рисунки\6.jpg"/>
          <p:cNvPicPr/>
          <p:nvPr/>
        </p:nvPicPr>
        <p:blipFill>
          <a:blip r:embed="rId3"/>
          <a:stretch/>
        </p:blipFill>
        <p:spPr>
          <a:xfrm>
            <a:off x="1119240" y="625320"/>
            <a:ext cx="622080" cy="887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63000" y="1717920"/>
            <a:ext cx="791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Галимова Д.</a:t>
            </a:r>
            <a:r>
              <a:rPr b="0" lang="tt-RU" sz="700" spc="-1" strike="noStrike">
                <a:solidFill>
                  <a:srgbClr val="000000"/>
                </a:solidFill>
                <a:latin typeface="Times New Roman"/>
              </a:rPr>
              <a:t>Һ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1071000" y="1501920"/>
            <a:ext cx="863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t-RU" sz="700" spc="-1" strike="noStrike">
                <a:solidFill>
                  <a:srgbClr val="000000"/>
                </a:solidFill>
                <a:latin typeface="Times New Roman"/>
              </a:rPr>
              <a:t>Хәстиев М.Һ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1791000" y="1285920"/>
            <a:ext cx="935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t-RU" sz="700" spc="-1" strike="noStrike">
                <a:solidFill>
                  <a:srgbClr val="000000"/>
                </a:solidFill>
                <a:latin typeface="Times New Roman"/>
              </a:rPr>
              <a:t>Әсхәдуллин Г.Ә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1\Мои документы\Мои рисунки\150px-Serp_i_molot.jpg"/>
          <p:cNvPicPr/>
          <p:nvPr/>
        </p:nvPicPr>
        <p:blipFill>
          <a:blip r:embed="rId4"/>
          <a:stretch/>
        </p:blipFill>
        <p:spPr>
          <a:xfrm>
            <a:off x="2367360" y="1645920"/>
            <a:ext cx="359640" cy="41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5400" y="61920"/>
            <a:ext cx="2718720" cy="28764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tt-RU" sz="900" spc="-1" strike="noStrike" cap="all">
                <a:solidFill>
                  <a:srgbClr val="7030a0"/>
                </a:solidFill>
                <a:latin typeface="Times New Roman"/>
              </a:rPr>
              <a:t>Со</a:t>
            </a:r>
            <a:r>
              <a:rPr b="1" lang="ru-RU" sz="900" spc="-1" strike="noStrike" cap="all">
                <a:solidFill>
                  <a:srgbClr val="7030a0"/>
                </a:solidFill>
                <a:latin typeface="Times New Roman"/>
              </a:rPr>
              <a:t>ц</a:t>
            </a:r>
            <a:r>
              <a:rPr b="1" lang="tt-RU" sz="900" spc="-1" strike="noStrike" cap="all">
                <a:solidFill>
                  <a:srgbClr val="7030a0"/>
                </a:solidFill>
                <a:latin typeface="Times New Roman"/>
              </a:rPr>
              <a:t>иалистик Хезмәт Геройлары аллеясы </a:t>
            </a:r>
            <a:r>
              <a:rPr b="1" lang="tt-RU" sz="800" spc="-1" strike="noStrike" cap="all">
                <a:solidFill>
                  <a:srgbClr val="7030a0"/>
                </a:solidFill>
                <a:latin typeface="Times New Roman"/>
              </a:rPr>
              <a:t>(2006 нчы ел)</a:t>
            </a:r>
            <a:endParaRPr b="0" lang="ru-RU" sz="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2718720" cy="141192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74" name="Picture 2" descr="picture"/>
          <p:cNvPicPr/>
          <p:nvPr/>
        </p:nvPicPr>
        <p:blipFill>
          <a:blip r:embed="rId1"/>
          <a:stretch/>
        </p:blipFill>
        <p:spPr>
          <a:xfrm>
            <a:off x="135000" y="421920"/>
            <a:ext cx="2592000" cy="1439640"/>
          </a:xfrm>
          <a:prstGeom prst="rect">
            <a:avLst/>
          </a:prstGeom>
          <a:ln w="9525">
            <a:solidFill>
              <a:srgbClr val="000000"/>
            </a:solidFill>
            <a:round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icture"/>
          <p:cNvPicPr/>
          <p:nvPr/>
        </p:nvPicPr>
        <p:blipFill>
          <a:blip r:embed="rId1"/>
          <a:stretch/>
        </p:blipFill>
        <p:spPr>
          <a:xfrm>
            <a:off x="135000" y="709920"/>
            <a:ext cx="2568240" cy="1352520"/>
          </a:xfrm>
          <a:prstGeom prst="rect">
            <a:avLst/>
          </a:prstGeom>
          <a:ln w="9525">
            <a:solidFill>
              <a:srgbClr val="000000"/>
            </a:solidFill>
            <a:round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tt-RU" sz="1000" spc="-1" strike="noStrike" cap="all">
                <a:solidFill>
                  <a:srgbClr val="7030a0"/>
                </a:solidFill>
                <a:latin typeface="Times New Roman"/>
              </a:rPr>
              <a:t>Язучылар  аллеясы</a:t>
            </a:r>
            <a:br>
              <a:rPr sz="900"/>
            </a:br>
            <a:r>
              <a:rPr b="1" lang="tt-RU" sz="900" spc="-1" strike="noStrike" cap="all">
                <a:solidFill>
                  <a:srgbClr val="7030a0"/>
                </a:solidFill>
                <a:latin typeface="Times New Roman"/>
              </a:rPr>
              <a:t>(2005 нче ел)</a:t>
            </a:r>
            <a:endParaRPr b="0" lang="ru-RU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5400" y="484920"/>
            <a:ext cx="2718720" cy="141192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400" y="142560"/>
            <a:ext cx="2718720" cy="26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14400" bIns="144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900" spc="-1" strike="noStrike" cap="all">
                <a:solidFill>
                  <a:srgbClr val="7030a0"/>
                </a:solidFill>
                <a:latin typeface="Times New Roman"/>
              </a:rPr>
              <a:t>Я</a:t>
            </a:r>
            <a:r>
              <a:rPr b="1" lang="tt-RU" sz="900" spc="-1" strike="noStrike" cap="all">
                <a:solidFill>
                  <a:srgbClr val="7030a0"/>
                </a:solidFill>
                <a:latin typeface="Times New Roman"/>
              </a:rPr>
              <a:t>ңа   </a:t>
            </a:r>
            <a:r>
              <a:rPr b="1" lang="ru-RU" sz="900" spc="-1" strike="noStrike" cap="all">
                <a:solidFill>
                  <a:srgbClr val="7030a0"/>
                </a:solidFill>
                <a:latin typeface="Times New Roman"/>
              </a:rPr>
              <a:t>Кырлайда  Г.Тукай     музее</a:t>
            </a:r>
            <a:endParaRPr b="0" lang="ru-RU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9" name="Picture 2" descr="C:\Documents and Settings\1\Мои документы\Мои рисунки\тукай.jpg"/>
          <p:cNvPicPr/>
          <p:nvPr/>
        </p:nvPicPr>
        <p:blipFill>
          <a:blip r:embed="rId1"/>
          <a:stretch/>
        </p:blipFill>
        <p:spPr>
          <a:xfrm>
            <a:off x="63000" y="421920"/>
            <a:ext cx="1295640" cy="163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503000" y="637920"/>
            <a:ext cx="1223640" cy="129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91</TotalTime>
  <Application>LibreOffice/7.4.7.2$Linux_X86_64 LibreOffice_project/40$Build-2</Application>
  <AppVersion>15.0000</AppVersion>
  <Words>94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4:51:48Z</dcterms:created>
  <dc:creator>1</dc:creator>
  <dc:description/>
  <dc:language>en-US</dc:language>
  <cp:lastModifiedBy>1</cp:lastModifiedBy>
  <dcterms:modified xsi:type="dcterms:W3CDTF">2011-03-16T16:51:22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8</vt:r8>
  </property>
</Properties>
</file>