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3.wmf" ContentType="image/x-wmf"/>
  <Override PartName="/ppt/media/image15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A504-9FEC-48DD-B2BE-A5827713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21FD-497D-4A09-BB9D-C67D2E43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17DA-79AF-447B-8130-D1CB26A1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69A-4055-4F9F-9778-6DD6DA72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96C7-7CAB-4C57-9E23-9B78299C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5C26-F8FB-4ADE-A2CF-93F5483A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F543-ADC4-4253-B31F-A58E1948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67F9-3D1D-47CB-958B-2DFF0E06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60DC-AF7D-4A20-A441-19E5AFFB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5F7B-4D3E-4A42-8BD6-CACFC93B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6287-D2FC-4899-BE34-708CFFA2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53B7-2F41-4C73-B6EF-B1D93ADA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74D6-5F47-41F2-80E0-44A2D849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B2E2-9073-461C-8F8E-77B1BF9D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579C-2430-4E83-BC59-E7F6513E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4CB3-32AC-4AE3-AAC1-750BC42C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9243-713E-419F-8BED-2DD6B4E5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10E-BDF1-4EE7-91B9-952863C9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2FF-51EF-40DB-93CE-992D7BD0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1F1-8C2E-4248-B362-6FFB1749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4B45-B246-42DD-8237-D1B4672F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79C-14AA-464C-A2C2-FE056C7B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2B7-6C1D-4D4A-B937-C2FD36AF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83A-688D-4A40-B6B5-483D7394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526A-A61A-4228-B1BF-F2A857C06B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446F-D168-4D48-803A-98B2AD2E05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C:\Documents and Settings\Елена\Application Data\Microsoft\Media Catalog\8026381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324000" y="836640"/>
            <a:ext cx="500364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ПЛАН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Цель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Моя родосло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3365640" y="189000"/>
            <a:ext cx="50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Моя родослов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3203640" y="4365720"/>
            <a:ext cx="500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РОДОСЛОВНАЯ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 – это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перечень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поколений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одного рода, устанавливающий происхождение и степень р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594da"/>
              </a:solidFill>
              <a:latin typeface="Calibri"/>
            </a:endParaRPr>
          </a:p>
        </p:txBody>
      </p:sp>
      <p:pic>
        <p:nvPicPr>
          <p:cNvPr id="149" name="Picture 4" descr="010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0" name="WordArt 5"/>
          <p:cNvSpPr txBox="1"/>
          <p:nvPr/>
        </p:nvSpPr>
        <p:spPr>
          <a:xfrm>
            <a:off x="228600" y="228600"/>
            <a:ext cx="86281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узья, знакомьтесь, это Я, а рядышком моя сестра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Picture 11" descr="C:\Documents and Settings\Елена\Application Data\Microsoft\Media Catalog\Фото0057.jpg"/>
          <p:cNvPicPr/>
          <p:nvPr/>
        </p:nvPicPr>
        <p:blipFill>
          <a:blip r:embed="rId2"/>
          <a:stretch/>
        </p:blipFill>
        <p:spPr>
          <a:xfrm>
            <a:off x="2411280" y="119700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7"/>
          <p:cNvSpPr/>
          <p:nvPr/>
        </p:nvSpPr>
        <p:spPr>
          <a:xfrm>
            <a:off x="3429000" y="4038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>
            <a:off x="1080" y="16002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Это я В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6248520" y="4191120"/>
            <a:ext cx="3085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ff"/>
                </a:solidFill>
                <a:latin typeface="Arial"/>
              </a:rPr>
              <a:t>Моя сестра Инна родилась 29.декабря 2008г в г.Мирны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ff"/>
                </a:solidFill>
                <a:latin typeface="Arial"/>
              </a:rPr>
              <a:t>Инна ходит в детский сад, любит рисовать,лепить, петь и танце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ff"/>
                </a:solidFill>
                <a:latin typeface="Arial"/>
              </a:rPr>
              <a:t>Мы всегда с ней играем вме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0" y="436572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ff"/>
                </a:solidFill>
                <a:latin typeface="Arial"/>
              </a:rPr>
              <a:t>Я Вика родилась 22.августа 2003г в г.Мирный. У меня очень много друзей.  Я очень люблю гулять и ходить в гости к дедушке бабуш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3" descr="C:\Documents and Settings\Елена\Application Data\Microsoft\Media Catalog\Зим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WordArt 74"/>
          <p:cNvSpPr txBox="1"/>
          <p:nvPr/>
        </p:nvSpPr>
        <p:spPr>
          <a:xfrm>
            <a:off x="2124000" y="228600"/>
            <a:ext cx="5040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ы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Rectangle 76"/>
          <p:cNvSpPr/>
          <p:nvPr/>
        </p:nvSpPr>
        <p:spPr>
          <a:xfrm>
            <a:off x="152280" y="1752480"/>
            <a:ext cx="807732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результате составления родословной я узнала очень много о прошлом нашей семьи кто были мои прадедушки и прабабушки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де они родились и жили, чем занимались, как кого зва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ие у них были нагр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52280" y="4076640"/>
            <a:ext cx="85345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Я поняла, чтобы понять свое происхождение, необходимо сделать каждому свою родословную , составить генеалогическое древо. И тогда откроется очень много интересного о прошлом  семьи, ведь мы  являемся продолжением своего 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C:\Documents and Settings\Елена\Application Data\Microsoft\Media Catalog\11934939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228600" y="142920"/>
            <a:ext cx="891540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Цель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1. Изучение истории своей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2. Составить родословную семьи и генеалогическое др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Познакомится  с историческими корнями своего 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4. Познакомиться с профессиями родителей и их достиж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250920" y="2708280"/>
            <a:ext cx="6842160" cy="29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1. Понять, что такое родосло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2. Получить знания о генеалогическом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дре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3. Узнать историю своей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8"/>
          <p:cNvGraphicFramePr/>
          <p:nvPr/>
        </p:nvGraphicFramePr>
        <p:xfrm>
          <a:off x="3581280" y="6553080"/>
          <a:ext cx="85248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6553080"/>
                    <a:ext cx="8524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13" descr="C:\Documents and Settings\Елена\Application Data\Microsoft\Media Catalog\Копия drevoШане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4"/>
          <p:cNvSpPr/>
          <p:nvPr/>
        </p:nvSpPr>
        <p:spPr>
          <a:xfrm>
            <a:off x="304920" y="609588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ГЕНЕАЛОГИЧЕСКОЕ ДРЕВО – это изображение истории род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виде разветвленного 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J03829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4419720" y="152280"/>
            <a:ext cx="43624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мейные истоки.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5320" y="321300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Прабабушка Лю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Зубова Любовь Никонор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4019400"/>
            <a:ext cx="441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ась 25 июля 1936г в г.Минеральные воды. В молодости работала почтальоном, а потом до пенсии на железной дороге провод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раждена  медалью за многолетний труд. Ей сейчас 75лет, живет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Ставроп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C:\Documents and Settings\Елена\Application Data\Microsoft\Media Catalog\Фото0154.jpg"/>
          <p:cNvPicPr/>
          <p:nvPr/>
        </p:nvPicPr>
        <p:blipFill>
          <a:blip r:embed="rId4"/>
          <a:stretch/>
        </p:blipFill>
        <p:spPr>
          <a:xfrm>
            <a:off x="4876920" y="1676520"/>
            <a:ext cx="3962160" cy="251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C:\Documents and Settings\Елена\Application Data\Microsoft\Media Catalog\SDC14535.JPG"/>
          <p:cNvPicPr/>
          <p:nvPr/>
        </p:nvPicPr>
        <p:blipFill>
          <a:blip r:embed="rId5"/>
          <a:stretch/>
        </p:blipFill>
        <p:spPr>
          <a:xfrm>
            <a:off x="152280" y="1522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47960" y="761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Calibri"/>
              </a:rPr>
              <a:t>Прабабушка Зина.</a:t>
            </a:r>
            <a:br>
              <a:rPr sz="1800"/>
            </a:br>
            <a:r>
              <a:rPr b="0" lang="ru-RU" sz="1800" spc="-1" strike="noStrike">
                <a:solidFill>
                  <a:srgbClr val="ff3300"/>
                </a:solidFill>
                <a:latin typeface="Calibri"/>
              </a:rPr>
              <a:t>Сафронова Зинаида Нил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5181480" y="4191120"/>
            <a:ext cx="363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ась 23 января 1938г 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Усть-уров. Еще ребенком начала работать в колхозе дояркой. В 1971г приехала в г.Мирный, где до пенсии работала комендантом общежитий АК «Алрос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9" descr="C:\Documents and Settings\Елена\Application Data\Microsoft\Media Catalog\100_17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30" descr="C:\Documents and Settings\Елена\Application Data\Microsoft\Media Catalog\100_1396.JPG"/>
          <p:cNvPicPr/>
          <p:nvPr/>
        </p:nvPicPr>
        <p:blipFill>
          <a:blip r:embed="rId2"/>
          <a:stretch/>
        </p:blipFill>
        <p:spPr>
          <a:xfrm>
            <a:off x="971640" y="549360"/>
            <a:ext cx="2538360" cy="2738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31" descr="C:\Documents and Settings\Елена\Application Data\Microsoft\Media Catalog\SDC14407.JPG"/>
          <p:cNvPicPr/>
          <p:nvPr/>
        </p:nvPicPr>
        <p:blipFill>
          <a:blip r:embed="rId3"/>
          <a:stretch/>
        </p:blipFill>
        <p:spPr>
          <a:xfrm>
            <a:off x="5791320" y="304920"/>
            <a:ext cx="2895480" cy="31240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32"/>
          <p:cNvSpPr/>
          <p:nvPr/>
        </p:nvSpPr>
        <p:spPr>
          <a:xfrm>
            <a:off x="3960" y="3505320"/>
            <a:ext cx="40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Прабабушка Ка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Коробко Капиталина Иннокент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33"/>
          <p:cNvSpPr/>
          <p:nvPr/>
        </p:nvSpPr>
        <p:spPr>
          <a:xfrm>
            <a:off x="5109120" y="350532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Прабабушка Ма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Голубева Мария Иннокент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34"/>
          <p:cNvSpPr/>
          <p:nvPr/>
        </p:nvSpPr>
        <p:spPr>
          <a:xfrm>
            <a:off x="0" y="4114800"/>
            <a:ext cx="403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лась 2.ноября1921г в г.Иркутс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я войны уводила школьников в укрытия от немцев, вела уроки у детей даже во время  боевы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ю жизнь проработала в школе учителем Химии и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абушка Капа прожила 78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35"/>
          <p:cNvSpPr/>
          <p:nvPr/>
        </p:nvSpPr>
        <p:spPr>
          <a:xfrm>
            <a:off x="5105520" y="4019400"/>
            <a:ext cx="363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лась 1.апреля1926г в п.Салдыкель Ленского рай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абушке Маше сейчас 85лет.Она живет в г.Ленс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ла в пекарне пекарем и до сих пор любит печь пироги да булочки. Имеет медали за доблесный труд во время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38098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Прадедушка Дима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Зубов Дмитрий Ивано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PH01239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5"/>
          <p:cNvSpPr txBox="1"/>
          <p:nvPr/>
        </p:nvSpPr>
        <p:spPr>
          <a:xfrm>
            <a:off x="457200" y="0"/>
            <a:ext cx="822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то  мои прадедуш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5029200" y="685800"/>
            <a:ext cx="37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адедушка Ми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афронов Михаил Ефрем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C:\Documents and Settings\Елена\Application Data\Microsoft\Media Catalog\Фото0146.jpg"/>
          <p:cNvPicPr/>
          <p:nvPr/>
        </p:nvPicPr>
        <p:blipFill>
          <a:blip r:embed="rId3"/>
          <a:stretch/>
        </p:blipFill>
        <p:spPr>
          <a:xfrm>
            <a:off x="4724280" y="12952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C:\Documents and Settings\Елена\Application Data\Microsoft\Media Catalog\SDC14687.JPG"/>
          <p:cNvPicPr/>
          <p:nvPr/>
        </p:nvPicPr>
        <p:blipFill>
          <a:blip r:embed="rId4"/>
          <a:stretch/>
        </p:blipFill>
        <p:spPr>
          <a:xfrm>
            <a:off x="304920" y="1447920"/>
            <a:ext cx="3581280" cy="2590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0"/>
          <p:cNvSpPr/>
          <p:nvPr/>
        </p:nvSpPr>
        <p:spPr>
          <a:xfrm>
            <a:off x="0" y="411480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лся 1.сентября1931г в г.Александрия в семье мельника. Был капитаном на военном корабле, ходил в плаванья по всему миру. Участвовал в спасении подводной лодки «Комсомолец». Имеет множество военных нагр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5105520" y="4419720"/>
            <a:ext cx="363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лся 23.ноября1938г в г.Ч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 армии приехал в г.Мирный, где до пенсии проработал энергетиком в        АК «Алроса». Любил ходить на охоту, был председателем общества охот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594da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1" descr="0094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20" name="WordArt 12"/>
          <p:cNvSpPr txBox="1"/>
          <p:nvPr/>
        </p:nvSpPr>
        <p:spPr>
          <a:xfrm>
            <a:off x="228600" y="457200"/>
            <a:ext cx="85345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аршое поколение моей  семь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Picture 13" descr="C:\Documents and Settings\Елена\Application Data\Microsoft\Media Catalog\IMAG0213.JPG"/>
          <p:cNvPicPr/>
          <p:nvPr/>
        </p:nvPicPr>
        <p:blipFill>
          <a:blip r:embed="rId2"/>
          <a:stretch/>
        </p:blipFill>
        <p:spPr>
          <a:xfrm>
            <a:off x="304920" y="14479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C:\Documents and Settings\Елена\Application Data\Microsoft\Media Catalog\IMAG0136.JPG"/>
          <p:cNvPicPr/>
          <p:nvPr/>
        </p:nvPicPr>
        <p:blipFill>
          <a:blip r:embed="rId3"/>
          <a:stretch/>
        </p:blipFill>
        <p:spPr>
          <a:xfrm>
            <a:off x="4495680" y="175248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1"/>
          <p:cNvSpPr/>
          <p:nvPr/>
        </p:nvSpPr>
        <p:spPr>
          <a:xfrm>
            <a:off x="5184000" y="1143000"/>
            <a:ext cx="33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Это я и мой дедушка Пет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убов Петр Дмитри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28600" y="4419720"/>
            <a:ext cx="363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Это я и моя бабушка 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Зубова Ирин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0" y="5105520"/>
            <a:ext cx="42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одилась 27.июля 1964г. в г.Ми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аботала на почте секретарем в данное время работает на руднике «Интернациональный» заведующей столовой. Очень любит свою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5105520" y="4843440"/>
            <a:ext cx="3638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одился 17.февраля1960г в г.Усть-джигута. В молодости приехал в г.Мирный, где устроился работать в УКС «КСМ».Начал с должности бетонщика до бригадира цеха.Является заслуженным ветераном труда и АК «Алрос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594da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IMGA018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9"/>
          <p:cNvSpPr/>
          <p:nvPr/>
        </p:nvSpPr>
        <p:spPr>
          <a:xfrm>
            <a:off x="108720" y="4941720"/>
            <a:ext cx="39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Дедушка (Петр Дмитриевич Зуб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2160" y="4581360"/>
            <a:ext cx="42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Бабушка (Ирина Михайловна Зуб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826920" y="18900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агали-шагали по жизненной дороге представи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таршего поколения моей семьи и дошли до серебряной свад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Хотите верьте, хотите нет, но говорят ,никогда не ссор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овет им да любов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14"/>
          <p:cNvSpPr txBox="1"/>
          <p:nvPr/>
        </p:nvSpPr>
        <p:spPr>
          <a:xfrm>
            <a:off x="250920" y="3860640"/>
            <a:ext cx="32414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25 лет ВМЕСТЕ</a:t>
            </a:r>
            <a:endParaRPr b="0" lang="en-US" sz="16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34" name="Picture 15" descr="C:\Documents and Settings\Елена\Application Data\Microsoft\Media Catalog\Фото0153.jpg"/>
          <p:cNvPicPr/>
          <p:nvPr/>
        </p:nvPicPr>
        <p:blipFill>
          <a:blip r:embed="rId3"/>
          <a:stretch/>
        </p:blipFill>
        <p:spPr>
          <a:xfrm>
            <a:off x="395280" y="1628640"/>
            <a:ext cx="3025800" cy="2194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Documents and Settings\Елена\Application Data\Microsoft\Media Catalog\IMAG0406.JPG"/>
          <p:cNvPicPr/>
          <p:nvPr/>
        </p:nvPicPr>
        <p:blipFill>
          <a:blip r:embed="rId4"/>
          <a:stretch/>
        </p:blipFill>
        <p:spPr>
          <a:xfrm>
            <a:off x="5362560" y="1341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10" descr=""/>
          <p:cNvPicPr/>
          <p:nvPr/>
        </p:nvPicPr>
        <p:blipFill>
          <a:blip r:embed="rId5"/>
          <a:stretch/>
        </p:blipFill>
        <p:spPr>
          <a:xfrm>
            <a:off x="5310360" y="3870360"/>
            <a:ext cx="3662280" cy="5922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11"/>
          <p:cNvSpPr/>
          <p:nvPr/>
        </p:nvSpPr>
        <p:spPr>
          <a:xfrm>
            <a:off x="4356000" y="4537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Дедушка (Анатолий Кузьмич Голуб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2"/>
          <p:cNvSpPr/>
          <p:nvPr/>
        </p:nvSpPr>
        <p:spPr>
          <a:xfrm>
            <a:off x="4284720" y="5013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Бабушка (Марина Викторовна Голубе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594da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narod_0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9"/>
          <p:cNvSpPr/>
          <p:nvPr/>
        </p:nvSpPr>
        <p:spPr>
          <a:xfrm>
            <a:off x="4320" y="838080"/>
            <a:ext cx="290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Моя Мама Л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олубева Елена Пет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C:\Documents and Settings\Елена\Application Data\Microsoft\Media Catalog\SDC12221.JPG"/>
          <p:cNvPicPr/>
          <p:nvPr/>
        </p:nvPicPr>
        <p:blipFill>
          <a:blip r:embed="rId2"/>
          <a:stretch/>
        </p:blipFill>
        <p:spPr>
          <a:xfrm>
            <a:off x="611280" y="1413000"/>
            <a:ext cx="2598480" cy="32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C:\Documents and Settings\Елена\Application Data\Microsoft\Media Catalog\SDC10595.JPG"/>
          <p:cNvPicPr/>
          <p:nvPr/>
        </p:nvPicPr>
        <p:blipFill>
          <a:blip r:embed="rId3"/>
          <a:stretch/>
        </p:blipFill>
        <p:spPr>
          <a:xfrm>
            <a:off x="5435640" y="1628640"/>
            <a:ext cx="2971800" cy="26672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0"/>
          <p:cNvSpPr/>
          <p:nvPr/>
        </p:nvSpPr>
        <p:spPr>
          <a:xfrm>
            <a:off x="5580000" y="907920"/>
            <a:ext cx="31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й Папа  Ю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убев Юрий Анато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22"/>
          <p:cNvSpPr txBox="1"/>
          <p:nvPr/>
        </p:nvSpPr>
        <p:spPr>
          <a:xfrm>
            <a:off x="762120" y="152280"/>
            <a:ext cx="7565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реднее поколение семья Голубевых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0" y="4648320"/>
            <a:ext cx="4076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одилась 23.мая 1984г в г.Мир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аботает в Центральной аптеке №66 фармацевтом в отделе готовых лекарственных фор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Мама любит встречать дома гостей,  моих друзей и подружек угощать их сладостями, которые делает с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4800600" y="4419720"/>
            <a:ext cx="4343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одился 15.октября 1982г в г.Ленс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аботает в ОАО АК «Якутскэнерго» ведущим инжене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 2009г занял 1-е место на конкурсе «Лидер-2009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2:12:43Z</dcterms:created>
  <dc:creator>User</dc:creator>
  <dc:description/>
  <dc:language>en-US</dc:language>
  <cp:lastModifiedBy>galieva</cp:lastModifiedBy>
  <dcterms:modified xsi:type="dcterms:W3CDTF">2012-02-10T05:21:58Z</dcterms:modified>
  <cp:revision>86</cp:revision>
  <dc:subject/>
  <dc:title>Слайд 1</dc:title>
</cp:coreProperties>
</file>