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521-2EC9-42BB-9B6B-5206E153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BCC-CE4F-48FD-96D5-3A13DCE0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8FA-F046-4957-997C-80E5CA5C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32F-30E5-4590-8616-E61ADB89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F896-376C-4F39-AC7A-76DC4137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4B24-4F6B-4429-91E4-573D152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B965-5F1B-4405-91F1-1A99C22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39CA-E040-488A-986F-8B3C1DE2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CEA-732C-4DED-AAC8-5BFB4F77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2F79-FE47-46B7-A420-0C49623F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8EC2-D90D-41A7-9612-4A27197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BC7-73A6-4468-864E-C0608D96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99F4-326C-4E7C-982C-E308BC5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3A3-11C3-4C23-97C1-B34AF0C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B410-6896-4296-A87F-39EE6CC9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6A0-E86B-4073-A066-C1C7AE22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17F3-C8F4-4A4A-AF5F-77B2524B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F79-EC9F-498B-B85B-70FA495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310-DBCD-4631-94E3-F9B0703E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012-C27D-484A-8D72-6F0584E6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037-998A-4000-8747-A52FF60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455-1487-4AB1-AAA7-1BE005F2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AC7-C7E6-4AC8-AB4E-136DECA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1DD-F9AD-49FC-96B9-03EBC84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709-D29E-436B-947F-559DFF4D11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78EC-279C-4244-AD0D-499DBD10FF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Times New Roman"/>
              </a:rPr>
              <a:t>Проверь себя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Мораль – это 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а) общепринятое представление о том, что хорошо, а что дурно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б) установленное самим человеком для себя представление о том, что хорошо, а что дурн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Совесть – это чувство ответственности за свое поведение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Руководствуясь совестью, человек судит о добром и злом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Times New Roman"/>
              </a:rPr>
              <a:t>Сравните следующие позици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. Нравственное поведение человека объясняется практической целесообразностью, житейским расчетом: человек поступает нравственно тогда, когда понимает, что ему это выгод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.  Житейская расчетливость – это уже не мораль, а практический расчет. Нравственные же поступки ценны сами по себе, без всякой выг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 какой позицией вы согласны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Какое суждение верно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Страх – чувство вредное, поскольку оно мешает человеку совершать достой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Страх никогда не мешает человеку совершать достой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рно толь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рно только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рно А и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верны оба су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Домашнее задание: п. 51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написать синквейн по тем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«Долг», «Совесть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Добрый поступок, совершенный в расчете на вознаграждение, не может считаться нравствен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105000"/>
            <a:ext cx="800748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) 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) н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Нравственные качества человека проявляются в связи с его поступками, действиям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3385800"/>
            <a:ext cx="800748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) 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) 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Человек определяется только врожденными качествам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6840" y="3385800"/>
            <a:ext cx="74883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) 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) 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Какое высказывание верно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) Только тогда станешь человеком, когда научишься видеть человека в друг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) Только тогда станешь человеком, когда научишься ко всему живому относиться по-человече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Тема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894040"/>
            <a:ext cx="80074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Долг и сове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Times New Roman"/>
              </a:rPr>
              <a:t>1. Долг связывает человека с другими людьми, с общество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3246120"/>
            <a:ext cx="8464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В долге различают две сторон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) долг обществе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) долг мораль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Общественный долг – это все объективные (независимые от нашего личного желания) обязанности, которые необходимо в жизни выполнят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773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Моральный долг не сводится к выполнению обязанностей, это высокоразвитое сознание, обеспечивающее добровольное исполнение долга, по внутреннему нравственному убеждению, из стремления сделать людям добро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dcterms:modified xsi:type="dcterms:W3CDTF">2011-12-04T17:51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