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B8C-F7C0-4D5F-8618-8B67F909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FFA-1D43-4766-BB2C-AC2DD4BF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9BD-A939-47A6-BD60-C1CC0336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3A1-894C-41AB-AF62-33BCD3C1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E465-4353-4682-A232-138DE28C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2BD-67CC-449F-8CE9-E1B3695B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1CBB-02E6-4DFB-B166-63B82F02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4735-D27F-4107-8222-13370A2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047-FCAD-48DB-A124-109196D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CF18-2891-4D86-B7CA-7DA0E063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958-378F-4C1F-9C68-EFB799EB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F99-82EF-4A30-8385-F2222BB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10E7-C995-4CA7-B37A-0A83421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AD2-5F4D-477E-A8BA-EE4EACD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6085-46C7-40FE-B4C0-8A7A107A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913-4724-45B2-B1D5-FD96AA1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5F9-FF6E-4456-A092-2D5C350A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16A-C5EE-47D9-AD9E-7EE6F8C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14E-D665-4155-820C-BA3B049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65B-C6ED-417C-BC51-180DAB8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2DD-293E-40D4-AE83-B3ECD37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810-3357-4E31-B6E4-3B7AC2A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DB7-62E1-4E6D-BCDE-E6678D2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C1F-0B20-4788-9650-685064C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7240" y="-27000"/>
            <a:ext cx="9259920" cy="6969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14734" t="0" r="5893" b="0"/>
          <a:stretch/>
        </p:blipFill>
        <p:spPr>
          <a:xfrm>
            <a:off x="0" y="0"/>
            <a:ext cx="3402000" cy="2879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831528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C5A-13FF-41DD-89C9-7E2CFF5E0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57240" y="-27000"/>
            <a:ext cx="9259920" cy="7299360"/>
            <a:chOff x="-57240" y="-27000"/>
            <a:chExt cx="9259920" cy="7299360"/>
          </a:xfrm>
        </p:grpSpPr>
        <p:grpSp>
          <p:nvGrpSpPr>
            <p:cNvPr id="45" name=""/>
            <p:cNvGrpSpPr/>
            <p:nvPr/>
          </p:nvGrpSpPr>
          <p:grpSpPr>
            <a:xfrm>
              <a:off x="-57240" y="-27000"/>
              <a:ext cx="9259920" cy="6969240"/>
              <a:chOff x="-57240" y="-27000"/>
              <a:chExt cx="9259920" cy="696924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57240" y="-27000"/>
                <a:ext cx="9259920" cy="696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rcRect l="14734" t="0" r="5893" b="0"/>
              <a:stretch/>
            </p:blipFill>
            <p:spPr>
              <a:xfrm>
                <a:off x="0" y="0"/>
                <a:ext cx="3402000" cy="287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" descr=""/>
            <p:cNvPicPr/>
            <p:nvPr/>
          </p:nvPicPr>
          <p:blipFill>
            <a:blip r:embed="rId4"/>
            <a:srcRect l="17471" t="0" r="17471" b="0"/>
            <a:stretch/>
          </p:blipFill>
          <p:spPr>
            <a:xfrm rot="5400000">
              <a:off x="3780000" y="2323080"/>
              <a:ext cx="5362560" cy="453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7548-42CA-476D-8A21-4AD9C34DA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7400" rIns="9000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7400" rIns="9000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traordinary mind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iographies.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300360" y="5589720"/>
            <a:ext cx="259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учебнику М.З.Биболет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515772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221000"/>
            <a:ext cx="3456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оу «Сош №1 г. Калининска Саратов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иссарова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What kind of information is there in a biography?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hoo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gs he/she is famou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of his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ing points of his/h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he/she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ew word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pension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rew ste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o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3933360"/>
            <a:ext cx="43210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. K. Brunel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872160" cy="5992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fton Suspension Brid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6120000" cy="458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99080" y="3500280"/>
            <a:ext cx="4444920" cy="317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Maidenhead Railway Brid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7777080" cy="1663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1082520"/>
            <a:ext cx="5616720" cy="3918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eat Western (1837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826160" cy="34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788000" cy="3579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eat Britain (1843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306440"/>
            <a:ext cx="5832360" cy="452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eat Eastern (1858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97800" cy="426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eat Western Railway (1833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680000" cy="539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3:57:33Z</dcterms:created>
  <dc:creator>1</dc:creator>
  <dc:description/>
  <dc:language>en-US</dc:language>
  <cp:lastModifiedBy>1</cp:lastModifiedBy>
  <dcterms:modified xsi:type="dcterms:W3CDTF">2012-02-09T20:39:19Z</dcterms:modified>
  <cp:revision>7</cp:revision>
  <dc:subject/>
  <dc:title>Extraordinary minds</dc:title>
</cp:coreProperties>
</file>