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.png" ContentType="image/png"/>
  <Override PartName="/ppt/media/image26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9.jpeg" ContentType="image/jpeg"/>
  <Override PartName="/ppt/media/image11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8.wmf" ContentType="image/x-wmf"/>
  <Override PartName="/ppt/media/image30.png" ContentType="image/png"/>
  <Override PartName="/ppt/media/image5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14B-01E3-4443-9860-15A747AF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750-C881-44EC-B558-799B0303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E27-5C5E-4C37-B1EA-57B9B9D3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2C9-4FFB-4B14-8566-34EB812F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183E-CF6E-435E-93E6-7490BAEF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C975-CB17-4868-B17F-39266F43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3B12-2E27-4DF6-B955-07E2D583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F835-0580-4303-9FEA-4AB1D52F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9754-FB7D-4B70-9138-E2FFDC1F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D54A-B35F-4028-ABA3-F3D8D142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FADE-9CC7-4128-A5B4-86436F9B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D05-1FA7-467C-AA77-A71B7514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F4F3-EFAF-4786-80E2-83B58E10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9051-6504-46E7-B72B-F0CF3EFB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5BF4-B855-4887-9B2A-95D97D94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333B-5B6C-4374-8A2D-D0442060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4498-2F2E-4BE2-9B69-1962839C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625B8-2A82-4BF2-8FBC-5065C084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904D8-306A-4509-8434-F9414537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5476-D6FF-419B-B0D6-52411EEB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AC8E1-22F9-4B08-B541-5D3C90BA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0243B-2D8A-4094-A491-AAEB6EFB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C85-0F16-4193-B1C5-6917F433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6B2DC-7A6A-421D-B8DE-1CB302FF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5C45A-9827-44E9-B3E3-9AF5EDE0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569C7-648E-4881-8F30-B1F924C2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BE9B-735B-484F-901D-1FB44F0A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4D868-7EDE-48B4-9FD8-F1AEEA91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AF8A2-1B74-42D3-B403-95DEF5DC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0DBA4-666B-45E2-B429-0D6BFA42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5C346-814A-4587-BCC8-EEB706CF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D283E-FD68-4012-8CF2-4EDFB711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FCB19-77AE-492D-B41E-5C7B54C6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A15-4068-484C-90A1-78815CE8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BA3CB-EA97-416D-A2F1-DBE8A78B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9B56-61DE-49E3-926C-8B48E2D4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085A2-541F-4647-BE24-22F00C84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33128-8DD5-49D8-9D4B-281B5873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95E18-428C-49E5-8625-2E1DD23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49D3E-4937-400B-8069-C9F18FBD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BFC65-7FF9-41A5-A104-6ED01A62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19A99-DD54-4E77-9234-EE6993FD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7C7F9-2E61-4D4A-8379-E89B71AE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C988B-2AC9-4D5A-8CBB-A9B148B3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47B-559E-4AEB-A6CF-BA689040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E8DB5-D1A6-4275-B92C-6CB4BEAB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23599-3AA9-4363-9C7B-DFBFC91C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4DAF4-3FC2-4028-9B8C-71BFA2E9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4F2BB-A147-4E9D-80D6-9D769269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87D26-08B8-4F5B-8329-FFF35248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577FE-8662-4B21-A2DA-935F3242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9D8E3-5598-4DAE-8EDC-813E281F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1ECD9-B1D2-405B-B0CF-2636C6E9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09C3E-7B4A-462D-8C2B-5F488732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28376-1EA0-4553-85A0-FB3AA5A9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A65-F936-478A-9E20-83EB7C98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991F7-5901-498F-B4EC-D3016168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161-4B79-4E29-9871-5DB479B6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F53-971C-458B-B4C8-BC952433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A4F1-DD3D-4D85-BB2C-DDBCD475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69BE-FDB1-40E3-9F39-A57EDAD2D8D4}" type="slidenum">
              <a:rPr b="0" lang="ru-RU" sz="1000" spc="-1" strike="noStrike">
                <a:solidFill>
                  <a:srgbClr val="9dad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86D2-22B3-4318-8D7A-A77C12EAD537}" type="slidenum">
              <a:rPr b="0" lang="ru-RU" sz="1000" spc="-1" strike="noStrike">
                <a:solidFill>
                  <a:srgbClr val="9dad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3A68-9B54-4CFA-A537-DF346582C943}" type="slidenum">
              <a:rPr b="0" lang="ru-RU" sz="1000" spc="-1" strike="noStrike">
                <a:solidFill>
                  <a:srgbClr val="9dad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DC0F-C939-4756-9231-E37805518DFE}" type="slidenum">
              <a:rPr b="0" lang="ru-RU" sz="1000" spc="-1" strike="noStrike">
                <a:solidFill>
                  <a:srgbClr val="9dad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2DA9-08E8-48F1-9F63-E3D255AE3E75}" type="slidenum">
              <a:rPr b="0" lang="ru-RU" sz="1000" spc="-1" strike="noStrike">
                <a:solidFill>
                  <a:srgbClr val="9dad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4" descr=""/>
          <p:cNvPicPr/>
          <p:nvPr/>
        </p:nvPicPr>
        <p:blipFill>
          <a:blip r:embed="rId1"/>
          <a:stretch/>
        </p:blipFill>
        <p:spPr>
          <a:xfrm>
            <a:off x="701640" y="706320"/>
            <a:ext cx="7577280" cy="1414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Кирилл\Desktop\НОУ_2011\картинки\65175485_1286818560_1.jpg"/>
          <p:cNvPicPr/>
          <p:nvPr/>
        </p:nvPicPr>
        <p:blipFill>
          <a:blip r:embed="rId2"/>
          <a:stretch/>
        </p:blipFill>
        <p:spPr>
          <a:xfrm>
            <a:off x="2071800" y="2286000"/>
            <a:ext cx="48132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C:\Users\Кирилл\Desktop\НОУ_2011\картинки\chicken_wings2.png"/>
          <p:cNvPicPr/>
          <p:nvPr/>
        </p:nvPicPr>
        <p:blipFill>
          <a:blip r:embed="rId1"/>
          <a:stretch/>
        </p:blipFill>
        <p:spPr>
          <a:xfrm>
            <a:off x="4357800" y="785880"/>
            <a:ext cx="2249280" cy="1800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Users\Кирилл\Desktop\НОУ_2011\картинки\20080818-fast-food.jpg"/>
          <p:cNvPicPr/>
          <p:nvPr/>
        </p:nvPicPr>
        <p:blipFill>
          <a:blip r:embed="rId2"/>
          <a:stretch/>
        </p:blipFill>
        <p:spPr>
          <a:xfrm>
            <a:off x="571680" y="928800"/>
            <a:ext cx="2768400" cy="1800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C:\Users\Кирилл\Desktop\НОУ_2011\картинки\greek.jpg"/>
          <p:cNvPicPr/>
          <p:nvPr/>
        </p:nvPicPr>
        <p:blipFill>
          <a:blip r:embed="rId3"/>
          <a:stretch/>
        </p:blipFill>
        <p:spPr>
          <a:xfrm>
            <a:off x="714240" y="400068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G:\газ.вода\coca-cola.jpg"/>
          <p:cNvPicPr/>
          <p:nvPr/>
        </p:nvPicPr>
        <p:blipFill>
          <a:blip r:embed="rId4"/>
          <a:stretch/>
        </p:blipFill>
        <p:spPr>
          <a:xfrm>
            <a:off x="4643280" y="3571920"/>
            <a:ext cx="1357560" cy="20718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6"/>
          <p:cNvSpPr/>
          <p:nvPr/>
        </p:nvSpPr>
        <p:spPr>
          <a:xfrm>
            <a:off x="6715080" y="2357280"/>
            <a:ext cx="85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206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3429000" y="1071720"/>
            <a:ext cx="85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1428840" y="2500200"/>
            <a:ext cx="85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0"/>
          <p:cNvSpPr/>
          <p:nvPr/>
        </p:nvSpPr>
        <p:spPr>
          <a:xfrm>
            <a:off x="3214800" y="4143240"/>
            <a:ext cx="85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1"/>
          <p:cNvSpPr/>
          <p:nvPr/>
        </p:nvSpPr>
        <p:spPr>
          <a:xfrm>
            <a:off x="4929120" y="2428920"/>
            <a:ext cx="85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2"/>
          <p:cNvSpPr/>
          <p:nvPr/>
        </p:nvSpPr>
        <p:spPr>
          <a:xfrm>
            <a:off x="7572240" y="2571840"/>
            <a:ext cx="123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190 к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3"/>
          <p:cNvSpPr/>
          <p:nvPr/>
        </p:nvSpPr>
        <p:spPr>
          <a:xfrm>
            <a:off x="1140840" y="5000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1,5 г. ж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4"/>
          <p:cNvSpPr/>
          <p:nvPr/>
        </p:nvSpPr>
        <p:spPr>
          <a:xfrm>
            <a:off x="4851000" y="42876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,3 г.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5"/>
          <p:cNvSpPr/>
          <p:nvPr/>
        </p:nvSpPr>
        <p:spPr>
          <a:xfrm>
            <a:off x="4643280" y="557208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7 г. сах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C:\Documents and Settings\Admin\Рабочий стол\НОУ\картинки\rostiks_kfc_longer_print.jpg"/>
          <p:cNvPicPr/>
          <p:nvPr/>
        </p:nvPicPr>
        <p:blipFill>
          <a:blip r:embed="rId1"/>
          <a:stretch/>
        </p:blipFill>
        <p:spPr>
          <a:xfrm>
            <a:off x="1071720" y="928800"/>
            <a:ext cx="6984720" cy="34923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5"/>
          <p:cNvSpPr/>
          <p:nvPr/>
        </p:nvSpPr>
        <p:spPr>
          <a:xfrm>
            <a:off x="726840" y="5072760"/>
            <a:ext cx="78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 113 г. содержится 230 ккал, из которых 80 приходится на ж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Documents and Settings\Admin\Рабочий стол\НОУ\картинки\09c5c6b4787d.jpg"/>
          <p:cNvPicPr/>
          <p:nvPr/>
        </p:nvPicPr>
        <p:blipFill>
          <a:blip r:embed="rId1"/>
          <a:stretch/>
        </p:blipFill>
        <p:spPr>
          <a:xfrm>
            <a:off x="2071800" y="500040"/>
            <a:ext cx="4794120" cy="36003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4"/>
          <p:cNvSpPr/>
          <p:nvPr/>
        </p:nvSpPr>
        <p:spPr>
          <a:xfrm>
            <a:off x="500040" y="4294800"/>
            <a:ext cx="8286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Заменители натуральных жиров — маргарины и кулинарные жир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которые содержат трансжиры, вызывающие болезни сердца и даже онкологически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В порции картофеля фри трансжиров может быть от 30% до 40%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Безопасная доза трансжиров – не более 1% от энергетической ценности всего раци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Documents and Settings\Admin\Рабочий стол\НОУ\картинки\379_barbequ.jpg"/>
          <p:cNvPicPr/>
          <p:nvPr/>
        </p:nvPicPr>
        <p:blipFill>
          <a:blip r:embed="rId1"/>
          <a:stretch/>
        </p:blipFill>
        <p:spPr>
          <a:xfrm>
            <a:off x="3286080" y="1785960"/>
            <a:ext cx="2884680" cy="21607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7"/>
          <p:cNvSpPr/>
          <p:nvPr/>
        </p:nvSpPr>
        <p:spPr>
          <a:xfrm>
            <a:off x="2928960" y="4500720"/>
            <a:ext cx="4572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-421 (Гуарова камедь)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 не всасывается в кишечнике и способствует уменьшению аппетита и очень эффективно снижает уровень холестерина и насыщенных жиров в организ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8"/>
          <p:cNvSpPr/>
          <p:nvPr/>
        </p:nvSpPr>
        <p:spPr>
          <a:xfrm>
            <a:off x="6572160" y="2357280"/>
            <a:ext cx="18576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-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зывает вздутие жив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>
            <a:off x="3643200" y="71424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-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ЦЕР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571680" y="1262160"/>
            <a:ext cx="257148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Е-6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Запрещен к использованию в детском пит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ри частом употреблении возможна постепенная утра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усовых ощущений из-за постепенного атрофирования вкусовых рецеп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.Вызывает постепенное привыкание к продук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Documents and Settings\Admin\Рабочий стол\НОУ\картинки\sandw_twister.jpg"/>
          <p:cNvPicPr/>
          <p:nvPr/>
        </p:nvPicPr>
        <p:blipFill>
          <a:blip r:embed="rId1"/>
          <a:stretch/>
        </p:blipFill>
        <p:spPr>
          <a:xfrm>
            <a:off x="642960" y="9288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C:\Documents and Settings\Admin\Рабочий стол\НОУ\картинки\RKFC_MB_PTst+stipsess.jpg"/>
          <p:cNvPicPr/>
          <p:nvPr/>
        </p:nvPicPr>
        <p:blipFill>
          <a:blip r:embed="rId2"/>
          <a:stretch/>
        </p:blipFill>
        <p:spPr>
          <a:xfrm>
            <a:off x="4714920" y="1214280"/>
            <a:ext cx="3600360" cy="360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C:\Documents and Settings\Admin\Рабочий стол\НОУ\картинки\snekboks.jpg"/>
          <p:cNvPicPr/>
          <p:nvPr/>
        </p:nvPicPr>
        <p:blipFill>
          <a:blip r:embed="rId3"/>
          <a:stretch/>
        </p:blipFill>
        <p:spPr>
          <a:xfrm>
            <a:off x="1143000" y="3286080"/>
            <a:ext cx="1787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Прямоугольник 4" descr=""/>
          <p:cNvPicPr/>
          <p:nvPr/>
        </p:nvPicPr>
        <p:blipFill>
          <a:blip r:embed="rId1"/>
          <a:stretch/>
        </p:blipFill>
        <p:spPr>
          <a:xfrm>
            <a:off x="1779480" y="609480"/>
            <a:ext cx="5224680" cy="4432320"/>
          </a:xfrm>
          <a:prstGeom prst="rect">
            <a:avLst/>
          </a:prstGeom>
          <a:ln w="0">
            <a:noFill/>
          </a:ln>
        </p:spPr>
      </p:pic>
      <p:sp>
        <p:nvSpPr>
          <p:cNvPr id="275" name="Не равно 7"/>
          <p:cNvSpPr/>
          <p:nvPr/>
        </p:nvSpPr>
        <p:spPr>
          <a:xfrm>
            <a:off x="3786120" y="2000160"/>
            <a:ext cx="1428840" cy="1000080"/>
          </a:xfrm>
          <a:prstGeom prst="pie">
            <a:avLst/>
          </a:prstGeom>
          <a:solidFill>
            <a:srgbClr val="7fd13b"/>
          </a:solidFill>
          <a:ln w="424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C:\Documents and Settings\Admin\Рабочий стол\НОУ\картинки\boy.gif"/>
          <p:cNvPicPr/>
          <p:nvPr/>
        </p:nvPicPr>
        <p:blipFill>
          <a:blip r:embed="rId2"/>
          <a:stretch/>
        </p:blipFill>
        <p:spPr>
          <a:xfrm>
            <a:off x="6643800" y="4000680"/>
            <a:ext cx="19540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0f155"/>
                </a:solidFill>
                <a:uFillTx/>
                <a:latin typeface="Verdana"/>
              </a:rPr>
              <a:t>Цель исследования: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28760" y="1428840"/>
            <a:ext cx="8229600" cy="102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тановить, является ли фаст-фуд здоровым питание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7" descr="C:\Users\Кирилл\Desktop\НОУ_2011\картинки\Mitochondria-and-healthy-diet1-520x300.jpg"/>
          <p:cNvPicPr/>
          <p:nvPr/>
        </p:nvPicPr>
        <p:blipFill>
          <a:blip r:embed="rId1"/>
          <a:stretch/>
        </p:blipFill>
        <p:spPr>
          <a:xfrm>
            <a:off x="1857240" y="2286000"/>
            <a:ext cx="5616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0f155"/>
                </a:solidFill>
                <a:uFillTx/>
                <a:latin typeface="Verdana"/>
              </a:rPr>
              <a:t>Задачи исследования:</a:t>
            </a:r>
            <a:endParaRPr b="1" lang="en-US" sz="32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400" y="1285920"/>
            <a:ext cx="8258040" cy="5038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понятия «здоровое питание» и «фаст-фуд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анкетирование среди учащихся нашей школы с целью выяснить, насколько часто они употребляют фаст-фуд и определить их любимые блю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составом блюд ресторана «Ростикс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F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процессом их пригото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как фаст-фуд влияет на организ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мероприятия по ознакомлению учащихся с высококалорийными продуктами и дать необходимые рекомендации по составлению суточного рациона пит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0f155"/>
                </a:solidFill>
                <a:uFillTx/>
                <a:latin typeface="Verdana"/>
              </a:rPr>
              <a:t>Методы исследования:</a:t>
            </a:r>
            <a:endParaRPr b="1" lang="en-US" sz="40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285920"/>
            <a:ext cx="8543880" cy="5038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Первый этап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анкетирование обучающихся «Фаст-фуд» с целью выяснить, насколько часто они употребляют фаст-фуд и определить их любимые блюд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торой этап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исследование состава блюд ресторана «Ростикс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KF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», процесса их приготовления и определение калорийности продукт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835e01"/>
                </a:solidFill>
                <a:uFillTx/>
                <a:latin typeface="Verdana"/>
              </a:rPr>
              <a:t>Материалы исследования:</a:t>
            </a:r>
            <a:r>
              <a:rPr b="1" lang="ru-RU" sz="1600" spc="-1" strike="noStrike">
                <a:solidFill>
                  <a:srgbClr val="835e01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40000"/>
              </a:lnSpc>
              <a:spcBef>
                <a:spcPts val="249"/>
              </a:spcBef>
              <a:buClr>
                <a:srgbClr val="feb80a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икетки соусов и припра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40000"/>
              </a:lnSpc>
              <a:spcBef>
                <a:spcPts val="249"/>
              </a:spcBef>
              <a:buClr>
                <a:srgbClr val="feb80a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еню ресторана «Ростикс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KF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»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40000"/>
              </a:lnSpc>
              <a:spcBef>
                <a:spcPts val="249"/>
              </a:spcBef>
              <a:buClr>
                <a:srgbClr val="feb80a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блицы калорийности продукт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" descr="D:\Картинки\Разные\Заставки\EXAMINE.WMF"/>
          <p:cNvPicPr/>
          <p:nvPr/>
        </p:nvPicPr>
        <p:blipFill>
          <a:blip r:embed="rId1"/>
          <a:stretch/>
        </p:blipFill>
        <p:spPr>
          <a:xfrm>
            <a:off x="500040" y="3214800"/>
            <a:ext cx="272268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C:\Users\Кирилл\Desktop\НОУ_2011\картинки\pishpir1.jpg_.jpg"/>
          <p:cNvPicPr/>
          <p:nvPr/>
        </p:nvPicPr>
        <p:blipFill>
          <a:blip r:embed="rId1"/>
          <a:stretch/>
        </p:blipFill>
        <p:spPr>
          <a:xfrm>
            <a:off x="2857680" y="3071880"/>
            <a:ext cx="3904920" cy="28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785880" y="1357200"/>
          <a:ext cx="7500960" cy="1712880"/>
        </p:xfrm>
        <a:graphic>
          <a:graphicData uri="http://schemas.openxmlformats.org/drawingml/2006/table">
            <a:tbl>
              <a:tblPr/>
              <a:tblGrid>
                <a:gridCol w="1135080"/>
                <a:gridCol w="1293840"/>
                <a:gridCol w="995400"/>
                <a:gridCol w="995040"/>
                <a:gridCol w="997200"/>
                <a:gridCol w="995400"/>
                <a:gridCol w="1089000"/>
              </a:tblGrid>
              <a:tr h="244440">
                <a:tc rowSpan="2"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оды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етическая цен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Дж (ккал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, 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ы, 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, 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живот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живот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1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251(245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4-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878(260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2" name="Прямоугольник 11" descr=""/>
          <p:cNvPicPr/>
          <p:nvPr/>
        </p:nvPicPr>
        <p:blipFill>
          <a:blip r:embed="rId2"/>
          <a:stretch/>
        </p:blipFill>
        <p:spPr>
          <a:xfrm>
            <a:off x="1206360" y="590400"/>
            <a:ext cx="694404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81118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рмин</a:t>
            </a:r>
            <a:r>
              <a:rPr b="0" lang="ru-RU" sz="3200" spc="-1" strike="noStrike">
                <a:solidFill>
                  <a:srgbClr val="05ff76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5ff76"/>
                </a:solidFill>
                <a:latin typeface="Verdana"/>
              </a:rPr>
              <a:t>«фаст-фуд» (англ. fast food)</a:t>
            </a:r>
            <a:r>
              <a:rPr b="1" lang="ru-RU" sz="3200" spc="-1" strike="noStrike">
                <a:solidFill>
                  <a:srgbClr val="007e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ыл впервые опубликован в 1951 году и обозначает перечень блюд быстрого приготовления, которые предлагают в специализированных кафе «быстрого питания».</a:t>
            </a:r>
            <a:br>
              <a:rPr sz="3200"/>
            </a:br>
            <a:endParaRPr b="1" lang="en-US" sz="3200" spc="-1" strike="noStrike">
              <a:solidFill>
                <a:srgbClr val="90f155"/>
              </a:solidFill>
              <a:latin typeface="Verdana"/>
            </a:endParaRPr>
          </a:p>
        </p:txBody>
      </p:sp>
      <p:pic>
        <p:nvPicPr>
          <p:cNvPr id="234" name="Picture 4" descr="C:\Documents and Settings\Admin\Рабочий стол\НОУ\картинки\img.jpeg"/>
          <p:cNvPicPr/>
          <p:nvPr/>
        </p:nvPicPr>
        <p:blipFill>
          <a:blip r:embed="rId1"/>
          <a:srcRect l="20504" t="34048" r="20750" b="12381"/>
          <a:stretch/>
        </p:blipFill>
        <p:spPr>
          <a:xfrm>
            <a:off x="6215040" y="3571920"/>
            <a:ext cx="2030400" cy="2160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C:\Documents and Settings\Admin\Рабочий стол\НОУ\картинки\images.jpeg"/>
          <p:cNvPicPr/>
          <p:nvPr/>
        </p:nvPicPr>
        <p:blipFill>
          <a:blip r:embed="rId2"/>
          <a:stretch/>
        </p:blipFill>
        <p:spPr>
          <a:xfrm>
            <a:off x="1428840" y="4071960"/>
            <a:ext cx="26668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0f155"/>
                </a:solidFill>
                <a:uFillTx/>
                <a:latin typeface="Verdana"/>
              </a:rPr>
              <a:t>Результаты исследования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pic>
        <p:nvPicPr>
          <p:cNvPr id="237" name="Содержимое 11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4000680" cy="30718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2"/>
          <p:cNvSpPr/>
          <p:nvPr/>
        </p:nvSpPr>
        <p:spPr>
          <a:xfrm>
            <a:off x="785880" y="178596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Часто ли Вы питаете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фаст-фуд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Диаграмма 5" descr=""/>
          <p:cNvPicPr/>
          <p:nvPr/>
        </p:nvPicPr>
        <p:blipFill>
          <a:blip r:embed="rId2"/>
          <a:stretch/>
        </p:blipFill>
        <p:spPr>
          <a:xfrm>
            <a:off x="4286160" y="2643120"/>
            <a:ext cx="4357800" cy="26431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4357800" y="160560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Разрешают ли Вам родители питаться фаст-фуд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Содержимое 11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4143600" cy="32148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12"/>
          <p:cNvSpPr/>
          <p:nvPr/>
        </p:nvSpPr>
        <p:spPr>
          <a:xfrm>
            <a:off x="571680" y="1143000"/>
            <a:ext cx="32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Какие сети быстрого питания в Омске вам извест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Диаграмма 5" descr=""/>
          <p:cNvPicPr/>
          <p:nvPr/>
        </p:nvPicPr>
        <p:blipFill>
          <a:blip r:embed="rId2"/>
          <a:stretch/>
        </p:blipFill>
        <p:spPr>
          <a:xfrm>
            <a:off x="4286160" y="2357280"/>
            <a:ext cx="4357800" cy="3000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4286160" y="1216800"/>
            <a:ext cx="40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Какие продукты чаще всего заказыв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Содержимое 11" descr=""/>
          <p:cNvPicPr/>
          <p:nvPr/>
        </p:nvPicPr>
        <p:blipFill>
          <a:blip r:embed="rId1"/>
          <a:stretch/>
        </p:blipFill>
        <p:spPr>
          <a:xfrm>
            <a:off x="214200" y="2071800"/>
            <a:ext cx="4572000" cy="31431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2"/>
          <p:cNvSpPr/>
          <p:nvPr/>
        </p:nvSpPr>
        <p:spPr>
          <a:xfrm>
            <a:off x="642960" y="85716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Как </a:t>
            </a:r>
            <a:r>
              <a:rPr b="1" lang="en-US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фаст-фуд влияет на организ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Диаграмма 5" descr=""/>
          <p:cNvPicPr/>
          <p:nvPr/>
        </p:nvPicPr>
        <p:blipFill>
          <a:blip r:embed="rId2"/>
          <a:stretch/>
        </p:blipFill>
        <p:spPr>
          <a:xfrm>
            <a:off x="4286160" y="2214720"/>
            <a:ext cx="4357800" cy="26431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4357800" y="72612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Фаст-фуд является основой здорового пит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8:53:55Z</dcterms:created>
  <dc:creator>Admin</dc:creator>
  <dc:description/>
  <dc:language>en-US</dc:language>
  <cp:lastModifiedBy>Кирилл</cp:lastModifiedBy>
  <dcterms:modified xsi:type="dcterms:W3CDTF">2012-02-10T06:46:05Z</dcterms:modified>
  <cp:revision>85</cp:revision>
  <dc:subject/>
  <dc:title>Слайд 1</dc:title>
</cp:coreProperties>
</file>