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31D-285B-4039-8E4A-39A350AE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CB2-2A0D-4B87-B863-00D2E20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933-52EC-4276-B86F-6F59CC4B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24D-9AA2-49F3-9B5F-46C2CB0C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6A3-A39C-4381-9256-E1B9A1D4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045-DC6B-48D2-A3FB-E12C933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54F-09D2-4672-B991-0199310F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4F9-4829-4FA8-8A9F-09C7F73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AB3-2C31-44B5-B94B-2A572DDD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DBA-DB3C-438A-B70B-21C82F5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4D6-B964-42B5-AE64-AF0718E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7A7-62AF-4980-9DE6-AB43674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EAA8-B3D4-4FB9-9B03-23277F38C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noré de Balz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ласова Елена Юр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 № 282 Кировского р-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500360" cy="614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286240" y="428760"/>
            <a:ext cx="3400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Honoré de Balz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est m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le 18 août 1850, 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est enterré à Par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au cimetiè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Calibri"/>
              </a:rPr>
              <a:t>du Père - Lacha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Honoré de Balzac est un grand écrivain français du XIX sièc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Il est aus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dramaturg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journalist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imprimeu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critique littérai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30360" y="1600200"/>
            <a:ext cx="369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714560" y="428400"/>
            <a:ext cx="4281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Honoré de Balza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 né le 20 mai 179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France à To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t le fi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Bernard François Bals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dministra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l’hospice de Tou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de Laure Sallamb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t l’aîné des quatre enfants du cou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42145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48320" y="142920"/>
            <a:ext cx="40384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4a452a"/>
                </a:solidFill>
                <a:latin typeface="Calibri"/>
              </a:rPr>
              <a:t>En 1815 la famille              s’installe à Paris.</a:t>
            </a:r>
            <a:r>
              <a:rPr b="1" lang="fr-FR" sz="2800" spc="-1" strike="noStrike">
                <a:solidFill>
                  <a:srgbClr val="4a452a"/>
                </a:solidFill>
                <a:latin typeface="Calibri"/>
              </a:rPr>
              <a:t> Le 4 novembre1816, Honoré de Balzac s’inscrit en droit pour obtenir le diplôme  trois ans plus tard, en 181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4a452a"/>
                </a:solidFill>
                <a:latin typeface="Calibri"/>
              </a:rPr>
              <a:t>En même temp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1" lang="fr-FR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4a452a"/>
                </a:solidFill>
                <a:latin typeface="Calibri"/>
              </a:rPr>
              <a:t>il prend des leçons particulières et suit des cours à la Sorbonne ou il étudie la philosophi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71680" y="3841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rtrait d’Honoré de Balzac vers 1825, attribué à Achille Devér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403884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2920" y="571320"/>
            <a:ext cx="4038840" cy="55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jeune homme exer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métier de clerc de notaire, puis il abandonne cette carrière pour la littéra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dmirateur de Walter Scott, le jeune Balzac s’efforce de l’imiter avec des romans historiques, il écrit aussi  les romans d’aventures. Il n’a pas eu de  grand succè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785760" y="500040"/>
            <a:ext cx="4900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Il tente la for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en diverses entreprises commerciales et industrielles chimériq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Il ne réussit p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Il fait beaucoup de det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286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840" y="500040"/>
            <a:ext cx="4357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rès cette faillite, Balzac revient à l’écritur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y connaître enf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uccès en 1829 av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hysiologie du mariag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qui fait partie des « études analytiques 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714480" y="428760"/>
            <a:ext cx="4971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1831-1850 Balzac cré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e oeuvre monumenta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édie huma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travaille 16 heures par j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fait une série de 92 rom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zac a créé en tout plus de 2000 personnag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’écrivain a montré toute la société de son te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6600" y="500040"/>
            <a:ext cx="344952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omédie humaine- cycle romanesque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(1831-1850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es Choua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2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a Peau de chagri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Eugénie Grande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e Père Gorio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e Colonel Chaber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e Lys dans la vallé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Illusions perdue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( 1837 - 184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Splendeurs et misères des courtisane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1838-18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308240" y="2657520"/>
            <a:ext cx="2336760" cy="241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14280" y="2643120"/>
            <a:ext cx="2337120" cy="241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3786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6:36:16Z</dcterms:created>
  <dc:creator>belka</dc:creator>
  <dc:description/>
  <dc:language>en-US</dc:language>
  <cp:lastModifiedBy>Мама</cp:lastModifiedBy>
  <dcterms:modified xsi:type="dcterms:W3CDTF">2012-02-10T20:12:20Z</dcterms:modified>
  <cp:revision>28</cp:revision>
  <dc:subject/>
  <dc:title>Honoré de Balzac</dc:title>
</cp:coreProperties>
</file>