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ADB8-0F81-40B3-80EA-5F953DCB2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54D6-2693-4BE6-8CD5-1EA856AB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E39B-0CBB-4149-911D-1AF05F3C8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D643-DC93-48DD-9AC7-D24CF676E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EF09-0A2D-4A02-9366-F7B5B53C7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01CEE-C493-4C40-970A-F743E0E3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D8E1-5509-4034-B9B4-181C85AE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1F64-5B30-471A-AD9E-F720F5DA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A59A-2BFB-488B-99DA-56C009CB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92C5C-61E4-4E9C-A83F-D92C80B5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4159-9138-450C-A127-2A36259F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DF51-1AEE-47C3-B35A-C3694942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733B-490F-48D9-96E5-BC8BD9FA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5C6B-A8E4-4182-B5B3-2E902C72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68E8-E77D-4C46-A94D-C8EAA279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AF73-39B3-4EF9-AC60-A4547EB6D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96AE-6B69-4A2D-9658-E02ED24ED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3B19-FF3A-4023-BEA0-05D1F0F2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04EE-F8CC-4E85-A25F-8EC560B1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30F7-F227-4BEE-8EA3-06996FBF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88D4-6D81-4000-9674-35FBFDC2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8A21-31A1-40C5-8BF6-6BAD79D6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625A-F6C9-44CE-BDB4-482BA825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C17E-53BE-4F7A-A51F-4835ABF4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A88F-3D9C-4D0E-B23C-4EEA98E5B3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3B46-F772-487F-9380-0950EA7D28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69608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Использование технологии проектного обучения на уроках русского языка, литературы и во внеурочной деятельности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304920" y="3885840"/>
            <a:ext cx="86104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Учитель русского языка и литературы МБОУ лицея №1 г. Волжского Волгоградской области Резцова Нина Сергеевна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00"/>
                </a:solidFill>
                <a:latin typeface="Arial"/>
              </a:rPr>
              <a:t>Создание проблемно-мотивационной среды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4"/>
          <p:cNvSpPr/>
          <p:nvPr/>
        </p:nvSpPr>
        <p:spPr>
          <a:xfrm>
            <a:off x="1600200" y="762120"/>
            <a:ext cx="0" cy="990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152280" y="1752480"/>
            <a:ext cx="25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искусс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6"/>
          <p:cNvSpPr/>
          <p:nvPr/>
        </p:nvSpPr>
        <p:spPr>
          <a:xfrm>
            <a:off x="3505320" y="685800"/>
            <a:ext cx="0" cy="2209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2666880" y="2855880"/>
            <a:ext cx="237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олевая иг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8"/>
          <p:cNvSpPr/>
          <p:nvPr/>
        </p:nvSpPr>
        <p:spPr>
          <a:xfrm>
            <a:off x="5638680" y="762120"/>
            <a:ext cx="0" cy="1600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4419720" y="2398680"/>
            <a:ext cx="278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вристическ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есе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10"/>
          <p:cNvSpPr/>
          <p:nvPr/>
        </p:nvSpPr>
        <p:spPr>
          <a:xfrm>
            <a:off x="8001000" y="762120"/>
            <a:ext cx="0" cy="1371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1"/>
          <p:cNvSpPr/>
          <p:nvPr/>
        </p:nvSpPr>
        <p:spPr>
          <a:xfrm>
            <a:off x="7010280" y="220968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ругл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то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990720" y="2630520"/>
            <a:ext cx="175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озговой штур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14"/>
          <p:cNvSpPr/>
          <p:nvPr/>
        </p:nvSpPr>
        <p:spPr>
          <a:xfrm flipH="1">
            <a:off x="2133360" y="838080"/>
            <a:ext cx="75960" cy="1828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_s37910"/>
          <p:cNvSpPr/>
          <p:nvPr/>
        </p:nvSpPr>
        <p:spPr>
          <a:xfrm flipH="1" flipV="1">
            <a:off x="2558520" y="2862360"/>
            <a:ext cx="986040" cy="225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_s37909"/>
          <p:cNvSpPr/>
          <p:nvPr/>
        </p:nvSpPr>
        <p:spPr>
          <a:xfrm>
            <a:off x="304920" y="1900080"/>
            <a:ext cx="2303280" cy="1452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троль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_s37914"/>
          <p:cNvSpPr/>
          <p:nvPr/>
        </p:nvSpPr>
        <p:spPr>
          <a:xfrm flipH="1">
            <a:off x="3312720" y="3906720"/>
            <a:ext cx="609480" cy="590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_s37913"/>
          <p:cNvSpPr/>
          <p:nvPr/>
        </p:nvSpPr>
        <p:spPr>
          <a:xfrm>
            <a:off x="1658880" y="4357800"/>
            <a:ext cx="2081160" cy="1466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зента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ион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_s37912"/>
          <p:cNvSpPr/>
          <p:nvPr/>
        </p:nvSpPr>
        <p:spPr>
          <a:xfrm>
            <a:off x="5145120" y="3906720"/>
            <a:ext cx="612720" cy="590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_s37911"/>
          <p:cNvSpPr/>
          <p:nvPr/>
        </p:nvSpPr>
        <p:spPr>
          <a:xfrm>
            <a:off x="5327640" y="4357800"/>
            <a:ext cx="2081160" cy="1466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кти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_s37908"/>
          <p:cNvSpPr/>
          <p:nvPr/>
        </p:nvSpPr>
        <p:spPr>
          <a:xfrm flipV="1">
            <a:off x="5522760" y="2860200"/>
            <a:ext cx="989280" cy="227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_s37907"/>
          <p:cNvSpPr/>
          <p:nvPr/>
        </p:nvSpPr>
        <p:spPr>
          <a:xfrm>
            <a:off x="6459480" y="1900080"/>
            <a:ext cx="2081160" cy="1465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алити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ск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_s37906"/>
          <p:cNvSpPr/>
          <p:nvPr/>
        </p:nvSpPr>
        <p:spPr>
          <a:xfrm flipV="1">
            <a:off x="4533840" y="1848960"/>
            <a:ext cx="1800" cy="731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_s37905"/>
          <p:cNvSpPr/>
          <p:nvPr/>
        </p:nvSpPr>
        <p:spPr>
          <a:xfrm>
            <a:off x="3494160" y="382680"/>
            <a:ext cx="2081160" cy="1466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исков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_s37904"/>
          <p:cNvSpPr/>
          <p:nvPr/>
        </p:nvSpPr>
        <p:spPr>
          <a:xfrm>
            <a:off x="3276720" y="2581200"/>
            <a:ext cx="2298600" cy="1457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ап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д проект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27"/>
          <p:cNvSpPr/>
          <p:nvPr/>
        </p:nvSpPr>
        <p:spPr>
          <a:xfrm>
            <a:off x="5562720" y="1219320"/>
            <a:ext cx="1218960" cy="838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28"/>
          <p:cNvSpPr/>
          <p:nvPr/>
        </p:nvSpPr>
        <p:spPr>
          <a:xfrm flipH="1">
            <a:off x="6781320" y="3429000"/>
            <a:ext cx="685800" cy="99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29"/>
          <p:cNvSpPr/>
          <p:nvPr/>
        </p:nvSpPr>
        <p:spPr>
          <a:xfrm flipH="1">
            <a:off x="3733560" y="5181480"/>
            <a:ext cx="1600200" cy="76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30"/>
          <p:cNvSpPr/>
          <p:nvPr/>
        </p:nvSpPr>
        <p:spPr>
          <a:xfrm flipH="1" flipV="1">
            <a:off x="1600200" y="3352320"/>
            <a:ext cx="380880" cy="1219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32"/>
          <p:cNvSpPr/>
          <p:nvPr/>
        </p:nvSpPr>
        <p:spPr>
          <a:xfrm flipV="1">
            <a:off x="2133720" y="1219320"/>
            <a:ext cx="1371600" cy="7617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68" name="_s38924"/>
          <p:cNvCxnSpPr>
            <a:stCxn id="269" idx="1"/>
            <a:endCxn id="270" idx="2"/>
          </p:cNvCxnSpPr>
          <p:nvPr/>
        </p:nvCxnSpPr>
        <p:spPr>
          <a:xfrm rot="10800000">
            <a:off x="2742480" y="978840"/>
            <a:ext cx="915120" cy="39200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71" name="_s38923"/>
          <p:cNvCxnSpPr>
            <a:stCxn id="272" idx="1"/>
            <a:endCxn id="270" idx="2"/>
          </p:cNvCxnSpPr>
          <p:nvPr/>
        </p:nvCxnSpPr>
        <p:spPr>
          <a:xfrm rot="10800000">
            <a:off x="2742480" y="979560"/>
            <a:ext cx="915120" cy="244980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73" name="_s38922"/>
          <p:cNvCxnSpPr>
            <a:stCxn id="274" idx="1"/>
            <a:endCxn id="270" idx="2"/>
          </p:cNvCxnSpPr>
          <p:nvPr/>
        </p:nvCxnSpPr>
        <p:spPr>
          <a:xfrm rot="10800000">
            <a:off x="2742480" y="978840"/>
            <a:ext cx="915120" cy="980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270" name="_s38918"/>
          <p:cNvSpPr/>
          <p:nvPr/>
        </p:nvSpPr>
        <p:spPr>
          <a:xfrm>
            <a:off x="0" y="0"/>
            <a:ext cx="5486400" cy="9795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Виды проек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(по доминирующей деятельност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_s38919"/>
          <p:cNvSpPr/>
          <p:nvPr/>
        </p:nvSpPr>
        <p:spPr>
          <a:xfrm>
            <a:off x="3657600" y="1469880"/>
            <a:ext cx="5486400" cy="9795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актико-ориентирова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словарики, таблицы, газеты и т.д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_s38920"/>
          <p:cNvSpPr/>
          <p:nvPr/>
        </p:nvSpPr>
        <p:spPr>
          <a:xfrm>
            <a:off x="3657600" y="2938320"/>
            <a:ext cx="5486400" cy="981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ворческие (инсценировки, сочинени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казки, сценари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_s38921"/>
          <p:cNvSpPr/>
          <p:nvPr/>
        </p:nvSpPr>
        <p:spPr>
          <a:xfrm>
            <a:off x="3657600" y="4408560"/>
            <a:ext cx="5486400" cy="9795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гровые (игр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_s38925"/>
          <p:cNvSpPr/>
          <p:nvPr/>
        </p:nvSpPr>
        <p:spPr>
          <a:xfrm>
            <a:off x="3657600" y="5878440"/>
            <a:ext cx="5486400" cy="9795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сследовательск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научно-исследовательские работ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4876920"/>
            <a:ext cx="0" cy="1523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43200" y="6400800"/>
            <a:ext cx="9144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Алгоритм проектной деятельности в творческом проект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7"/>
          <p:cNvSpPr/>
          <p:nvPr/>
        </p:nvSpPr>
        <p:spPr>
          <a:xfrm>
            <a:off x="6095880" y="2133720"/>
            <a:ext cx="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_s39958"/>
          <p:cNvSpPr/>
          <p:nvPr/>
        </p:nvSpPr>
        <p:spPr>
          <a:xfrm>
            <a:off x="3417840" y="1886040"/>
            <a:ext cx="2308320" cy="1292040"/>
          </a:xfrm>
          <a:prstGeom prst="pi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_s39959"/>
          <p:cNvSpPr/>
          <p:nvPr/>
        </p:nvSpPr>
        <p:spPr>
          <a:xfrm rot="2400000">
            <a:off x="5866920" y="2285640"/>
            <a:ext cx="2306880" cy="1292400"/>
          </a:xfrm>
          <a:prstGeom prst="pi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_s39961"/>
          <p:cNvSpPr/>
          <p:nvPr/>
        </p:nvSpPr>
        <p:spPr>
          <a:xfrm rot="4800000">
            <a:off x="6146640" y="4215960"/>
            <a:ext cx="1290600" cy="2306880"/>
          </a:xfrm>
          <a:prstGeom prst="pi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_s39964"/>
          <p:cNvSpPr/>
          <p:nvPr/>
        </p:nvSpPr>
        <p:spPr>
          <a:xfrm rot="8173800">
            <a:off x="4723920" y="4343040"/>
            <a:ext cx="1292400" cy="2308320"/>
          </a:xfrm>
          <a:prstGeom prst="pi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_s39966"/>
          <p:cNvSpPr/>
          <p:nvPr/>
        </p:nvSpPr>
        <p:spPr>
          <a:xfrm rot="10168800">
            <a:off x="2666880" y="5104800"/>
            <a:ext cx="2308320" cy="1292040"/>
          </a:xfrm>
          <a:prstGeom prst="pi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_s39968"/>
          <p:cNvSpPr/>
          <p:nvPr/>
        </p:nvSpPr>
        <p:spPr>
          <a:xfrm rot="12000000">
            <a:off x="457200" y="4952520"/>
            <a:ext cx="2308320" cy="1292400"/>
          </a:xfrm>
          <a:prstGeom prst="pi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_s39970"/>
          <p:cNvSpPr/>
          <p:nvPr/>
        </p:nvSpPr>
        <p:spPr>
          <a:xfrm rot="14400000">
            <a:off x="1041120" y="3149640"/>
            <a:ext cx="1292400" cy="2307960"/>
          </a:xfrm>
          <a:prstGeom prst="pi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_s39972"/>
          <p:cNvSpPr/>
          <p:nvPr/>
        </p:nvSpPr>
        <p:spPr>
          <a:xfrm rot="16800000">
            <a:off x="1269720" y="2539800"/>
            <a:ext cx="1290600" cy="2306520"/>
          </a:xfrm>
          <a:prstGeom prst="pi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_s39974"/>
          <p:cNvSpPr/>
          <p:nvPr/>
        </p:nvSpPr>
        <p:spPr>
          <a:xfrm rot="19200000">
            <a:off x="990720" y="2057040"/>
            <a:ext cx="2306520" cy="1292400"/>
          </a:xfrm>
          <a:prstGeom prst="pi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_s39956"/>
          <p:cNvSpPr/>
          <p:nvPr/>
        </p:nvSpPr>
        <p:spPr>
          <a:xfrm>
            <a:off x="5318280" y="1817640"/>
            <a:ext cx="11682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_s39957"/>
          <p:cNvSpPr/>
          <p:nvPr/>
        </p:nvSpPr>
        <p:spPr>
          <a:xfrm>
            <a:off x="7358040" y="2774880"/>
            <a:ext cx="116676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_s39960"/>
          <p:cNvSpPr/>
          <p:nvPr/>
        </p:nvSpPr>
        <p:spPr>
          <a:xfrm>
            <a:off x="6400800" y="5029200"/>
            <a:ext cx="116676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_s39963"/>
          <p:cNvSpPr/>
          <p:nvPr/>
        </p:nvSpPr>
        <p:spPr>
          <a:xfrm>
            <a:off x="4343400" y="5943600"/>
            <a:ext cx="116676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нали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де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_s39965"/>
          <p:cNvSpPr/>
          <p:nvPr/>
        </p:nvSpPr>
        <p:spPr>
          <a:xfrm>
            <a:off x="1905120" y="5943600"/>
            <a:ext cx="11682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ыбор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д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_s39967"/>
          <p:cNvSpPr/>
          <p:nvPr/>
        </p:nvSpPr>
        <p:spPr>
          <a:xfrm>
            <a:off x="380880" y="5105520"/>
            <a:ext cx="1676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ланирова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_s39969"/>
          <p:cNvSpPr/>
          <p:nvPr/>
        </p:nvSpPr>
        <p:spPr>
          <a:xfrm>
            <a:off x="533520" y="3809880"/>
            <a:ext cx="116676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готовл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_s39971"/>
          <p:cNvSpPr/>
          <p:nvPr/>
        </p:nvSpPr>
        <p:spPr>
          <a:xfrm>
            <a:off x="380880" y="2438280"/>
            <a:ext cx="116856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це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рефлекс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_s39973"/>
          <p:cNvSpPr/>
          <p:nvPr/>
        </p:nvSpPr>
        <p:spPr>
          <a:xfrm>
            <a:off x="2743200" y="1600200"/>
            <a:ext cx="116856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предел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треб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324480" y="5486400"/>
            <a:ext cx="26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ыработ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ервоначаль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д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019920" y="320040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означ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ребован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 объект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ектир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52880" y="1676520"/>
            <a:ext cx="2514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сследова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уществующи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ъек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Особенности исследовательского проек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ргументация актуальности темы   определение проблемы, предмета, объекта, целей и задач исследования    выдвижение гипотезы исследования   обозначение методов исследования    проведение эксперимента    обсуждение и оформление результатов   формулирование выводов    обозначение проблем на дальнейшую перспективу исслед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Line 4"/>
          <p:cNvSpPr/>
          <p:nvPr/>
        </p:nvSpPr>
        <p:spPr>
          <a:xfrm>
            <a:off x="7086600" y="1905120"/>
            <a:ext cx="4572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5"/>
          <p:cNvSpPr/>
          <p:nvPr/>
        </p:nvSpPr>
        <p:spPr>
          <a:xfrm>
            <a:off x="8229600" y="2743200"/>
            <a:ext cx="3808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Line 6"/>
          <p:cNvSpPr/>
          <p:nvPr/>
        </p:nvSpPr>
        <p:spPr>
          <a:xfrm>
            <a:off x="8001000" y="3200400"/>
            <a:ext cx="5335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7"/>
          <p:cNvSpPr/>
          <p:nvPr/>
        </p:nvSpPr>
        <p:spPr>
          <a:xfrm>
            <a:off x="7924680" y="3657600"/>
            <a:ext cx="6098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>
            <a:off x="6019920" y="4038480"/>
            <a:ext cx="1143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8610480" y="4495680"/>
            <a:ext cx="3812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10"/>
          <p:cNvSpPr/>
          <p:nvPr/>
        </p:nvSpPr>
        <p:spPr>
          <a:xfrm>
            <a:off x="6095880" y="4952880"/>
            <a:ext cx="990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Особенности практико-ориентированного проек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риентация на результат – продукт, удовлетворяющий конкретную потребно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рганизация координационной работы по корректировке совместных и индивидуальных усил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езентация результатов и способов внедрения в практи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нешняя оценка проек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Особенности игрового проект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блемы, цели проек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едущий вид деятельности – ролевая игр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астники выполняют определённые роли (литературные персонажи, выдуманные герои), обусловленные содержанием проек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зультат остаётся открытым до самого оконч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отнесение полученных результатов с поставленной цель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флексия.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Результат проектной деятельност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льман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борник иллюстрац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борник собственных творческих рабо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енгазе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иносценар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део-, диа- или слайд-филь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ментарии к тексту художественного произвед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ублик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укл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зент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б-сай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152280" y="1295280"/>
          <a:ext cx="8839440" cy="5958000"/>
        </p:xfrm>
        <a:graphic>
          <a:graphicData uri="http://schemas.openxmlformats.org/drawingml/2006/table">
            <a:tbl>
              <a:tblPr/>
              <a:tblGrid>
                <a:gridCol w="3459240"/>
                <a:gridCol w="1644840"/>
                <a:gridCol w="1989000"/>
                <a:gridCol w="174636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Адресац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беспе-ч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редпола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гаемые результа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тату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учебного про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buClr>
                          <a:srgbClr val="86d1ec"/>
                        </a:buClr>
                        <a:buSzPct val="9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остановка проблемы и обоснование её практической значимост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buClr>
                          <a:srgbClr val="86d1ec"/>
                        </a:buClr>
                        <a:buSzPct val="9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пределение целей (образовательных, воспитательных, развивающих)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buClr>
                          <a:srgbClr val="86d1ec"/>
                        </a:buClr>
                        <a:buSzPct val="9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остановка задач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buClr>
                          <a:srgbClr val="86d1ec"/>
                        </a:buClr>
                        <a:buSzPct val="9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Формулировка идеи (конечный продукт) реализации проект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buClr>
                          <a:srgbClr val="86d1ec"/>
                        </a:buClr>
                        <a:buSzPct val="9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ыбор группы обучающихся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buClr>
                          <a:srgbClr val="86d1ec"/>
                        </a:buClr>
                        <a:buSzPct val="9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ействия учителя и обучающихся на каждом этапе проект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buClr>
                          <a:srgbClr val="86d1ec"/>
                        </a:buClr>
                        <a:buSzPct val="9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ремя работы над проектом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buClr>
                          <a:srgbClr val="86d1ec"/>
                        </a:buClr>
                        <a:buSzPct val="9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ежим работы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Материальн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техническое 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учебно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Методическо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снащение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онсультанты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 Знания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умения, навыки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еобходимы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бучающим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л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амостоятельной работы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Развитие навыков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 самостоятельной работы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мыслительной деятельности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творчества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 ораторских навыков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Новые практические приёмы работы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Новое содержание темы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.Расширение кругозор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.Воспитание толерантност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Автор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пы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спользования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325440"/>
            <a:ext cx="8077320" cy="9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Методический паспорт проек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Функции учителя (рефлексивно-деятельностное обучение)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5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здание условий для включения обучающихся в самостоятель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ую творческую деятель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имулирова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е ситуации успеха для каждого ребён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флексия деятельности, процесса самоизмене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Учитель сегодня не столько тот, кто учит, сколько тот, кто помогает овладеть способами, как ребёнку учитьс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Organization Chart 5"/>
          <p:cNvGrpSpPr/>
          <p:nvPr/>
        </p:nvGrpSpPr>
        <p:grpSpPr>
          <a:xfrm>
            <a:off x="0" y="152280"/>
            <a:ext cx="9142560" cy="6705000"/>
            <a:chOff x="0" y="152280"/>
            <a:chExt cx="9142560" cy="6705000"/>
          </a:xfrm>
        </p:grpSpPr>
        <p:cxnSp>
          <p:nvCxnSpPr>
            <p:cNvPr id="322" name="_s1028"/>
            <p:cNvCxnSpPr>
              <a:stCxn id="323" idx="1"/>
              <a:endCxn id="324" idx="2"/>
            </p:cNvCxnSpPr>
            <p:nvPr/>
          </p:nvCxnSpPr>
          <p:spPr>
            <a:xfrm rot="10800000">
              <a:off x="2742120" y="940320"/>
              <a:ext cx="914760" cy="5522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25" name="_s1029"/>
            <p:cNvCxnSpPr>
              <a:stCxn id="326" idx="1"/>
              <a:endCxn id="324" idx="2"/>
            </p:cNvCxnSpPr>
            <p:nvPr/>
          </p:nvCxnSpPr>
          <p:spPr>
            <a:xfrm rot="10800000">
              <a:off x="2742120" y="940320"/>
              <a:ext cx="914760" cy="4339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27" name="_s1030"/>
            <p:cNvCxnSpPr>
              <a:stCxn id="328" idx="1"/>
              <a:endCxn id="324" idx="2"/>
            </p:cNvCxnSpPr>
            <p:nvPr/>
          </p:nvCxnSpPr>
          <p:spPr>
            <a:xfrm rot="10800000">
              <a:off x="2742120" y="940320"/>
              <a:ext cx="914760" cy="3156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29" name="_s1031"/>
            <p:cNvCxnSpPr>
              <a:stCxn id="330" idx="1"/>
              <a:endCxn id="324" idx="2"/>
            </p:cNvCxnSpPr>
            <p:nvPr/>
          </p:nvCxnSpPr>
          <p:spPr>
            <a:xfrm rot="10800000">
              <a:off x="2742120" y="940320"/>
              <a:ext cx="914760" cy="1972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31" name="_s1032"/>
            <p:cNvCxnSpPr>
              <a:stCxn id="332" idx="1"/>
              <a:endCxn id="324" idx="2"/>
            </p:cNvCxnSpPr>
            <p:nvPr/>
          </p:nvCxnSpPr>
          <p:spPr>
            <a:xfrm rot="10800000">
              <a:off x="2742120" y="940320"/>
              <a:ext cx="914760" cy="789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24" name="_s1033"/>
            <p:cNvSpPr/>
            <p:nvPr/>
          </p:nvSpPr>
          <p:spPr>
            <a:xfrm>
              <a:off x="0" y="152280"/>
              <a:ext cx="5485680" cy="78876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00"/>
                  </a:solidFill>
                  <a:latin typeface="Arial"/>
                </a:rPr>
                <a:t>Защита проекта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_s1034"/>
            <p:cNvSpPr/>
            <p:nvPr/>
          </p:nvSpPr>
          <p:spPr>
            <a:xfrm>
              <a:off x="3656880" y="1335240"/>
              <a:ext cx="5485680" cy="78876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Постановка проблемы,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её актуальност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_s1035"/>
            <p:cNvSpPr/>
            <p:nvPr/>
          </p:nvSpPr>
          <p:spPr>
            <a:xfrm>
              <a:off x="3656880" y="2518560"/>
              <a:ext cx="5485680" cy="78876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Высказывание гипотезы,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аргументация её положений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_s1036"/>
            <p:cNvSpPr/>
            <p:nvPr/>
          </p:nvSpPr>
          <p:spPr>
            <a:xfrm>
              <a:off x="3656880" y="3701880"/>
              <a:ext cx="5485680" cy="78876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Этапы работы над проектом, краткий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анализ полученных результато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_s1037"/>
            <p:cNvSpPr/>
            <p:nvPr/>
          </p:nvSpPr>
          <p:spPr>
            <a:xfrm>
              <a:off x="3656880" y="4885200"/>
              <a:ext cx="5485680" cy="78876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Выводы. Результаты рефлексивно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оценки проекта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_s1038"/>
            <p:cNvSpPr/>
            <p:nvPr/>
          </p:nvSpPr>
          <p:spPr>
            <a:xfrm>
              <a:off x="3656880" y="6068520"/>
              <a:ext cx="5485680" cy="78876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Ответы на вопросы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Diagram 5"/>
          <p:cNvGrpSpPr/>
          <p:nvPr/>
        </p:nvGrpSpPr>
        <p:grpSpPr>
          <a:xfrm>
            <a:off x="861840" y="390240"/>
            <a:ext cx="7419600" cy="6150600"/>
            <a:chOff x="861840" y="390240"/>
            <a:chExt cx="7419600" cy="6150600"/>
          </a:xfrm>
        </p:grpSpPr>
        <p:sp>
          <p:nvSpPr>
            <p:cNvPr id="334" name="_s2052"/>
            <p:cNvSpPr/>
            <p:nvPr/>
          </p:nvSpPr>
          <p:spPr>
            <a:xfrm flipH="1" flipV="1">
              <a:off x="2785320" y="2695320"/>
              <a:ext cx="893160" cy="384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_s2053"/>
            <p:cNvSpPr/>
            <p:nvPr/>
          </p:nvSpPr>
          <p:spPr>
            <a:xfrm>
              <a:off x="861840" y="1541520"/>
              <a:ext cx="2062800" cy="1537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Arial"/>
                </a:rPr>
                <a:t>Структура 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Arial"/>
                </a:rPr>
                <a:t>работы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_s2054"/>
            <p:cNvSpPr/>
            <p:nvPr/>
          </p:nvSpPr>
          <p:spPr>
            <a:xfrm flipH="1">
              <a:off x="2785320" y="3848760"/>
              <a:ext cx="893160" cy="384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_s2055"/>
            <p:cNvSpPr/>
            <p:nvPr/>
          </p:nvSpPr>
          <p:spPr>
            <a:xfrm>
              <a:off x="861840" y="3848760"/>
              <a:ext cx="2062800" cy="15386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Возникшие</a:t>
              </a: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трудности, и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преодолен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_s2056"/>
            <p:cNvSpPr/>
            <p:nvPr/>
          </p:nvSpPr>
          <p:spPr>
            <a:xfrm>
              <a:off x="4571640" y="4233960"/>
              <a:ext cx="0" cy="768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_s2057"/>
            <p:cNvSpPr/>
            <p:nvPr/>
          </p:nvSpPr>
          <p:spPr>
            <a:xfrm>
              <a:off x="3540240" y="5002920"/>
              <a:ext cx="2062800" cy="1537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Arial"/>
                </a:rPr>
                <a:t>Этапы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900" spc="-1" strike="noStrike">
                  <a:solidFill>
                    <a:srgbClr val="ffffff"/>
                  </a:solidFill>
                  <a:latin typeface="Arial"/>
                </a:rPr>
                <a:t>работы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_s2058"/>
            <p:cNvSpPr/>
            <p:nvPr/>
          </p:nvSpPr>
          <p:spPr>
            <a:xfrm>
              <a:off x="5464080" y="3848760"/>
              <a:ext cx="893160" cy="384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_s2059"/>
            <p:cNvSpPr/>
            <p:nvPr/>
          </p:nvSpPr>
          <p:spPr>
            <a:xfrm>
              <a:off x="6218640" y="3848760"/>
              <a:ext cx="2062800" cy="15386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Arial"/>
                </a:rPr>
                <a:t>Адресат 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_s2060"/>
            <p:cNvSpPr/>
            <p:nvPr/>
          </p:nvSpPr>
          <p:spPr>
            <a:xfrm flipV="1">
              <a:off x="5464080" y="2697840"/>
              <a:ext cx="893160" cy="384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_s2061"/>
            <p:cNvSpPr/>
            <p:nvPr/>
          </p:nvSpPr>
          <p:spPr>
            <a:xfrm>
              <a:off x="6218640" y="1544040"/>
              <a:ext cx="2062800" cy="1537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Arial"/>
                </a:rPr>
                <a:t>Цели 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Arial"/>
                </a:rPr>
                <a:t>работы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_s2062"/>
            <p:cNvSpPr/>
            <p:nvPr/>
          </p:nvSpPr>
          <p:spPr>
            <a:xfrm flipV="1">
              <a:off x="4571640" y="1928880"/>
              <a:ext cx="0" cy="768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_s2063"/>
            <p:cNvSpPr/>
            <p:nvPr/>
          </p:nvSpPr>
          <p:spPr>
            <a:xfrm>
              <a:off x="3540240" y="390240"/>
              <a:ext cx="2062800" cy="15386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Почему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выбран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эта тем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_s2064"/>
            <p:cNvSpPr/>
            <p:nvPr/>
          </p:nvSpPr>
          <p:spPr>
            <a:xfrm>
              <a:off x="3540240" y="2697840"/>
              <a:ext cx="2062800" cy="1537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Arial"/>
                </a:rPr>
                <a:t>Рефлексия 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Уроки русского языка, литературы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актико-ориентированные мини-проекты по повторению изученного в начальной школ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В стране невыученных уроков»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 помочь однокласснику, не знающему склонение (спряжение, части речи, члены предложения…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нечный продукт -  карманные словарики, рисунки, карты, таблицы, рассказы, сказки и т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Picture 4" descr="PC160005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Проекты с видеопрезентациям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мейное воспитание в произведениях писателей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IX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е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укет благоуханный (Цветы в  русской поэзии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раз дома в русской литератур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эзия серебряного ве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временный литературный процесс и др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Модули по обучению основам проектной деятель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0" y="1295280"/>
          <a:ext cx="9144000" cy="5735880"/>
        </p:xfrm>
        <a:graphic>
          <a:graphicData uri="http://schemas.openxmlformats.org/drawingml/2006/table">
            <a:tbl>
              <a:tblPr/>
              <a:tblGrid>
                <a:gridCol w="3276720"/>
                <a:gridCol w="5867280"/>
              </a:tblGrid>
              <a:tr h="99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лючевые компетентно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-8 класс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7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мпетентность разрешения пробле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Проблема – цель, анализ и планирование ресурс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Виды и типы проект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Поэтапное планирование деятельност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формационная компетент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личные источники информаци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Способы обработки информаци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Методы сбора данны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ммуникативная компетент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Как работать в команде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Формы презентации проект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Ведение дискусс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SzPct val="100000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Элективный курс «Слово и его тайны» (9 класс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7" name="Diagram 5"/>
          <p:cNvGrpSpPr/>
          <p:nvPr/>
        </p:nvGrpSpPr>
        <p:grpSpPr>
          <a:xfrm>
            <a:off x="152280" y="1882440"/>
            <a:ext cx="8838720" cy="4691160"/>
            <a:chOff x="152280" y="1882440"/>
            <a:chExt cx="8838720" cy="4691160"/>
          </a:xfrm>
        </p:grpSpPr>
        <p:sp>
          <p:nvSpPr>
            <p:cNvPr id="358" name="_s4100"/>
            <p:cNvSpPr/>
            <p:nvPr/>
          </p:nvSpPr>
          <p:spPr>
            <a:xfrm flipH="1">
              <a:off x="2361600" y="4228200"/>
              <a:ext cx="11052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_s4101"/>
            <p:cNvSpPr/>
            <p:nvPr/>
          </p:nvSpPr>
          <p:spPr>
            <a:xfrm>
              <a:off x="152280" y="3641760"/>
              <a:ext cx="2209320" cy="11725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Тайн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словообр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зовательной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Вселенно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_s4102"/>
            <p:cNvSpPr/>
            <p:nvPr/>
          </p:nvSpPr>
          <p:spPr>
            <a:xfrm>
              <a:off x="4571640" y="4814280"/>
              <a:ext cx="0" cy="586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_s4103"/>
            <p:cNvSpPr/>
            <p:nvPr/>
          </p:nvSpPr>
          <p:spPr>
            <a:xfrm>
              <a:off x="3466800" y="5400720"/>
              <a:ext cx="2209320" cy="11728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Лингвистический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комментарий текст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_s4104"/>
            <p:cNvSpPr/>
            <p:nvPr/>
          </p:nvSpPr>
          <p:spPr>
            <a:xfrm>
              <a:off x="5676120" y="4228200"/>
              <a:ext cx="11052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_s4105"/>
            <p:cNvSpPr/>
            <p:nvPr/>
          </p:nvSpPr>
          <p:spPr>
            <a:xfrm>
              <a:off x="6781680" y="3641760"/>
              <a:ext cx="2209320" cy="11725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В стране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фразео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логически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оборотов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_s4106"/>
            <p:cNvSpPr/>
            <p:nvPr/>
          </p:nvSpPr>
          <p:spPr>
            <a:xfrm flipV="1">
              <a:off x="4571640" y="3054600"/>
              <a:ext cx="0" cy="586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_s4107"/>
            <p:cNvSpPr/>
            <p:nvPr/>
          </p:nvSpPr>
          <p:spPr>
            <a:xfrm>
              <a:off x="3466800" y="1882440"/>
              <a:ext cx="2209320" cy="11725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В этимоло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гических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дебря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_s4108"/>
            <p:cNvSpPr/>
            <p:nvPr/>
          </p:nvSpPr>
          <p:spPr>
            <a:xfrm>
              <a:off x="3466800" y="3641760"/>
              <a:ext cx="2209320" cy="11725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Мини-проект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Лицейские конференц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Шаг в будущее» 5-8 класс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екция «Филология»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ингвистические сказ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оё открытие словаря синоним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чь и этикет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рамматика в иллюстрация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кологический заповедник «Культура речи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«Дарования юных – родному городу» (9-11 классы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екция «Филология»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ловарь современного лицеис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Язык и компьютер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нижная полка читателя-лицеис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ценарий заседания Клуба знатоков русского язы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этические сборники выпускников «Спасибо тебе, лицей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Творческий проект «Лицейская газета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89154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Цель мастер-класс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здать условия для проявления и совершенствования профессиональных компетенций при использовании технологии проектного обучения в образовательном процесс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Diagram 5"/>
          <p:cNvGrpSpPr/>
          <p:nvPr/>
        </p:nvGrpSpPr>
        <p:grpSpPr>
          <a:xfrm>
            <a:off x="310680" y="171000"/>
            <a:ext cx="8521560" cy="6272280"/>
            <a:chOff x="310680" y="171000"/>
            <a:chExt cx="8521560" cy="6272280"/>
          </a:xfrm>
        </p:grpSpPr>
        <p:sp>
          <p:nvSpPr>
            <p:cNvPr id="374" name="_s5124"/>
            <p:cNvSpPr/>
            <p:nvPr/>
          </p:nvSpPr>
          <p:spPr>
            <a:xfrm flipH="1" flipV="1">
              <a:off x="2875680" y="2414160"/>
              <a:ext cx="847800" cy="504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_s5125"/>
            <p:cNvSpPr/>
            <p:nvPr/>
          </p:nvSpPr>
          <p:spPr>
            <a:xfrm>
              <a:off x="939240" y="1090080"/>
              <a:ext cx="2171880" cy="16290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Созвездие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таланто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_s5126"/>
            <p:cNvSpPr/>
            <p:nvPr/>
          </p:nvSpPr>
          <p:spPr>
            <a:xfrm flipH="1">
              <a:off x="2460240" y="3607560"/>
              <a:ext cx="1053720" cy="182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_s5127"/>
            <p:cNvSpPr/>
            <p:nvPr/>
          </p:nvSpPr>
          <p:spPr>
            <a:xfrm>
              <a:off x="310680" y="3157200"/>
              <a:ext cx="2171160" cy="1628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Зимни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интеллектуаль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игр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_s5128"/>
            <p:cNvSpPr/>
            <p:nvPr/>
          </p:nvSpPr>
          <p:spPr>
            <a:xfrm flipH="1">
              <a:off x="3634560" y="4159800"/>
              <a:ext cx="466200" cy="732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_s5129"/>
            <p:cNvSpPr/>
            <p:nvPr/>
          </p:nvSpPr>
          <p:spPr>
            <a:xfrm>
              <a:off x="2076120" y="4814280"/>
              <a:ext cx="2171160" cy="16290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Всероссийский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литературны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конкурс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_s5130"/>
            <p:cNvSpPr/>
            <p:nvPr/>
          </p:nvSpPr>
          <p:spPr>
            <a:xfrm>
              <a:off x="5041800" y="4159800"/>
              <a:ext cx="472680" cy="730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_s5131"/>
            <p:cNvSpPr/>
            <p:nvPr/>
          </p:nvSpPr>
          <p:spPr>
            <a:xfrm>
              <a:off x="4902120" y="4812120"/>
              <a:ext cx="2171160" cy="1628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Русский 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медвежонок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_s5132"/>
            <p:cNvSpPr/>
            <p:nvPr/>
          </p:nvSpPr>
          <p:spPr>
            <a:xfrm>
              <a:off x="5628600" y="3607560"/>
              <a:ext cx="1057320" cy="180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_s5133"/>
            <p:cNvSpPr/>
            <p:nvPr/>
          </p:nvSpPr>
          <p:spPr>
            <a:xfrm>
              <a:off x="6661080" y="3155040"/>
              <a:ext cx="2171160" cy="1628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Всероссийский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предметный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чемпионат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_s5134"/>
            <p:cNvSpPr/>
            <p:nvPr/>
          </p:nvSpPr>
          <p:spPr>
            <a:xfrm flipV="1">
              <a:off x="5419080" y="2412000"/>
              <a:ext cx="847800" cy="506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_s5135"/>
            <p:cNvSpPr/>
            <p:nvPr/>
          </p:nvSpPr>
          <p:spPr>
            <a:xfrm>
              <a:off x="6031800" y="1090080"/>
              <a:ext cx="2171880" cy="16290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Звёзды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нового века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_s5136"/>
            <p:cNvSpPr/>
            <p:nvPr/>
          </p:nvSpPr>
          <p:spPr>
            <a:xfrm flipV="1">
              <a:off x="4571640" y="1799640"/>
              <a:ext cx="0" cy="81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_s5137"/>
            <p:cNvSpPr/>
            <p:nvPr/>
          </p:nvSpPr>
          <p:spPr>
            <a:xfrm>
              <a:off x="3485880" y="171000"/>
              <a:ext cx="2171160" cy="16290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Познание и 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творчество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_s5138"/>
            <p:cNvSpPr/>
            <p:nvPr/>
          </p:nvSpPr>
          <p:spPr>
            <a:xfrm>
              <a:off x="3485880" y="2614320"/>
              <a:ext cx="2171160" cy="1628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лицеис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" name="Organization Chart 5"/>
          <p:cNvGrpSpPr/>
          <p:nvPr/>
        </p:nvGrpSpPr>
        <p:grpSpPr>
          <a:xfrm>
            <a:off x="228600" y="152280"/>
            <a:ext cx="8913960" cy="6705000"/>
            <a:chOff x="228600" y="152280"/>
            <a:chExt cx="8913960" cy="6705000"/>
          </a:xfrm>
        </p:grpSpPr>
        <p:cxnSp>
          <p:nvCxnSpPr>
            <p:cNvPr id="391" name="_s6148"/>
            <p:cNvCxnSpPr>
              <a:stCxn id="392" idx="1"/>
              <a:endCxn id="393" idx="2"/>
            </p:cNvCxnSpPr>
            <p:nvPr/>
          </p:nvCxnSpPr>
          <p:spPr>
            <a:xfrm rot="10800000">
              <a:off x="2901960" y="822240"/>
              <a:ext cx="892080" cy="5701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94" name="_s6149"/>
            <p:cNvCxnSpPr>
              <a:stCxn id="395" idx="1"/>
              <a:endCxn id="393" idx="2"/>
            </p:cNvCxnSpPr>
            <p:nvPr/>
          </p:nvCxnSpPr>
          <p:spPr>
            <a:xfrm rot="10800000">
              <a:off x="2901960" y="822240"/>
              <a:ext cx="892080" cy="4695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96" name="_s6150"/>
            <p:cNvCxnSpPr>
              <a:stCxn id="397" idx="1"/>
              <a:endCxn id="393" idx="2"/>
            </p:cNvCxnSpPr>
            <p:nvPr/>
          </p:nvCxnSpPr>
          <p:spPr>
            <a:xfrm rot="10800000">
              <a:off x="2901960" y="822240"/>
              <a:ext cx="892080" cy="36910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98" name="_s6151"/>
            <p:cNvCxnSpPr>
              <a:stCxn id="399" idx="1"/>
              <a:endCxn id="393" idx="2"/>
            </p:cNvCxnSpPr>
            <p:nvPr/>
          </p:nvCxnSpPr>
          <p:spPr>
            <a:xfrm rot="10800000">
              <a:off x="2901960" y="822240"/>
              <a:ext cx="892080" cy="2684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00" name="_s6152"/>
            <p:cNvCxnSpPr>
              <a:stCxn id="401" idx="1"/>
              <a:endCxn id="393" idx="2"/>
            </p:cNvCxnSpPr>
            <p:nvPr/>
          </p:nvCxnSpPr>
          <p:spPr>
            <a:xfrm rot="10800000">
              <a:off x="2901960" y="822240"/>
              <a:ext cx="892080" cy="1677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02" name="_s6153"/>
            <p:cNvCxnSpPr>
              <a:stCxn id="403" idx="1"/>
              <a:endCxn id="393" idx="2"/>
            </p:cNvCxnSpPr>
            <p:nvPr/>
          </p:nvCxnSpPr>
          <p:spPr>
            <a:xfrm rot="10800000">
              <a:off x="2901960" y="822240"/>
              <a:ext cx="892080" cy="671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93" name="_s6154"/>
            <p:cNvSpPr/>
            <p:nvPr/>
          </p:nvSpPr>
          <p:spPr>
            <a:xfrm>
              <a:off x="228600" y="152280"/>
              <a:ext cx="5348520" cy="67068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cc00"/>
                  </a:solidFill>
                  <a:latin typeface="Arial"/>
                </a:rPr>
                <a:t>лицеист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_s6155"/>
            <p:cNvSpPr/>
            <p:nvPr/>
          </p:nvSpPr>
          <p:spPr>
            <a:xfrm>
              <a:off x="3794040" y="1158480"/>
              <a:ext cx="5348520" cy="67068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ff"/>
                  </a:solidFill>
                  <a:latin typeface="Arial"/>
                </a:rPr>
                <a:t>самоактуализация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_s6156"/>
            <p:cNvSpPr/>
            <p:nvPr/>
          </p:nvSpPr>
          <p:spPr>
            <a:xfrm>
              <a:off x="3794040" y="2165040"/>
              <a:ext cx="5348520" cy="67068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ff"/>
                  </a:solidFill>
                  <a:latin typeface="Arial"/>
                </a:rPr>
                <a:t>самопознание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_s6157"/>
            <p:cNvSpPr/>
            <p:nvPr/>
          </p:nvSpPr>
          <p:spPr>
            <a:xfrm>
              <a:off x="3794040" y="3171600"/>
              <a:ext cx="5348520" cy="67068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ff"/>
                  </a:solidFill>
                  <a:latin typeface="Arial"/>
                </a:rPr>
                <a:t>самопроектирование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_s6158"/>
            <p:cNvSpPr/>
            <p:nvPr/>
          </p:nvSpPr>
          <p:spPr>
            <a:xfrm>
              <a:off x="3794040" y="4178160"/>
              <a:ext cx="5348520" cy="66816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ff"/>
                  </a:solidFill>
                  <a:latin typeface="Arial"/>
                </a:rPr>
                <a:t>самообразование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_s6159"/>
            <p:cNvSpPr/>
            <p:nvPr/>
          </p:nvSpPr>
          <p:spPr>
            <a:xfrm>
              <a:off x="3794040" y="5182200"/>
              <a:ext cx="5348520" cy="66888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ffff"/>
                  </a:solidFill>
                  <a:latin typeface="Arial"/>
                </a:rPr>
                <a:t>самокоррекция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_s6160"/>
            <p:cNvSpPr/>
            <p:nvPr/>
          </p:nvSpPr>
          <p:spPr>
            <a:xfrm>
              <a:off x="3794040" y="6186600"/>
              <a:ext cx="5348520" cy="67068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ff"/>
                  </a:solidFill>
                  <a:latin typeface="Arial"/>
                </a:rPr>
                <a:t>саморазвитие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4"/>
          <p:cNvSpPr/>
          <p:nvPr/>
        </p:nvSpPr>
        <p:spPr>
          <a:xfrm>
            <a:off x="1851120" y="906480"/>
            <a:ext cx="569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1584360" y="798480"/>
            <a:ext cx="53499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аже самая прекрасная и мощная идея бесполезна до тех пор, пока мы не решим ею воспользовать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мое интересное в идеях – это попробовать их на дел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.   Б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Задачи: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Обобщить опыт работы по данной проблем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Показать возможности использования проектного обучения на уроках русского языка, литературы и во внеурочной деятельности на различных этапах обуч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Продемонстрировать последовательность действий, методов и приёмов, форм педагогической дея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Показать особенности психолого-педагогического сопровождения обучающихся в процессе проектной дея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Провести рефлексию профессионального мастерства аттестуемого и участников мастер-класса по данной проблем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Цели проектного обучения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вивать у школьников исследовательские ум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еспечить механизм развития критического мышления ребёнка, умения искать пути решения поставленной задач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вивать у обучающихся умение творчески подходить  к способу подачи материа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вивать у обучающихся «командный дух» и «чувство локтя»; коммуникабельность и умение сотруднича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пособствовать повышению личной уверенности, ответственности каждого участника проектного обуч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Технология проектной деятельности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Oval 4"/>
          <p:cNvSpPr/>
          <p:nvPr/>
        </p:nvSpPr>
        <p:spPr>
          <a:xfrm>
            <a:off x="2362320" y="1828800"/>
            <a:ext cx="5029200" cy="1295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етод учебного проек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интеграц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457200" y="2895480"/>
            <a:ext cx="2286000" cy="1219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блемны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дх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Oval 8"/>
          <p:cNvSpPr/>
          <p:nvPr/>
        </p:nvSpPr>
        <p:spPr>
          <a:xfrm>
            <a:off x="533520" y="4495680"/>
            <a:ext cx="2514600" cy="1219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исковы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дх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3352680" y="5105520"/>
            <a:ext cx="2667240" cy="990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сследовательск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дх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Oval 12"/>
          <p:cNvSpPr/>
          <p:nvPr/>
        </p:nvSpPr>
        <p:spPr>
          <a:xfrm>
            <a:off x="3809880" y="3505320"/>
            <a:ext cx="2362320" cy="1143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руппов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ет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14"/>
          <p:cNvSpPr/>
          <p:nvPr/>
        </p:nvSpPr>
        <p:spPr>
          <a:xfrm>
            <a:off x="6172200" y="4495680"/>
            <a:ext cx="2209680" cy="10670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езентационны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дх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16"/>
          <p:cNvSpPr/>
          <p:nvPr/>
        </p:nvSpPr>
        <p:spPr>
          <a:xfrm>
            <a:off x="6705720" y="3124080"/>
            <a:ext cx="2209680" cy="10670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ефлексивны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дх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18"/>
          <p:cNvSpPr/>
          <p:nvPr/>
        </p:nvSpPr>
        <p:spPr>
          <a:xfrm>
            <a:off x="2286000" y="26668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9"/>
          <p:cNvSpPr/>
          <p:nvPr/>
        </p:nvSpPr>
        <p:spPr>
          <a:xfrm flipH="1">
            <a:off x="2285640" y="2819520"/>
            <a:ext cx="228600" cy="152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22"/>
          <p:cNvSpPr/>
          <p:nvPr/>
        </p:nvSpPr>
        <p:spPr>
          <a:xfrm>
            <a:off x="1752480" y="4114800"/>
            <a:ext cx="15264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23"/>
          <p:cNvSpPr/>
          <p:nvPr/>
        </p:nvSpPr>
        <p:spPr>
          <a:xfrm>
            <a:off x="2971800" y="5334120"/>
            <a:ext cx="457200" cy="152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24"/>
          <p:cNvSpPr/>
          <p:nvPr/>
        </p:nvSpPr>
        <p:spPr>
          <a:xfrm flipV="1">
            <a:off x="5943600" y="5257440"/>
            <a:ext cx="30492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25"/>
          <p:cNvSpPr/>
          <p:nvPr/>
        </p:nvSpPr>
        <p:spPr>
          <a:xfrm flipV="1">
            <a:off x="7543800" y="4191120"/>
            <a:ext cx="304920" cy="304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26"/>
          <p:cNvSpPr/>
          <p:nvPr/>
        </p:nvSpPr>
        <p:spPr>
          <a:xfrm flipH="1" flipV="1">
            <a:off x="7162920" y="2743200"/>
            <a:ext cx="380880" cy="3808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27"/>
          <p:cNvSpPr/>
          <p:nvPr/>
        </p:nvSpPr>
        <p:spPr>
          <a:xfrm>
            <a:off x="2743200" y="3581280"/>
            <a:ext cx="1066680" cy="38124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28"/>
          <p:cNvSpPr/>
          <p:nvPr/>
        </p:nvSpPr>
        <p:spPr>
          <a:xfrm flipV="1">
            <a:off x="3048120" y="4419360"/>
            <a:ext cx="990360" cy="60948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29"/>
          <p:cNvSpPr/>
          <p:nvPr/>
        </p:nvSpPr>
        <p:spPr>
          <a:xfrm flipV="1">
            <a:off x="4724280" y="46483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30"/>
          <p:cNvSpPr/>
          <p:nvPr/>
        </p:nvSpPr>
        <p:spPr>
          <a:xfrm flipH="1" flipV="1">
            <a:off x="6095880" y="4266720"/>
            <a:ext cx="533520" cy="30492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31"/>
          <p:cNvSpPr/>
          <p:nvPr/>
        </p:nvSpPr>
        <p:spPr>
          <a:xfrm flipH="1">
            <a:off x="6095880" y="3733920"/>
            <a:ext cx="609840" cy="7596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32"/>
          <p:cNvSpPr/>
          <p:nvPr/>
        </p:nvSpPr>
        <p:spPr>
          <a:xfrm>
            <a:off x="4952880" y="320040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Условия применения метода проект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уществование некой значимой проблем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начимость предполагаемых результа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менение исследовательских методов при проектирован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руктурирование этапов проек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мостоятельная деятельность в ситуации выбо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Компетентностный подход к проектированию       УУ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5"/>
          <p:cNvSpPr/>
          <p:nvPr/>
        </p:nvSpPr>
        <p:spPr>
          <a:xfrm>
            <a:off x="5638680" y="1143000"/>
            <a:ext cx="7621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Organization Chart 7"/>
          <p:cNvGrpSpPr/>
          <p:nvPr/>
        </p:nvGrpSpPr>
        <p:grpSpPr>
          <a:xfrm>
            <a:off x="380880" y="1600200"/>
            <a:ext cx="8761680" cy="4952520"/>
            <a:chOff x="380880" y="1600200"/>
            <a:chExt cx="8761680" cy="4952520"/>
          </a:xfrm>
        </p:grpSpPr>
        <p:cxnSp>
          <p:nvCxnSpPr>
            <p:cNvPr id="196" name="_s63511"/>
            <p:cNvCxnSpPr>
              <a:stCxn id="197" idx="3"/>
              <a:endCxn id="198" idx="2"/>
            </p:cNvCxnSpPr>
            <p:nvPr/>
          </p:nvCxnSpPr>
          <p:spPr>
            <a:xfrm flipV="1">
              <a:off x="5637600" y="2030760"/>
              <a:ext cx="876600" cy="4307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9" name="_s63509"/>
            <p:cNvCxnSpPr>
              <a:stCxn id="200" idx="3"/>
              <a:endCxn id="198" idx="2"/>
            </p:cNvCxnSpPr>
            <p:nvPr/>
          </p:nvCxnSpPr>
          <p:spPr>
            <a:xfrm flipV="1">
              <a:off x="5637600" y="2030760"/>
              <a:ext cx="876600" cy="3660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01" name="_s63507"/>
            <p:cNvCxnSpPr>
              <a:stCxn id="202" idx="3"/>
              <a:endCxn id="198" idx="2"/>
            </p:cNvCxnSpPr>
            <p:nvPr/>
          </p:nvCxnSpPr>
          <p:spPr>
            <a:xfrm flipV="1">
              <a:off x="5637600" y="2030760"/>
              <a:ext cx="876600" cy="3015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03" name="_s63505"/>
            <p:cNvCxnSpPr>
              <a:stCxn id="204" idx="3"/>
              <a:endCxn id="198" idx="2"/>
            </p:cNvCxnSpPr>
            <p:nvPr/>
          </p:nvCxnSpPr>
          <p:spPr>
            <a:xfrm flipV="1">
              <a:off x="5637600" y="2030400"/>
              <a:ext cx="876600" cy="2369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05" name="_s63502"/>
            <p:cNvCxnSpPr>
              <a:stCxn id="206" idx="3"/>
              <a:endCxn id="198" idx="2"/>
            </p:cNvCxnSpPr>
            <p:nvPr/>
          </p:nvCxnSpPr>
          <p:spPr>
            <a:xfrm flipV="1">
              <a:off x="5637600" y="2030760"/>
              <a:ext cx="876600" cy="1724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07" name="_s63501"/>
            <p:cNvCxnSpPr>
              <a:stCxn id="208" idx="3"/>
              <a:endCxn id="198" idx="2"/>
            </p:cNvCxnSpPr>
            <p:nvPr/>
          </p:nvCxnSpPr>
          <p:spPr>
            <a:xfrm flipV="1">
              <a:off x="5637600" y="2030760"/>
              <a:ext cx="876600" cy="10792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09" name="_s63500"/>
            <p:cNvCxnSpPr>
              <a:stCxn id="210" idx="3"/>
              <a:endCxn id="198" idx="2"/>
            </p:cNvCxnSpPr>
            <p:nvPr/>
          </p:nvCxnSpPr>
          <p:spPr>
            <a:xfrm flipV="1">
              <a:off x="5637600" y="2030400"/>
              <a:ext cx="876600" cy="431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98" name="_s63496"/>
            <p:cNvSpPr/>
            <p:nvPr/>
          </p:nvSpPr>
          <p:spPr>
            <a:xfrm>
              <a:off x="3885480" y="1600200"/>
              <a:ext cx="5257080" cy="43092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умени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_s63497"/>
            <p:cNvSpPr/>
            <p:nvPr/>
          </p:nvSpPr>
          <p:spPr>
            <a:xfrm>
              <a:off x="380880" y="2246400"/>
              <a:ext cx="5257080" cy="43092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выявлять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_s63498"/>
            <p:cNvSpPr/>
            <p:nvPr/>
          </p:nvSpPr>
          <p:spPr>
            <a:xfrm>
              <a:off x="380880" y="2892960"/>
              <a:ext cx="5257080" cy="43092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понимать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_s63499"/>
            <p:cNvSpPr/>
            <p:nvPr/>
          </p:nvSpPr>
          <p:spPr>
            <a:xfrm>
              <a:off x="380880" y="3539160"/>
              <a:ext cx="5257080" cy="43092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планировать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_s63504"/>
            <p:cNvSpPr/>
            <p:nvPr/>
          </p:nvSpPr>
          <p:spPr>
            <a:xfrm>
              <a:off x="380880" y="4185720"/>
              <a:ext cx="5257080" cy="42912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конструктивно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обсуждать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_s63506"/>
            <p:cNvSpPr/>
            <p:nvPr/>
          </p:nvSpPr>
          <p:spPr>
            <a:xfrm>
              <a:off x="380880" y="4830480"/>
              <a:ext cx="5257080" cy="42948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оценивать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_s63508"/>
            <p:cNvSpPr/>
            <p:nvPr/>
          </p:nvSpPr>
          <p:spPr>
            <a:xfrm>
              <a:off x="380880" y="5475600"/>
              <a:ext cx="5257080" cy="43092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конструировать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_s63510"/>
            <p:cNvSpPr/>
            <p:nvPr/>
          </p:nvSpPr>
          <p:spPr>
            <a:xfrm>
              <a:off x="380880" y="6121800"/>
              <a:ext cx="5257080" cy="43092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самостоятельно искать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Line 43"/>
          <p:cNvSpPr/>
          <p:nvPr/>
        </p:nvSpPr>
        <p:spPr>
          <a:xfrm flipV="1">
            <a:off x="6172200" y="4114800"/>
            <a:ext cx="457200" cy="1447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44"/>
          <p:cNvSpPr/>
          <p:nvPr/>
        </p:nvSpPr>
        <p:spPr>
          <a:xfrm flipV="1">
            <a:off x="6705720" y="4952880"/>
            <a:ext cx="228600" cy="533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38"/>
          <p:cNvSpPr/>
          <p:nvPr/>
        </p:nvSpPr>
        <p:spPr>
          <a:xfrm flipH="1" flipV="1">
            <a:off x="1142640" y="4038480"/>
            <a:ext cx="1143000" cy="1371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2286000" y="30492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п р о е к т н а 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200400" y="255744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л и ч н о с т 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2133720" y="525780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д е я т е л ь н о с т 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Oval 8"/>
          <p:cNvSpPr/>
          <p:nvPr/>
        </p:nvSpPr>
        <p:spPr>
          <a:xfrm>
            <a:off x="3124080" y="1295280"/>
            <a:ext cx="3124440" cy="838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дивидуаль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обен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Oval 10"/>
          <p:cNvSpPr/>
          <p:nvPr/>
        </p:nvSpPr>
        <p:spPr>
          <a:xfrm>
            <a:off x="228600" y="1905120"/>
            <a:ext cx="3124080" cy="106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ллектуальн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ф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Oval 12"/>
          <p:cNvSpPr/>
          <p:nvPr/>
        </p:nvSpPr>
        <p:spPr>
          <a:xfrm>
            <a:off x="6019920" y="1828800"/>
            <a:ext cx="312408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моциональ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ф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Oval 14"/>
          <p:cNvSpPr/>
          <p:nvPr/>
        </p:nvSpPr>
        <p:spPr>
          <a:xfrm>
            <a:off x="3124080" y="3505320"/>
            <a:ext cx="3048120" cy="609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муникативност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Oval 16"/>
          <p:cNvSpPr/>
          <p:nvPr/>
        </p:nvSpPr>
        <p:spPr>
          <a:xfrm>
            <a:off x="152280" y="3429000"/>
            <a:ext cx="2743200" cy="609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стойчивос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Oval 18"/>
          <p:cNvSpPr/>
          <p:nvPr/>
        </p:nvSpPr>
        <p:spPr>
          <a:xfrm>
            <a:off x="228600" y="4419720"/>
            <a:ext cx="259092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даптив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Oval 20"/>
          <p:cNvSpPr/>
          <p:nvPr/>
        </p:nvSpPr>
        <p:spPr>
          <a:xfrm>
            <a:off x="3733920" y="4419720"/>
            <a:ext cx="259056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леустремлён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val 22"/>
          <p:cNvSpPr/>
          <p:nvPr/>
        </p:nvSpPr>
        <p:spPr>
          <a:xfrm>
            <a:off x="6400800" y="3657600"/>
            <a:ext cx="2743200" cy="762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Oval 24"/>
          <p:cNvSpPr/>
          <p:nvPr/>
        </p:nvSpPr>
        <p:spPr>
          <a:xfrm>
            <a:off x="6705720" y="4495680"/>
            <a:ext cx="2209680" cy="762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еативност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26"/>
          <p:cNvSpPr/>
          <p:nvPr/>
        </p:nvSpPr>
        <p:spPr>
          <a:xfrm flipH="1">
            <a:off x="2209680" y="914400"/>
            <a:ext cx="457200" cy="914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27"/>
          <p:cNvSpPr/>
          <p:nvPr/>
        </p:nvSpPr>
        <p:spPr>
          <a:xfrm>
            <a:off x="2666880" y="990720"/>
            <a:ext cx="838440" cy="3808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28"/>
          <p:cNvSpPr/>
          <p:nvPr/>
        </p:nvSpPr>
        <p:spPr>
          <a:xfrm>
            <a:off x="5791320" y="838080"/>
            <a:ext cx="1371600" cy="990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29"/>
          <p:cNvSpPr/>
          <p:nvPr/>
        </p:nvSpPr>
        <p:spPr>
          <a:xfrm flipV="1">
            <a:off x="4648320" y="213336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30"/>
          <p:cNvSpPr/>
          <p:nvPr/>
        </p:nvSpPr>
        <p:spPr>
          <a:xfrm flipH="1" flipV="1">
            <a:off x="3123720" y="2590560"/>
            <a:ext cx="3812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31"/>
          <p:cNvSpPr/>
          <p:nvPr/>
        </p:nvSpPr>
        <p:spPr>
          <a:xfrm flipV="1">
            <a:off x="6248520" y="2666880"/>
            <a:ext cx="3808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32"/>
          <p:cNvSpPr/>
          <p:nvPr/>
        </p:nvSpPr>
        <p:spPr>
          <a:xfrm flipH="1">
            <a:off x="2590920" y="3124080"/>
            <a:ext cx="76176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33"/>
          <p:cNvSpPr/>
          <p:nvPr/>
        </p:nvSpPr>
        <p:spPr>
          <a:xfrm flipH="1">
            <a:off x="3048120" y="3124080"/>
            <a:ext cx="45720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34"/>
          <p:cNvSpPr/>
          <p:nvPr/>
        </p:nvSpPr>
        <p:spPr>
          <a:xfrm>
            <a:off x="4724280" y="31240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35"/>
          <p:cNvSpPr/>
          <p:nvPr/>
        </p:nvSpPr>
        <p:spPr>
          <a:xfrm>
            <a:off x="4724280" y="41148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36"/>
          <p:cNvSpPr/>
          <p:nvPr/>
        </p:nvSpPr>
        <p:spPr>
          <a:xfrm>
            <a:off x="5562720" y="3048120"/>
            <a:ext cx="129528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37"/>
          <p:cNvSpPr/>
          <p:nvPr/>
        </p:nvSpPr>
        <p:spPr>
          <a:xfrm>
            <a:off x="6324480" y="3124080"/>
            <a:ext cx="9144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40"/>
          <p:cNvSpPr/>
          <p:nvPr/>
        </p:nvSpPr>
        <p:spPr>
          <a:xfrm flipH="1" flipV="1">
            <a:off x="2743200" y="4876560"/>
            <a:ext cx="380880" cy="6094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Line 41"/>
          <p:cNvSpPr/>
          <p:nvPr/>
        </p:nvSpPr>
        <p:spPr>
          <a:xfrm flipV="1">
            <a:off x="3581280" y="3962160"/>
            <a:ext cx="0" cy="15238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Line 42"/>
          <p:cNvSpPr/>
          <p:nvPr/>
        </p:nvSpPr>
        <p:spPr>
          <a:xfrm flipV="1">
            <a:off x="3581280" y="5105520"/>
            <a:ext cx="762120" cy="3808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IK</cp:lastModifiedBy>
  <dcterms:modified xsi:type="dcterms:W3CDTF">2012-02-09T07:36:52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