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B12-A397-4A9E-A3B5-26E67D66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777-3D5A-4B22-B43C-586D28ED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A92-960A-4168-B5AA-8C373673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388-A405-434F-B70F-03EDEE7E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FDDD-5DE2-4D4E-B48E-6A36B70F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D6B7-340E-4C22-89A3-DEF96472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06B4-AFF9-4C52-BF66-E94D1AD0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DAE3-A18E-4AEC-B736-8A52FED0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C162-1CCE-4819-B0B0-FD52DEBD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43B8-E74F-47E9-A7CA-49CC6808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6BC8-2A67-47F0-94D5-F80F84D8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446-DAC7-4D88-BC73-702464DB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5CB2-F1CA-4221-836A-0F9937ED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9E65-C456-4A1A-B45D-32EC7FA6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1ED0-88ED-45CB-8B2A-2D0DB2B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761F-8A48-4FBE-AF20-1ABDB697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B3CE-830A-4CC5-8CAA-72280E63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F2E-14BA-48F9-9245-0971FDCA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291-94CD-412A-BAF3-43A123CE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4F3-E48F-4AA4-9EE3-99AA3BF8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FB8-5041-4CE4-8C90-AC98595A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767-2BDB-445B-94CA-2068DAA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504-8102-41A1-A5AA-96A3CA6C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554-0D6E-486F-8D61-70BB619B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762B-E5DF-4F47-8A16-89378A56E8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422B-F300-426D-8327-3301061A4C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igroup.ru/upload/maravskiykra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s50.radikal.ru/i128/0810/3a/6d56ad9f1176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Карбонаты и гидрокарбонаты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уроку химии в 9 классе «Кислородсодержащие соединения угле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химии Слизкая В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36280" y="5392800"/>
            <a:ext cx="6468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Кап… Кап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Капельки воды… Какое отношение они име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к нашей теме про карбонаты и гидрокарбонат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1"/>
                </a:solidFill>
                <a:latin typeface="Arial"/>
              </a:rPr>
              <a:t>Идет дождь, вода просачивается в землю. Там карбонаты: мел, известняк, мрам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1"/>
                </a:solidFill>
                <a:latin typeface="Arial"/>
              </a:rPr>
              <a:t>Но дождевая вода проходит через атмосферу, обогащается углекислым газом и это уже не совсем вода, а…( запишите уравнение реакции этого процес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Картинка 25 из 1614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1200" y="692280"/>
            <a:ext cx="696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Идет дождь, вода просачивается в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Там есть обязательно карбонаты: мел, известня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Но вода проходит через атмосферу, обогащ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углекислым газом и это уже не совсем вода, 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( запишите уравнения реакций описан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0800" y="3573360"/>
            <a:ext cx="692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Значит стекает по каменным сосулькам уже не в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а раствор соли ( запишите формулу этой со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06640" y="4653000"/>
            <a:ext cx="753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Вода сочится медленно, капает и испаряется… При э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гидрокарбонат кальция обезвоживаетс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превращается в карбонат (запишите уравнение реак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280" y="1484280"/>
            <a:ext cx="158760" cy="11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Картинка 81 из 1618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760" y="5373720"/>
            <a:ext cx="750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Так образуются каменные сосульки – сталакти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и сталагмиты, состоящие из нерастворимых карбон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Но почему они не белого цве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Почемучк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Picture 6" descr="задумался"/>
          <p:cNvPicPr/>
          <p:nvPr/>
        </p:nvPicPr>
        <p:blipFill>
          <a:blip r:embed="rId1"/>
          <a:stretch/>
        </p:blipFill>
        <p:spPr>
          <a:xfrm>
            <a:off x="0" y="0"/>
            <a:ext cx="1289160" cy="165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31040" y="1557360"/>
            <a:ext cx="77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аких местностях земли могут быть карстовые пеще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7720" y="1989000"/>
            <a:ext cx="66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ая соль кальция образует каменные сосуль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3360" y="2540160"/>
            <a:ext cx="75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природная вода всегда содержит ионы кальц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0240" y="3068640"/>
            <a:ext cx="595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природную воду называют жест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3560" y="3691080"/>
            <a:ext cx="63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вода в нашей местности очень жестк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8080" y="4221000"/>
            <a:ext cx="62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на стенках чайника образуется накип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0440" y="4653000"/>
            <a:ext cx="61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в домашних условиях для устра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кости воды применяют со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5589720"/>
            <a:ext cx="56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в жесткой воде мыло плохо мо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5" descr="holiday57"/>
          <p:cNvPicPr/>
          <p:nvPr/>
        </p:nvPicPr>
        <p:blipFill>
          <a:blip r:embed="rId1"/>
          <a:stretch/>
        </p:blipFill>
        <p:spPr>
          <a:xfrm rot="21385800">
            <a:off x="610920" y="3284280"/>
            <a:ext cx="2205000" cy="3105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91200" y="3645000"/>
            <a:ext cx="606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5:08:48Z</dcterms:created>
  <dc:creator>Катенька</dc:creator>
  <dc:description/>
  <dc:language>en-US</dc:language>
  <cp:lastModifiedBy>Катенька</cp:lastModifiedBy>
  <dcterms:modified xsi:type="dcterms:W3CDTF">2012-02-10T16:44:56Z</dcterms:modified>
  <cp:revision>3</cp:revision>
  <dc:subject/>
  <dc:title>Карбонаты и гидрокарбонаты</dc:title>
</cp:coreProperties>
</file>