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059-14CF-4935-8E72-3726F0BF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EDB-AF91-43A3-BD20-33399AFB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97A-796F-4F13-B440-A2A7BE35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115-0FD8-4751-B754-A8B6261D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D5E3-8FDC-499A-B3E2-D4A45FF8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8D2-FE0E-4931-8E8D-BF24C4F9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D40-69A9-446E-825C-A981A698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E73-1EA1-42A5-BC6D-A80F2EF3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910-5997-4D60-B065-B2983204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281-1B50-4018-B4EE-4D70D219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728-D33B-4561-B03E-B3C38FEF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64A-239E-4352-BC29-44B7847A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FB28-CE18-485F-B64A-B075DFE840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8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7e7ff"/>
                </a:solidFill>
                <a:latin typeface="Arial"/>
              </a:rPr>
              <a:t>Кем </a:t>
            </a:r>
            <a:r>
              <a:rPr b="0" lang="tt-RU" sz="6000" spc="-1" strike="noStrike">
                <a:solidFill>
                  <a:srgbClr val="b7e7ff"/>
                </a:solidFill>
                <a:latin typeface="Arial"/>
              </a:rPr>
              <a:t>күбрәк белә?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Picture 5" descr="18"/>
          <p:cNvPicPr/>
          <p:nvPr/>
        </p:nvPicPr>
        <p:blipFill>
          <a:blip r:embed="rId2"/>
          <a:srcRect l="0" t="0" r="0" b="4687"/>
          <a:stretch/>
        </p:blipFill>
        <p:spPr>
          <a:xfrm>
            <a:off x="1476360" y="1844640"/>
            <a:ext cx="612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Таркалган сүзләр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Тәмхә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зоб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Ңыряг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Канук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b7e7ff"/>
                </a:solidFill>
                <a:latin typeface="Arial"/>
              </a:rPr>
              <a:t>Лексика. </a:t>
            </a:r>
            <a:br>
              <a:rPr sz="4000"/>
            </a:br>
            <a:r>
              <a:rPr b="0" lang="tt-RU" sz="4000" spc="-1" strike="noStrike">
                <a:solidFill>
                  <a:srgbClr val="b7e7ff"/>
                </a:solidFill>
                <a:latin typeface="Arial"/>
              </a:rPr>
              <a:t>Җ хәрефенә башланган сүзләр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Кышлаучы кошлар ашханәс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Урманда, бакчада үс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Атнаның бер көне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Ел вакы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Җыр башкаруч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С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48320" y="1676520"/>
          <a:ext cx="4194000" cy="672840"/>
        </p:xfrm>
        <a:graphic>
          <a:graphicData uri="http://schemas.openxmlformats.org/drawingml/2006/table">
            <a:tbl>
              <a:tblPr/>
              <a:tblGrid>
                <a:gridCol w="699120"/>
                <a:gridCol w="698760"/>
                <a:gridCol w="699120"/>
                <a:gridCol w="698760"/>
                <a:gridCol w="699120"/>
                <a:gridCol w="69912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643280" y="2421000"/>
          <a:ext cx="3529080" cy="647640"/>
        </p:xfrm>
        <a:graphic>
          <a:graphicData uri="http://schemas.openxmlformats.org/drawingml/2006/table">
            <a:tbl>
              <a:tblPr/>
              <a:tblGrid>
                <a:gridCol w="720720"/>
                <a:gridCol w="720720"/>
                <a:gridCol w="648000"/>
                <a:gridCol w="718920"/>
                <a:gridCol w="7207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643280" y="3141720"/>
          <a:ext cx="3522960" cy="718920"/>
        </p:xfrm>
        <a:graphic>
          <a:graphicData uri="http://schemas.openxmlformats.org/drawingml/2006/table">
            <a:tbl>
              <a:tblPr/>
              <a:tblGrid>
                <a:gridCol w="716040"/>
                <a:gridCol w="720720"/>
                <a:gridCol w="719280"/>
                <a:gridCol w="718920"/>
                <a:gridCol w="64800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643280" y="3933720"/>
          <a:ext cx="2160720" cy="647640"/>
        </p:xfrm>
        <a:graphic>
          <a:graphicData uri="http://schemas.openxmlformats.org/drawingml/2006/table">
            <a:tbl>
              <a:tblPr/>
              <a:tblGrid>
                <a:gridCol w="720720"/>
                <a:gridCol w="720720"/>
                <a:gridCol w="719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643280" y="4653000"/>
          <a:ext cx="3600720" cy="647640"/>
        </p:xfrm>
        <a:graphic>
          <a:graphicData uri="http://schemas.openxmlformats.org/drawingml/2006/table">
            <a:tbl>
              <a:tblPr/>
              <a:tblGrid>
                <a:gridCol w="720720"/>
                <a:gridCol w="720720"/>
                <a:gridCol w="719280"/>
                <a:gridCol w="647640"/>
                <a:gridCol w="792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643280" y="5460840"/>
          <a:ext cx="2808360" cy="632160"/>
        </p:xfrm>
        <a:graphic>
          <a:graphicData uri="http://schemas.openxmlformats.org/drawingml/2006/table">
            <a:tbl>
              <a:tblPr/>
              <a:tblGrid>
                <a:gridCol w="744840"/>
                <a:gridCol w="744480"/>
                <a:gridCol w="671400"/>
                <a:gridCol w="647640"/>
              </a:tblGrid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b7e7ff"/>
                </a:solidFill>
                <a:latin typeface="Arial"/>
              </a:rPr>
              <a:t>Сүзнең башын мин әйтәм, </a:t>
            </a:r>
            <a:br>
              <a:rPr sz="4000"/>
            </a:br>
            <a:r>
              <a:rPr b="0" lang="tt-RU" sz="4000" spc="-1" strike="noStrike">
                <a:solidFill>
                  <a:srgbClr val="b7e7ff"/>
                </a:solidFill>
                <a:latin typeface="Arial"/>
              </a:rPr>
              <a:t>ахырын сез әйтегез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к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кош,-бур,-ча, -чарлак........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л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-ма,-магач,-ка,-тын, -с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Анограммалар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к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кы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Йө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Сө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Чабак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43480" y="1628640"/>
            <a:ext cx="4124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Шарада.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Ул биек таудан шуарг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Ярышырга, чабарга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Бер хәрефен алыштырсаң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Була печән чабар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Чаңгы, чалг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16720" y="2852640"/>
            <a:ext cx="1008000" cy="1251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rcRect l="8330" t="11107" r="0" b="18535"/>
          <a:stretch/>
        </p:blipFill>
        <p:spPr>
          <a:xfrm>
            <a:off x="3995640" y="4508640"/>
            <a:ext cx="2376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Ике сүздән бер сүз яса.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Яка+ба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Шәл+ 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Кап+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Калак+ч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Табышмаклар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18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1)Башы тарак,койрыгы ура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Кычкыртып быргысы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Уята барысы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(Әтәч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2) Җәен урманга патш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Кышын кардан да а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(А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3)Җәен соры,кышын а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Аңа шулай яхшыра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(Куя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4)Сөяге юк,теше ю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Сөйләмәгән сүзе ю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(Те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5)Сырлы,сырлы, сырлы у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Безнең белән җырлый у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(Гарму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Шаян табышмаклар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-кайсы шәһәрдә аш пешереп бу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(каза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-кайсы бодайдан кортлар бал а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(карабода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-нинди ике нота бакчада үсә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(фа-сол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Сүз белгечләр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16000"/>
            <a:ext cx="851076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синонимнар әйт                      антонимнарын әй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Матур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чибәр                       я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ьсе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Зу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олы                          кечкен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Эсс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кызу                        салкы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Яхш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әйбәт                     начар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Дус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иптәш                   дошм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98680" y="7504200"/>
            <a:ext cx="254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Зирәкләр конкурсы.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А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таш ,баш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хат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Ал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бал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Илә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җиләк, чиләк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Кра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экр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40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Татар алфавитында ничә хәреф бар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3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Нинди сузык авазлар бар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а,о,у,ы, ә, ө,ү,и,э(е),ю,я,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Татар телендә нинди тартык авздан башланган сүз булмы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Ң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Алфавитның 21 нче хәрефен әйт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Самат ай исемнәрен алфавит тәртибендә язып куйды. Ул дөрес эшләдеме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Август,апрель,гыйнвар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кабрь, июнь, июль,май, март,ноябрь,октябрь,февра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Азакка хәреф куегыз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Ша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ша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Бүре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бүр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Б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бал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Кар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ка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Чан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чана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ем к</a:t>
            </a: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үбрәк сүз яза?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Табышма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0" y="3284640"/>
            <a:ext cx="35290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ар телендә күплек сан кушымчаларын әйтеге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-Лар/-ләр, -нар/нә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Татар телендә ничә килеш бар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Нинди сүз төркемнәрен беләсез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Исем, фигыль ,сан, рәвеш,сыйфат, алмашлы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Әйдәгез , танышыйк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7e7ff"/>
                </a:solidFill>
                <a:latin typeface="Arial"/>
              </a:rPr>
              <a:t>1. Шагыйрьл</a:t>
            </a:r>
            <a:r>
              <a:rPr b="0" lang="tt-RU" sz="5400" spc="-1" strike="noStrike">
                <a:solidFill>
                  <a:srgbClr val="b7e7ff"/>
                </a:solidFill>
                <a:latin typeface="Arial"/>
              </a:rPr>
              <a:t>әр.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1.Кичер мине, илем, синең бөе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Исемең белән килеп сугыш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Данлы үлем белән күмәлмәд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Бу тәнемне соңгы сулыш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М. Җәли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Мин –Шәвәл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Шук малай, үткен мала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Ут малай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Мин бик уңган, өлгер ми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Юк- бар белән көлдерми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Ш. Гали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Әйдә әле, Акба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Өйрән син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рт аягың белән 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ума, аума 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Туп-туры 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Төз утыр, яхшы уты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Г. Тука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Мәкал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ь</a:t>
            </a: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ләр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6281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Белем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ну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Белемдә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көч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Эш беткәч,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уйнарга яр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Күп бе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з сөйлә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Диктант язу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Arial"/>
              </a:rPr>
              <a:t>Безнең тамашачыларыбыз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Сабантуй- сүзләр төзеп әйтеге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Түбәндәге тамгаларны укыгы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6н, к3, т10, 5ек,100ек,5 мәт,100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Болар нинди сүзләр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К----м, т-----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ь, у---н,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б-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9:57:45Z</dcterms:created>
  <dc:creator>Дом</dc:creator>
  <dc:description/>
  <dc:language>en-US</dc:language>
  <cp:lastModifiedBy>Дом</cp:lastModifiedBy>
  <dcterms:modified xsi:type="dcterms:W3CDTF">2009-12-22T20:10:29Z</dcterms:modified>
  <cp:revision>27</cp:revision>
  <dc:subject/>
  <dc:title>Слайд 1</dc:title>
</cp:coreProperties>
</file>