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1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5F5-B493-4E02-A84D-309D46E4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B7E-DA94-4615-8A89-9DCA14B8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FE5-398B-4F20-B46F-78774B16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B92-58EF-4DF3-9761-FC5CC6A5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00F9-06F0-481B-BEB5-0775EDAD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8FB9-A72F-44CD-A69C-2D05036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A89F-0E26-4757-A2FB-BDE233D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F1A-BFD8-4789-915C-8D14723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58FD-E9AD-49EB-B935-518D8112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6D3-4DEF-4375-BC15-2B626E3E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DAD-F0CF-43F8-BB51-F2507F3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410-5BA5-434B-8710-8670E6A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D53-9B23-4BB6-9C9A-C1B582EF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883-2036-4C2C-9F85-F9B3983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782-CFC7-46AF-B966-E9917A9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E02D-97F5-42EA-B4F0-859673C4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B727-AA55-4E71-8B6D-DB6E8446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5F8-0703-4690-B8AB-9C783ED8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FA1-8F07-4C63-B927-436B68DC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232-9BDA-45FB-9A45-29C6765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BB1-4D58-4747-BBA3-B67B3B5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AA9-26B8-4998-A2E4-B4BA2F6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3A1-6324-4C72-9BE8-DAE67F0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36-DA07-4221-B2DD-D5E926B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B19F-14CD-4395-AB05-8ECC82CEF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A39A-56A4-43FE-AF68-AC7A7A4512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Семейный экологи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«Вода в дом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«Что умеет капельк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845640" y="2697120"/>
            <a:ext cx="745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. Шлеёв Даниил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. Шлеёва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еёв Александр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. Учитель начальных классов Кунаковская И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1432"/>
          <p:cNvPicPr/>
          <p:nvPr/>
        </p:nvPicPr>
        <p:blipFill>
          <a:blip r:embed="rId1">
            <a:lum bright="12000"/>
          </a:blip>
          <a:srcRect l="0" t="0" r="10148" b="37765"/>
          <a:stretch/>
        </p:blipFill>
        <p:spPr>
          <a:xfrm rot="1542000">
            <a:off x="6095520" y="4190760"/>
            <a:ext cx="2387880" cy="1989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image4"/>
          <p:cNvPicPr/>
          <p:nvPr/>
        </p:nvPicPr>
        <p:blipFill>
          <a:blip r:embed="rId2"/>
          <a:stretch/>
        </p:blipFill>
        <p:spPr>
          <a:xfrm rot="1074000">
            <a:off x="3352320" y="4190760"/>
            <a:ext cx="193068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image5"/>
          <p:cNvPicPr/>
          <p:nvPr/>
        </p:nvPicPr>
        <p:blipFill>
          <a:blip r:embed="rId3"/>
          <a:stretch/>
        </p:blipFill>
        <p:spPr>
          <a:xfrm rot="1945800">
            <a:off x="3733560" y="5562720"/>
            <a:ext cx="609480" cy="48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drop_of_water___tears_by_ramma7"/>
          <p:cNvPicPr/>
          <p:nvPr/>
        </p:nvPicPr>
        <p:blipFill>
          <a:blip r:embed="rId4"/>
          <a:stretch/>
        </p:blipFill>
        <p:spPr>
          <a:xfrm rot="1014600">
            <a:off x="7467120" y="1371600"/>
            <a:ext cx="1333800" cy="137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Актуальность проекта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ы на Земле одновременно и много и м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зглянуть на глобус, то можно увидеть, что синего цвета больше. Более 70% поверхности Земли покрыто водой, но почти вся эта вода соленая.  Вода - одно из самых привычных для нас веществ. Благодаря повседневному обращению с водой мы так привыкли к ней, что часто не замечаем целого ряда её отличительных свойств. Без воды нет жизни .Без воды не могут жить не только люди, но и  вся природа, поэтому мы обязаны беречь при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учащимся , что вода – это уникальное природное соединение, активная сред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ить удивительные физические свойства 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вести учащихся к оценке роли воды в жизни растений, животных и человека, к пониманию необходимости бережного и экономичного отношения к водным ресурс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 познавательную деятельность, формировать чувство прекрасного, умение выделять главное, находить ответы на поставленные вопросы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экологического мировоззрения подрастающего поколения и формирование у школьников бережного отношения к воде как к жизненно важному ресурсу для здоровья и драгоценному дару прир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rop_of_water___tears_by_ramma7"/>
          <p:cNvPicPr/>
          <p:nvPr/>
        </p:nvPicPr>
        <p:blipFill>
          <a:blip r:embed="rId1"/>
          <a:stretch/>
        </p:blipFill>
        <p:spPr>
          <a:xfrm rot="1014600">
            <a:off x="7284960" y="228600"/>
            <a:ext cx="188460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image5"/>
          <p:cNvPicPr/>
          <p:nvPr/>
        </p:nvPicPr>
        <p:blipFill>
          <a:blip r:embed="rId2"/>
          <a:stretch/>
        </p:blipFill>
        <p:spPr>
          <a:xfrm rot="1945800">
            <a:off x="7772040" y="1066680"/>
            <a:ext cx="609480" cy="487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image5"/>
          <p:cNvPicPr/>
          <p:nvPr/>
        </p:nvPicPr>
        <p:blipFill>
          <a:blip r:embed="rId3"/>
          <a:stretch/>
        </p:blipFill>
        <p:spPr>
          <a:xfrm rot="1945800">
            <a:off x="7772040" y="1066680"/>
            <a:ext cx="6094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Задач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Познакомиться с богатством природы – водой, со значением чистой воды для жизни всего живого на Зем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Привлечь внимание общественности в проблеме обеспечения чистой питьевой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Активизировать действия учащихся в решении этой пробл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Научиться бережно относиться к воде и экономить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Подготовить презентацию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Основополагающий вопро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елька воды – это много или мало? Что умеет капелька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Проблем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ли говорить, что вода –это самое ценное на Зем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или мало воды на Зем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сё же что такое во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главная роль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Гипотеза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 - одно из самых привычных для нас веществ. Благодаря повседневному обращению с водой мы так привыкли к ней, что часто не замечаем целого ряда её отличительных свойств. Можно перечислять её достоинства, восхищаться ею и говорить о значении воды в нашей жизни. Но слова - лишь слова. Нам, наверное, никогда не понять до конца - чем мы обязаны ей. Но попробовать - стоит. Дети еще с малого детства должны понимать как это важно для человечества в целом. Если дети будут понимать важность воды, то будут сознательно беречь в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Подготовительная р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основных источников информации. Поиск информации начали с классной библиотеки. Учитывая возраст автора работы 7 лет (первоклассник) источники информации были предложены родителями и учителем, уже адаптированные. Кроме того, обсудили, где ещё можно взять информацию. Посетили школьную, городскую библиотеку, а также воспользовались домашней и Интерне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0" descr="image4"/>
          <p:cNvPicPr/>
          <p:nvPr/>
        </p:nvPicPr>
        <p:blipFill>
          <a:blip r:embed="rId1"/>
          <a:stretch/>
        </p:blipFill>
        <p:spPr>
          <a:xfrm rot="1074000">
            <a:off x="7543800" y="0"/>
            <a:ext cx="13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image5"/>
          <p:cNvPicPr/>
          <p:nvPr/>
        </p:nvPicPr>
        <p:blipFill>
          <a:blip r:embed="rId2"/>
          <a:stretch/>
        </p:blipFill>
        <p:spPr>
          <a:xfrm rot="1945800">
            <a:off x="7826040" y="905040"/>
            <a:ext cx="46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Что умеет капель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Привет всем, я капелька. И сейчас расскажу вам, какими свойствами я обладаю.  Их ты можешь сам установить в ходе опы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апелька прозрачна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доченька во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а б не посмотрели 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м мои сле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блачке, в фонтанч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допаде с г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тром на трави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апелек у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4"/>
          <p:cNvPicPr/>
          <p:nvPr/>
        </p:nvPicPr>
        <p:blipFill>
          <a:blip r:embed="rId1"/>
          <a:stretch/>
        </p:blipFill>
        <p:spPr>
          <a:xfrm rot="1814400">
            <a:off x="5420880" y="3075120"/>
            <a:ext cx="2614680" cy="318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age5"/>
          <p:cNvPicPr/>
          <p:nvPr/>
        </p:nvPicPr>
        <p:blipFill>
          <a:blip r:embed="rId2"/>
          <a:stretch/>
        </p:blipFill>
        <p:spPr>
          <a:xfrm rot="2024400">
            <a:off x="5943240" y="4419720"/>
            <a:ext cx="1023840" cy="81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SCN083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15238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SCN0775"/>
          <p:cNvPicPr/>
          <p:nvPr/>
        </p:nvPicPr>
        <p:blipFill>
          <a:blip r:embed="rId2"/>
          <a:stretch/>
        </p:blipFill>
        <p:spPr>
          <a:xfrm>
            <a:off x="3657600" y="1676520"/>
            <a:ext cx="2057400" cy="154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image4"/>
          <p:cNvPicPr/>
          <p:nvPr/>
        </p:nvPicPr>
        <p:blipFill>
          <a:blip r:embed="rId3"/>
          <a:stretch/>
        </p:blipFill>
        <p:spPr>
          <a:xfrm rot="1814400">
            <a:off x="6248160" y="304920"/>
            <a:ext cx="2614320" cy="318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image5"/>
          <p:cNvPicPr/>
          <p:nvPr/>
        </p:nvPicPr>
        <p:blipFill>
          <a:blip r:embed="rId4"/>
          <a:stretch/>
        </p:blipFill>
        <p:spPr>
          <a:xfrm rot="2024400">
            <a:off x="6781320" y="1600200"/>
            <a:ext cx="1024200" cy="81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DSCN0776"/>
          <p:cNvPicPr/>
          <p:nvPr/>
        </p:nvPicPr>
        <p:blipFill>
          <a:blip r:embed="rId5"/>
          <a:stretch/>
        </p:blipFill>
        <p:spPr>
          <a:xfrm>
            <a:off x="152280" y="3581280"/>
            <a:ext cx="3221280" cy="2414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SCN0857"/>
          <p:cNvPicPr/>
          <p:nvPr/>
        </p:nvPicPr>
        <p:blipFill>
          <a:blip r:embed="rId6"/>
          <a:stretch/>
        </p:blipFill>
        <p:spPr>
          <a:xfrm>
            <a:off x="3809880" y="3200400"/>
            <a:ext cx="3932280" cy="294804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SCN0772"/>
          <p:cNvPicPr/>
          <p:nvPr/>
        </p:nvPicPr>
        <p:blipFill>
          <a:blip r:embed="rId1"/>
          <a:stretch/>
        </p:blipFill>
        <p:spPr>
          <a:xfrm>
            <a:off x="304920" y="1523880"/>
            <a:ext cx="30891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mage6"/>
          <p:cNvPicPr/>
          <p:nvPr/>
        </p:nvPicPr>
        <p:blipFill>
          <a:blip r:embed="rId2"/>
          <a:stretch/>
        </p:blipFill>
        <p:spPr>
          <a:xfrm rot="1960200">
            <a:off x="7695720" y="2514240"/>
            <a:ext cx="1089000" cy="1185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SCN0855"/>
          <p:cNvPicPr/>
          <p:nvPr/>
        </p:nvPicPr>
        <p:blipFill>
          <a:blip r:embed="rId3"/>
          <a:stretch/>
        </p:blipFill>
        <p:spPr>
          <a:xfrm>
            <a:off x="419112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SCN0849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438280" y="35812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DSCN0778"/>
          <p:cNvPicPr/>
          <p:nvPr/>
        </p:nvPicPr>
        <p:blipFill>
          <a:blip r:embed="rId5"/>
          <a:stretch/>
        </p:blipFill>
        <p:spPr>
          <a:xfrm>
            <a:off x="5105520" y="4114800"/>
            <a:ext cx="2886120" cy="216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. Кунаковская И,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SCN0838"/>
          <p:cNvPicPr/>
          <p:nvPr/>
        </p:nvPicPr>
        <p:blipFill>
          <a:blip r:embed="rId1"/>
          <a:stretch/>
        </p:blipFill>
        <p:spPr>
          <a:xfrm>
            <a:off x="152280" y="1523880"/>
            <a:ext cx="2357640" cy="176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SCN0840"/>
          <p:cNvPicPr/>
          <p:nvPr/>
        </p:nvPicPr>
        <p:blipFill>
          <a:blip r:embed="rId2"/>
          <a:stretch/>
        </p:blipFill>
        <p:spPr>
          <a:xfrm>
            <a:off x="3429000" y="152388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03lab5vph1227885085"/>
          <p:cNvPicPr/>
          <p:nvPr/>
        </p:nvPicPr>
        <p:blipFill>
          <a:blip r:embed="rId3"/>
          <a:srcRect l="3109" t="16469" r="55095" b="11434"/>
          <a:stretch/>
        </p:blipFill>
        <p:spPr>
          <a:xfrm rot="19747800">
            <a:off x="1371600" y="5105160"/>
            <a:ext cx="118260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mage4"/>
          <p:cNvPicPr/>
          <p:nvPr/>
        </p:nvPicPr>
        <p:blipFill>
          <a:blip r:embed="rId4"/>
          <a:stretch/>
        </p:blipFill>
        <p:spPr>
          <a:xfrm rot="1814400">
            <a:off x="6324120" y="457200"/>
            <a:ext cx="2614680" cy="3181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image5"/>
          <p:cNvPicPr/>
          <p:nvPr/>
        </p:nvPicPr>
        <p:blipFill>
          <a:blip r:embed="rId5"/>
          <a:stretch/>
        </p:blipFill>
        <p:spPr>
          <a:xfrm rot="1945800">
            <a:off x="6934320" y="1676160"/>
            <a:ext cx="1066680" cy="85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2-10T11:25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