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D8A-BA10-4C76-8FA5-50F2AE0D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A98-15D3-441F-8BD7-5BED11E2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E15-44C8-4F4C-BE4C-E91AD054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608-F3C7-4F61-B3EB-99112CF7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7B4-CF3C-45A9-8D76-7D6F47AE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7A7-9DEB-4EBD-872C-8B6C734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E19-2251-4D39-A679-9213B17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0E5-2BA8-4B5D-B1B7-83BC5785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ADF-4600-46E3-960B-4DE20A8F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C1A-F941-4F2E-BD32-4ED56DA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6A4-B63F-4FCC-8536-F64BEEF2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762-09A8-4919-A770-5C0739A9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54BC-8AFE-4B68-B112-86B634735E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333360"/>
            <a:ext cx="8281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а дополнительного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зования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60339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школы №64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Карусель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цевальный круж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локова Галина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Заряноч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кальный круж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4864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Яковлева Татьяна Валентин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Столяр-конструкто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лдатов Игорь Юр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Лего 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ототех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43280" y="1413000"/>
            <a:ext cx="3363840" cy="424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федов Дмитрий Андре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Навстречу рекорда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Ф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464000" cy="446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Живых Юрий Владимир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Движен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840360" cy="509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инакова Надежда Серг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Памя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кольный муз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04000" cy="481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нтипов Геннадий Никола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RD-EAST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ивное ориент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5640" cy="4875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165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тепанов Вячеслав Владимир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333360"/>
            <a:ext cx="813564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запросам </a:t>
            </a:r>
            <a:endParaRPr b="0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телей учащихся</a:t>
            </a:r>
            <a:endParaRPr b="0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ы открыто</a:t>
            </a:r>
            <a:endParaRPr b="0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</a:t>
            </a:r>
            <a:endParaRPr b="0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удожественных кружка.</a:t>
            </a:r>
            <a:endParaRPr b="0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Серебряная ни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изонить или вышивка по картону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193080" cy="438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узнецова Гали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Русские узо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роспись по дереву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767280" cy="464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узнецова Антони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Тестопласти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зникова Вера Пав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Мягкая игруш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38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ыроватская Елизавета Исаак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96720" y="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Литературный дебю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765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Литературные исто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260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329440" cy="426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697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и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нцадзе Евгения Степан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 Ющак Наталья Николае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Форту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школьная газет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977080" cy="449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овицкая Елена Вале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«Юный журналис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тялкина Людмила Викто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0:46:10Z</dcterms:created>
  <dc:creator>Tonya</dc:creator>
  <dc:description/>
  <dc:language>en-US</dc:language>
  <cp:lastModifiedBy>Tonya</cp:lastModifiedBy>
  <dcterms:modified xsi:type="dcterms:W3CDTF">2011-09-22T12:04:30Z</dcterms:modified>
  <cp:revision>3</cp:revision>
  <dc:subject/>
  <dc:title>Слайд 1</dc:title>
</cp:coreProperties>
</file>