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6BC-270E-4C5E-9E99-239B1C3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6AB-2B2E-4254-A682-497503D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76B-219A-4F1A-A897-4B948ABF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3C5-033B-4586-956C-348ABD65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B4F3-5FA0-48C8-84B4-75B5BF40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355-2600-4C94-8E38-B6C4CE9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C13-0427-44C6-AD67-1A9F5CD7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6CE-7137-4D37-834E-C3B72CE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FCA9-59F7-4C4C-B6D6-1D78FBD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E0B-47F9-40C2-928F-5F2C87E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3B6E-11D3-4497-8121-BD59CF0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9EA-E885-45BD-B1B4-7FA52C3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EB1D-68BE-49B6-8D32-EE2AAFBF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9BE6-35B9-4836-B56B-CF0BCE95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FE7E-B973-47B4-AE01-46C72F32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DD6-C71A-4889-89BE-9C03CA62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AC58-A640-483B-9F2F-4B3C0C9C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78E4-3A25-46D9-9AB6-BC113828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2DB8-F439-4811-BD19-A55CB288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6A41-1E3F-41FD-B2FC-A9915F4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455D-A0C6-4A15-8499-B7A501B9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7D27-309B-4501-BA27-80D014A2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CCB-6D20-44F9-A567-17B839C5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634D-9FD6-4543-949B-98572430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4D4B-CC39-48C8-9581-71643C2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5AEF-67D0-4F98-A2B7-DCD7606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EC95-CEA7-42E7-907A-4FD03C2F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27C5-8D82-4BA4-B06C-5A0CDA1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7742-8A82-4050-80C5-C5BC8438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F13A-C583-4EFA-B82E-E72AD33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68F0-EF45-45ED-A4D9-9FECB8AB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F700-595B-4D52-A2E3-570F0861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2FA4-5351-436F-8B16-B5291905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328-665E-4E2B-93C5-0089134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9A1C-29D4-43E5-A794-3E88F13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C209-426F-4AF6-973B-D00C8D87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A531-C198-444E-B5FC-2660E719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85BC-C90D-4D4F-B04C-C6D380C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EFE3-43AC-4CD5-AAA4-DD46CD7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AC9A-BFBC-40BA-860F-AB1C01E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2013-4C4A-4506-B640-5A5DB132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AF7B-C52A-42E2-AF23-928AC99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0471-58F5-40F1-A15C-6CD70A5D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7CB9-5C15-4E3C-AF7E-2F94D5D6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56C-EB37-4DBD-8565-1243CFA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A872-AB5C-4EB3-B170-58CA76E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C746-E9DA-4D96-9F3C-C37C856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E2FB-897F-4AFB-B9A7-F48EEB0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898E-97EB-4306-AC24-2689C42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48AB-60BD-49D1-90BE-0B819CF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5508-4224-44C6-A491-422315B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D280-FC17-4D4C-9A7A-203203E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1CB7-9C7E-4962-9967-8351CBF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3C3A-E74C-4E4C-896C-D10AF455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A3D5E-4BCD-41D2-9548-19140B2B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EBA-3294-405F-90C5-1B992AB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1834-D135-4C6A-8E8B-2BD7F49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538-56F1-44B5-8718-9BD9279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696-3185-422F-B29A-6CC1392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88C-DE29-4547-A0A9-6C43D4A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F23-7F94-4EE5-A8DB-814DF77F37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5AE8-A785-44BF-A307-E57D245FCB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8A33-5EFD-4E6F-9397-8C2CC88077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522-C327-4A86-BECC-9B11992A76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7DA4-B93A-45F5-BACB-64CA5DECF5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9199440" cy="3853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78548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аева Ирина Александр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музыки МОУ «СОШ №67» г. Сарат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42960" y="785880"/>
            <a:ext cx="75009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то из современных композиторов не пишет музыку для театра и кино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А.Рыбник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 В.Дашкеви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 Б.Чайков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аких жанрах искусства используется музы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Скульптур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 Любой музыкальный спектак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 Живопис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500200" y="2071800"/>
          <a:ext cx="4357800" cy="4500360"/>
        </p:xfrm>
        <a:graphic>
          <a:graphicData uri="http://schemas.openxmlformats.org/drawingml/2006/table">
            <a:tbl>
              <a:tblPr/>
              <a:tblGrid>
                <a:gridCol w="463680"/>
                <a:gridCol w="487440"/>
                <a:gridCol w="487440"/>
                <a:gridCol w="485640"/>
                <a:gridCol w="485640"/>
                <a:gridCol w="487440"/>
                <a:gridCol w="487440"/>
                <a:gridCol w="487440"/>
                <a:gridCol w="485640"/>
              </a:tblGrid>
              <a:tr h="4507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спрятанные «музыкальные» слов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aprel.mp3" descr=""/>
          <p:cNvPicPr/>
          <p:nvPr/>
        </p:nvPicPr>
        <p:blipFill>
          <a:blip r:embed="rId1"/>
          <a:stretch/>
        </p:blipFill>
        <p:spPr>
          <a:xfrm>
            <a:off x="778680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0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0200" y="1500120"/>
          <a:ext cx="4017960" cy="4017960"/>
        </p:xfrm>
        <a:graphic>
          <a:graphicData uri="http://schemas.openxmlformats.org/drawingml/2006/table">
            <a:tbl>
              <a:tblPr/>
              <a:tblGrid>
                <a:gridCol w="427320"/>
                <a:gridCol w="448920"/>
                <a:gridCol w="449280"/>
                <a:gridCol w="449280"/>
                <a:gridCol w="449280"/>
                <a:gridCol w="447840"/>
                <a:gridCol w="449280"/>
                <a:gridCol w="449280"/>
                <a:gridCol w="447480"/>
              </a:tblGrid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2500200" y="15001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928960" y="1500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3357720" y="1500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3857760" y="1500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714920" y="1500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471492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4714920" y="2286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4714920" y="2714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471492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4714920" y="35719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471492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4714920" y="435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4714920" y="4714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471492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8"/>
          <p:cNvSpPr/>
          <p:nvPr/>
        </p:nvSpPr>
        <p:spPr>
          <a:xfrm>
            <a:off x="3357720" y="1928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3357720" y="2357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3357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3357720" y="3143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2"/>
          <p:cNvSpPr/>
          <p:nvPr/>
        </p:nvSpPr>
        <p:spPr>
          <a:xfrm>
            <a:off x="2928960" y="35719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3357720" y="35719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3786120" y="3571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4286160" y="3571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5143680" y="35719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7"/>
          <p:cNvSpPr/>
          <p:nvPr/>
        </p:nvSpPr>
        <p:spPr>
          <a:xfrm>
            <a:off x="5643720" y="35719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3786120" y="2714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9"/>
          <p:cNvSpPr/>
          <p:nvPr/>
        </p:nvSpPr>
        <p:spPr>
          <a:xfrm>
            <a:off x="4286160" y="2714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0"/>
          <p:cNvSpPr/>
          <p:nvPr/>
        </p:nvSpPr>
        <p:spPr>
          <a:xfrm>
            <a:off x="5143680" y="2714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1"/>
          <p:cNvSpPr/>
          <p:nvPr/>
        </p:nvSpPr>
        <p:spPr>
          <a:xfrm>
            <a:off x="5572080" y="2714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2"/>
          <p:cNvSpPr/>
          <p:nvPr/>
        </p:nvSpPr>
        <p:spPr>
          <a:xfrm>
            <a:off x="6072120" y="271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3"/>
          <p:cNvSpPr/>
          <p:nvPr/>
        </p:nvSpPr>
        <p:spPr>
          <a:xfrm>
            <a:off x="428616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4"/>
          <p:cNvSpPr/>
          <p:nvPr/>
        </p:nvSpPr>
        <p:spPr>
          <a:xfrm>
            <a:off x="521496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5"/>
          <p:cNvSpPr/>
          <p:nvPr/>
        </p:nvSpPr>
        <p:spPr>
          <a:xfrm>
            <a:off x="5643720" y="3143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6"/>
          <p:cNvSpPr/>
          <p:nvPr/>
        </p:nvSpPr>
        <p:spPr>
          <a:xfrm>
            <a:off x="6075000" y="314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7"/>
          <p:cNvSpPr/>
          <p:nvPr/>
        </p:nvSpPr>
        <p:spPr>
          <a:xfrm>
            <a:off x="2500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8"/>
          <p:cNvSpPr/>
          <p:nvPr/>
        </p:nvSpPr>
        <p:spPr>
          <a:xfrm>
            <a:off x="2928960" y="3929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9"/>
          <p:cNvSpPr/>
          <p:nvPr/>
        </p:nvSpPr>
        <p:spPr>
          <a:xfrm>
            <a:off x="3357720" y="392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0"/>
          <p:cNvSpPr/>
          <p:nvPr/>
        </p:nvSpPr>
        <p:spPr>
          <a:xfrm>
            <a:off x="3857760" y="3929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1"/>
          <p:cNvSpPr/>
          <p:nvPr/>
        </p:nvSpPr>
        <p:spPr>
          <a:xfrm>
            <a:off x="428616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2"/>
          <p:cNvSpPr/>
          <p:nvPr/>
        </p:nvSpPr>
        <p:spPr>
          <a:xfrm>
            <a:off x="521496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3"/>
          <p:cNvSpPr/>
          <p:nvPr/>
        </p:nvSpPr>
        <p:spPr>
          <a:xfrm>
            <a:off x="2500200" y="435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4"/>
          <p:cNvSpPr/>
          <p:nvPr/>
        </p:nvSpPr>
        <p:spPr>
          <a:xfrm>
            <a:off x="2928960" y="435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5"/>
          <p:cNvSpPr/>
          <p:nvPr/>
        </p:nvSpPr>
        <p:spPr>
          <a:xfrm>
            <a:off x="3357720" y="4357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6"/>
          <p:cNvSpPr/>
          <p:nvPr/>
        </p:nvSpPr>
        <p:spPr>
          <a:xfrm>
            <a:off x="3857760" y="4357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7"/>
          <p:cNvSpPr/>
          <p:nvPr/>
        </p:nvSpPr>
        <p:spPr>
          <a:xfrm>
            <a:off x="4286160" y="4357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8"/>
          <p:cNvSpPr/>
          <p:nvPr/>
        </p:nvSpPr>
        <p:spPr>
          <a:xfrm>
            <a:off x="5143680" y="4357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9"/>
          <p:cNvSpPr/>
          <p:nvPr/>
        </p:nvSpPr>
        <p:spPr>
          <a:xfrm>
            <a:off x="5643720" y="4357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6072120" y="435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1"/>
          <p:cNvSpPr/>
          <p:nvPr/>
        </p:nvSpPr>
        <p:spPr>
          <a:xfrm>
            <a:off x="2500200" y="4714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2"/>
          <p:cNvSpPr/>
          <p:nvPr/>
        </p:nvSpPr>
        <p:spPr>
          <a:xfrm>
            <a:off x="2928960" y="471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3"/>
          <p:cNvSpPr/>
          <p:nvPr/>
        </p:nvSpPr>
        <p:spPr>
          <a:xfrm>
            <a:off x="3357720" y="4714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4"/>
          <p:cNvSpPr/>
          <p:nvPr/>
        </p:nvSpPr>
        <p:spPr>
          <a:xfrm>
            <a:off x="3857760" y="4714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5"/>
          <p:cNvSpPr/>
          <p:nvPr/>
        </p:nvSpPr>
        <p:spPr>
          <a:xfrm>
            <a:off x="4286160" y="471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6"/>
          <p:cNvSpPr/>
          <p:nvPr/>
        </p:nvSpPr>
        <p:spPr>
          <a:xfrm>
            <a:off x="2500200" y="5143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7"/>
          <p:cNvSpPr/>
          <p:nvPr/>
        </p:nvSpPr>
        <p:spPr>
          <a:xfrm>
            <a:off x="292896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8"/>
          <p:cNvSpPr/>
          <p:nvPr/>
        </p:nvSpPr>
        <p:spPr>
          <a:xfrm>
            <a:off x="3357720" y="5143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9"/>
          <p:cNvSpPr/>
          <p:nvPr/>
        </p:nvSpPr>
        <p:spPr>
          <a:xfrm>
            <a:off x="385776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0"/>
          <p:cNvSpPr/>
          <p:nvPr/>
        </p:nvSpPr>
        <p:spPr>
          <a:xfrm>
            <a:off x="428616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1"/>
          <p:cNvSpPr/>
          <p:nvPr/>
        </p:nvSpPr>
        <p:spPr>
          <a:xfrm>
            <a:off x="5143680" y="5143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2"/>
          <p:cNvSpPr/>
          <p:nvPr/>
        </p:nvSpPr>
        <p:spPr>
          <a:xfrm>
            <a:off x="564372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3"/>
          <p:cNvSpPr/>
          <p:nvPr/>
        </p:nvSpPr>
        <p:spPr>
          <a:xfrm>
            <a:off x="607212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7" name="Picture 2" descr="C:\Users\я\Desktop\картинки к кино и спектаклям\0_17b01_c27ed2ed_XL.jpeg"/>
          <p:cNvPicPr/>
          <p:nvPr/>
        </p:nvPicPr>
        <p:blipFill>
          <a:blip r:embed="rId1"/>
          <a:stretch/>
        </p:blipFill>
        <p:spPr>
          <a:xfrm>
            <a:off x="0" y="0"/>
            <a:ext cx="2170080" cy="3214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Users\я\Desktop\картинки к кино и спектаклям\b5598c09df34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C:\Users\я\Desktop\картинки к кино и спектаклям\синяя птица.jpg"/>
          <p:cNvPicPr/>
          <p:nvPr/>
        </p:nvPicPr>
        <p:blipFill>
          <a:blip r:embed="rId3"/>
          <a:stretch/>
        </p:blipFill>
        <p:spPr>
          <a:xfrm>
            <a:off x="0" y="3786120"/>
            <a:ext cx="2359080" cy="3071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C:\Users\я\Desktop\картинки к кино и спектаклям\снежная королева.jpg"/>
          <p:cNvPicPr/>
          <p:nvPr/>
        </p:nvPicPr>
        <p:blipFill>
          <a:blip r:embed="rId4"/>
          <a:stretch/>
        </p:blipFill>
        <p:spPr>
          <a:xfrm>
            <a:off x="2571840" y="0"/>
            <a:ext cx="2143080" cy="3220920"/>
          </a:xfrm>
          <a:prstGeom prst="rect">
            <a:avLst/>
          </a:prstGeom>
          <a:ln w="0">
            <a:noFill/>
          </a:ln>
        </p:spPr>
      </p:pic>
      <p:sp>
        <p:nvSpPr>
          <p:cNvPr id="341" name="TextBox 7"/>
          <p:cNvSpPr/>
          <p:nvPr/>
        </p:nvSpPr>
        <p:spPr>
          <a:xfrm>
            <a:off x="571680" y="32860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2928960" y="32148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6215040" y="3214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2428920" y="47862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3429000" y="385776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перация «ы» и другие приключения Шур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иняя пт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ита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нежная короле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вказская плен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13840" y="1934640"/>
            <a:ext cx="892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– 3. «Титаник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4. «Снежная королев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– 1. «Операция «ы» и другие приключения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рик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– 2. «Синяя птиц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D:\хлам для практике\337924724.jpg"/>
          <p:cNvPicPr/>
          <p:nvPr/>
        </p:nvPicPr>
        <p:blipFill>
          <a:blip r:embed="rId1"/>
          <a:stretch/>
        </p:blipFill>
        <p:spPr>
          <a:xfrm>
            <a:off x="1357200" y="1928880"/>
            <a:ext cx="6143760" cy="4778280"/>
          </a:xfrm>
          <a:prstGeom prst="rect">
            <a:avLst/>
          </a:prstGeom>
          <a:ln w="0">
            <a:noFill/>
          </a:ln>
        </p:spPr>
      </p:pic>
      <p:pic>
        <p:nvPicPr>
          <p:cNvPr id="349" name="pesenka_mamontenka.mp3" descr=""/>
          <p:cNvPicPr/>
          <p:nvPr/>
        </p:nvPicPr>
        <p:blipFill>
          <a:blip r:embed="rId2"/>
          <a:stretch/>
        </p:blipFill>
        <p:spPr>
          <a:xfrm>
            <a:off x="2643120" y="142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0" name="Буратино - кл.mp3" descr=""/>
          <p:cNvPicPr/>
          <p:nvPr/>
        </p:nvPicPr>
        <p:blipFill>
          <a:blip r:embed="rId3"/>
          <a:stretch/>
        </p:blipFill>
        <p:spPr>
          <a:xfrm>
            <a:off x="1643040" y="142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1" name="ИЗ КИНОФИЛЬМА-чародеи - песенка про снежинку.mp3" descr=""/>
          <p:cNvPicPr/>
          <p:nvPr/>
        </p:nvPicPr>
        <p:blipFill>
          <a:blip r:embed="rId4"/>
          <a:stretch/>
        </p:blipFill>
        <p:spPr>
          <a:xfrm>
            <a:off x="3643200" y="142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2" name="Непогода.mp3" descr=""/>
          <p:cNvPicPr/>
          <p:nvPr/>
        </p:nvPicPr>
        <p:blipFill>
          <a:blip r:embed="rId5"/>
          <a:stretch/>
        </p:blipFill>
        <p:spPr>
          <a:xfrm>
            <a:off x="4572000" y="142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3" name="Погоня(Не уловимые мстит).wav" descr=""/>
          <p:cNvPicPr/>
          <p:nvPr/>
        </p:nvPicPr>
        <p:blipFill>
          <a:blip r:embed="rId6"/>
          <a:stretch/>
        </p:blipFill>
        <p:spPr>
          <a:xfrm>
            <a:off x="5500800" y="1428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4" name="Про Медведй .mp3" descr=""/>
          <p:cNvPicPr/>
          <p:nvPr/>
        </p:nvPicPr>
        <p:blipFill>
          <a:blip r:embed="rId7"/>
          <a:stretch/>
        </p:blipFill>
        <p:spPr>
          <a:xfrm>
            <a:off x="6357960" y="142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5" name="Вдруг как в сказке.mp3" descr=""/>
          <p:cNvPicPr/>
          <p:nvPr/>
        </p:nvPicPr>
        <p:blipFill>
          <a:blip r:embed="rId8"/>
          <a:stretch/>
        </p:blipFill>
        <p:spPr>
          <a:xfrm>
            <a:off x="7215120" y="1428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0"/>
          <p:cNvSpPr/>
          <p:nvPr/>
        </p:nvSpPr>
        <p:spPr>
          <a:xfrm>
            <a:off x="214200" y="242892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уратино», к/ф «Приключения Бурати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сенка мамонтенка», м/ф «Мама для мамон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нежинка», к/ф «Чароде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погода», к/ф «Мэри Поппинс, до сви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гоня», к/ф «Неуловимые мстите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сенка про медведей», к/ф «Кавказская пленница и другие приключения Шур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говор со счастьем», к/ф «Иван Васильевич меняет професси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1801dd79927d411fe8c6ff7f5e8e6b3a"/>
          <p:cNvPicPr/>
          <p:nvPr/>
        </p:nvPicPr>
        <p:blipFill>
          <a:blip r:embed="rId9"/>
          <a:stretch/>
        </p:blipFill>
        <p:spPr>
          <a:xfrm>
            <a:off x="357120" y="1000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1801dd79927d411fe8c6ff7f5e8e6b3a"/>
          <p:cNvPicPr/>
          <p:nvPr/>
        </p:nvPicPr>
        <p:blipFill>
          <a:blip r:embed="rId10"/>
          <a:stretch/>
        </p:blipFill>
        <p:spPr>
          <a:xfrm>
            <a:off x="7786800" y="1000080"/>
            <a:ext cx="952560" cy="10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29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33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37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41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45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49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5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221662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9" dur="244756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17741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95770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85888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169422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82560" y="1352520"/>
            <a:ext cx="7785000" cy="2255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56760" y="1500120"/>
            <a:ext cx="8550360" cy="6143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Качественные преимущества использования информационно-коммуникационных технологий на уроках музыки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Повышается интерес </a:t>
            </a: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   </a:t>
            </a:r>
            <a:br>
              <a:rPr sz="4500"/>
            </a:b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учащихся к обучению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8760" y="221436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экрана монитора, интерактивной доски, проектора, телевизора, кинотеатра воспринимается детьми намного лучше, чем книжная информация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Усиление обучающего </a:t>
            </a: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эффект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8760" y="2214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 учителя появилась возможность не просто использовать наглядность, а использовать анимацию, видеоизображение, звуковые эффекты для того, чтобы изучаемый материал стал более понятным и доступным, а учебный процесс проходил в более комфортных для учащихся услов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Цель мастер-класс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2214720"/>
            <a:ext cx="8929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ование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формационно-коммуникационных технологий на уроках музыки через разнообразные формы работ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Увеличивается плотность </a:t>
            </a: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 </a:t>
            </a:r>
            <a:br>
              <a:rPr sz="4500"/>
            </a:br>
            <a:r>
              <a:rPr b="1" lang="en-US" sz="4500" spc="-1" strike="noStrike">
                <a:solidFill>
                  <a:srgbClr val="006b8d"/>
                </a:solidFill>
                <a:latin typeface="Arial"/>
                <a:ea typeface="Arial"/>
              </a:rPr>
              <a:t>                    </a:t>
            </a:r>
            <a:r>
              <a:rPr b="1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урока</a:t>
            </a:r>
            <a:r>
              <a:rPr b="0" lang="ru-RU" sz="45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ранее подготовленная информация с красивым дизайном появляется в презентации, а сэкономленное время можно использовать или для увеличения объёма предъявляемой информации, или для организации повторения или закрепления учебного материа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56800" y="1071720"/>
            <a:ext cx="7758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6b8d"/>
                </a:solidFill>
                <a:latin typeface="Arial"/>
                <a:ea typeface="Arial"/>
              </a:rPr>
              <a:t>Новые, разнообразные формы и виды учебной деятельности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9680" y="2571480"/>
            <a:ext cx="82580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уется самостоятельная, творческая, поисковая деятельность обучающихс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познавательная активность учащихся и интерес к предмет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8d"/>
                </a:solidFill>
                <a:latin typeface="Arial"/>
                <a:ea typeface="Arial"/>
              </a:rPr>
              <a:t>     </a:t>
            </a:r>
            <a:r>
              <a:rPr b="1" lang="ru-RU" sz="4000" spc="-1" strike="noStrike">
                <a:solidFill>
                  <a:srgbClr val="006b8d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6b8d"/>
                </a:solidFill>
                <a:latin typeface="Arial"/>
                <a:ea typeface="Arial"/>
              </a:rPr>
              <a:t>Меняется эстетика урока.</a:t>
            </a:r>
            <a:r>
              <a:rPr b="1" lang="ru-RU" sz="5000" spc="-1" strike="noStrike">
                <a:solidFill>
                  <a:srgbClr val="006b8d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явились огромные возможности сделать любой урок более привлекательным, но для этого учителю необходимо овладе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ми   программ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добны для работы с видеоматериалами, фонограммами программы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ndows Media Playe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WinAm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RO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artSmart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ound For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"/>
          <p:cNvSpPr/>
          <p:nvPr/>
        </p:nvSpPr>
        <p:spPr>
          <a:xfrm>
            <a:off x="928800" y="714240"/>
            <a:ext cx="732924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Спасибо  за  внимани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творческих успех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D:\хлам для практике\2391898.jpg"/>
          <p:cNvPicPr/>
          <p:nvPr/>
        </p:nvPicPr>
        <p:blipFill>
          <a:blip r:embed="rId1"/>
          <a:stretch/>
        </p:blipFill>
        <p:spPr>
          <a:xfrm>
            <a:off x="1928880" y="2357280"/>
            <a:ext cx="4714920" cy="414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7120" y="1928520"/>
            <a:ext cx="822960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нформационно – коммуникационные технологии – это технологии, основой обучения которых является получение и преобразование информ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0004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ьютерные технологии обучения – это процесс подготовки и передачи информации, средством осуществления которых является компьют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року с применением ИКТ свойственны принципы: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даптивности: приспособление компьютера к индивидуальным особенностям ребёнк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правляемости: в любой момент возможна коррекция учителем процесса обу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активности и диалоговый характер обу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тимальное сочетание индивидуальной и групповой рабо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держивание у ученика состояния психологического комфорта при общении с компьютер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граниченность обучения, проявляющееся в безграничности содержания и его интерпрет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J:\Фото для стенда Янковского\7.jpg"/>
          <p:cNvPicPr/>
          <p:nvPr/>
        </p:nvPicPr>
        <p:blipFill>
          <a:blip r:embed="rId1"/>
          <a:stretch/>
        </p:blipFill>
        <p:spPr>
          <a:xfrm>
            <a:off x="3143160" y="1785960"/>
            <a:ext cx="3214800" cy="4883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E:\Рабочий стол\материал к аттестации\zolushka_1.jpg"/>
          <p:cNvPicPr/>
          <p:nvPr/>
        </p:nvPicPr>
        <p:blipFill>
          <a:blip r:embed="rId2"/>
          <a:stretch/>
        </p:blipFill>
        <p:spPr>
          <a:xfrm>
            <a:off x="6643800" y="428760"/>
            <a:ext cx="1670040" cy="207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E:\Рабочий стол\материал к аттестации\Брилиантовая рука.jpg"/>
          <p:cNvPicPr/>
          <p:nvPr/>
        </p:nvPicPr>
        <p:blipFill>
          <a:blip r:embed="rId3"/>
          <a:stretch/>
        </p:blipFill>
        <p:spPr>
          <a:xfrm>
            <a:off x="6643800" y="3429000"/>
            <a:ext cx="1547640" cy="1857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D:\Documents and Settings\Макс\Рабочий стол\Мама\Харатьян.jpg"/>
          <p:cNvPicPr/>
          <p:nvPr/>
        </p:nvPicPr>
        <p:blipFill>
          <a:blip r:embed="rId4"/>
          <a:stretch/>
        </p:blipFill>
        <p:spPr>
          <a:xfrm>
            <a:off x="428760" y="352440"/>
            <a:ext cx="2522520" cy="2076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D:\Documents and Settings\Макс\Рабочий стол\Мама\тв.jpg"/>
          <p:cNvPicPr/>
          <p:nvPr/>
        </p:nvPicPr>
        <p:blipFill>
          <a:blip r:embed="rId5"/>
          <a:stretch/>
        </p:blipFill>
        <p:spPr>
          <a:xfrm>
            <a:off x="285840" y="4214880"/>
            <a:ext cx="2811240" cy="2214360"/>
          </a:xfrm>
          <a:prstGeom prst="rect">
            <a:avLst/>
          </a:prstGeom>
          <a:ln w="0">
            <a:noFill/>
          </a:ln>
        </p:spPr>
      </p:pic>
      <p:pic>
        <p:nvPicPr>
          <p:cNvPr id="256" name="mi_malenkie_deti.mp3" descr=""/>
          <p:cNvPicPr/>
          <p:nvPr/>
        </p:nvPicPr>
        <p:blipFill>
          <a:blip r:embed="rId6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3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УЗЫКА В</a:t>
            </a: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ЕАТРЕ,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4900320" cy="3625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i="1" lang="ru-RU" sz="4400" spc="-1" strike="noStrike">
                <a:solidFill>
                  <a:srgbClr val="0b5395"/>
                </a:solidFill>
                <a:latin typeface="Arial"/>
                <a:ea typeface="Arial"/>
              </a:rPr>
              <a:t>КИНО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Arial"/>
                <a:ea typeface="Arial"/>
              </a:rPr>
              <a:t>НА ТЕЛЕВИДЕН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J:\Фото для стенда Янковского\A5950FGCAZKS2UPCACURG0ZCAST1OXVCAWADCJMCAVZS2HMCAI8DDLPCAJ3C4SHCAK2WF7HCAILHJE8CAGN1F20CAUOYYCBCAIPUEE8CAPPNJ9XCALPQDYBCAEUSV63CAR5AR2WCAPMKT9PCAWWE714CAK6D5KI.jpg"/>
          <p:cNvPicPr/>
          <p:nvPr/>
        </p:nvPicPr>
        <p:blipFill>
          <a:blip r:embed="rId1"/>
          <a:stretch/>
        </p:blipFill>
        <p:spPr>
          <a:xfrm>
            <a:off x="4500720" y="428760"/>
            <a:ext cx="2357280" cy="2033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J:\Фото для стенда Янковского\Мюнхаузен4.jpg"/>
          <p:cNvPicPr/>
          <p:nvPr/>
        </p:nvPicPr>
        <p:blipFill>
          <a:blip r:embed="rId2"/>
          <a:stretch/>
        </p:blipFill>
        <p:spPr>
          <a:xfrm>
            <a:off x="5786280" y="2643120"/>
            <a:ext cx="2214720" cy="3060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D:\Documents and Settings\Макс\Рабочий стол\Мама\заставка тв.jpg"/>
          <p:cNvPicPr/>
          <p:nvPr/>
        </p:nvPicPr>
        <p:blipFill>
          <a:blip r:embed="rId3"/>
          <a:stretch/>
        </p:blipFill>
        <p:spPr>
          <a:xfrm>
            <a:off x="1500120" y="4857840"/>
            <a:ext cx="21430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42960" y="221436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ЮНОГО ЗРИТЕЛЯ   имени Киселё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ОПЕРЫ и БАЛЕТА   имени Чернышевско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РАМАТИЧЕСКИЙ ТЕАТР  имени Слон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КУКОЛ «ТЕРЕМОК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МАГИИ и ФОКУСОВ «САМОКА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«БАЛАГАНЧИК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МУЗЫКАЛЬНОЙ КОМЕД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«ВЕРС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АТР КУКОЛ «РОМАНТИК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2" descr="J:\Фото для стенда Янковского\A5950FGCAZKS2UPCACURG0ZCAST1OXVCAWADCJMCAVZS2HMCAI8DDLPCAJ3C4SHCAK2WF7HCAILHJE8CAGN1F20CAUOYYCBCAIPUEE8CAPPNJ9XCALPQDYBCAEUSV63CAR5AR2WCAPMKT9PCAWWE714CAK6D5KI.jpg"/>
          <p:cNvPicPr/>
          <p:nvPr/>
        </p:nvPicPr>
        <p:blipFill>
          <a:blip r:embed="rId1"/>
          <a:stretch/>
        </p:blipFill>
        <p:spPr>
          <a:xfrm>
            <a:off x="6786720" y="214200"/>
            <a:ext cx="2357280" cy="20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иняя птица..mpg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59320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 музыке в театре и кино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3840" y="1428480"/>
            <a:ext cx="42865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ль музыки в кино и театр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. Определяет характер образов произвед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. Отвлекает внимание зрител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. Является раздражающим фактор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Кто написал музыку к фильму «Звуки музыки?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. Крейзи Фро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. Р.Роджер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. П.Чайков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357440" y="1428840"/>
            <a:ext cx="4143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называется краткое литературное содержание музыкальных произведений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. Изложе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. Либретт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. В музыкальных произведениях нет содерж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В каком балете исполняется знаменитый  «Танец с саблями»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 «Спартак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«Гаянэ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. «Бой с тенью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19:49Z</dcterms:created>
  <dc:creator>Макс</dc:creator>
  <dc:description/>
  <dc:language>en-US</dc:language>
  <cp:lastModifiedBy>Макс</cp:lastModifiedBy>
  <dcterms:modified xsi:type="dcterms:W3CDTF">2012-02-10T14:00:37Z</dcterms:modified>
  <cp:revision>64</cp:revision>
  <dc:subject/>
  <dc:title>Слайд 1</dc:title>
</cp:coreProperties>
</file>