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9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50D4-7C06-4233-A2F7-A5F2FF7E1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85B0-F451-4FCC-AA57-3129C1248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E627-81AC-4119-BE11-0FF6CDDC8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D1DC-7E7E-4C46-BC04-548BE2751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C014-D669-4B32-8FCF-6EE0BF2D4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11AC-ADA7-4004-9A8E-D7007A661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22D3-F9EF-4E40-ADC0-7D1DF8DD0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467D-94F3-4F84-8D21-F6BF9BDEE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5C5D-3CC2-40A2-A245-C6DA074C1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628C-691D-42C3-846F-7FDA684A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3446-AEB9-470C-A51C-C2A3780C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0F11-228B-445A-946A-99ED84BC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D6C7E-3352-42D4-9D83-095BE6426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0" b="3311"/>
          <a:stretch/>
        </p:blipFill>
        <p:spPr>
          <a:xfrm>
            <a:off x="106475040" y="104903640"/>
            <a:ext cx="7417080" cy="105123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rcRect l="0" t="0" r="0" b="3311"/>
          <a:stretch/>
        </p:blipFill>
        <p:spPr>
          <a:xfrm>
            <a:off x="106627680" y="105055920"/>
            <a:ext cx="7416720" cy="10512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762120" y="685800"/>
            <a:ext cx="3752640" cy="53341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5029200" y="1143000"/>
            <a:ext cx="3476520" cy="857160"/>
          </a:xfrm>
          <a:prstGeom prst="rect">
            <a:avLst/>
          </a:prstGeom>
        </p:spPr>
        <p:txBody>
          <a:bodyPr wrap="none" lIns="36360" rIns="36360" tIns="36360" bIns="3636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Мечтатель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352680" y="3657600"/>
            <a:ext cx="5391360" cy="16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Специальный выпуск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январь 2011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-360" y="152280"/>
            <a:ext cx="899172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Рождественское чуд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Бабушка укачивала пятилетнюю внучку и пела ей красивую древнюю песню. Девочка незаметно для себя уснула. За окном гудела метель, время, от времени залепляя окно. В печи трещали поленья, а огонь играл искрами, казалось, они вот - вот выскочат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Бабушка закончила петь удивительную песню о далеких странах и собралась укладывать внучку. Девочка сонным голосом сказала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9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Бабушка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9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Спи, Фрося, спи, завтра Рождество, моя хорошая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Бабушка положила внучку на кровать, накрыла одеяльцем, перекрестила и пожелала Ангела Хранителя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Ночью произошло необыкновенное: метель утихла, разошлись тучи, и в полную силу замерцали звезды. Казалось, что природа преобразилась, вздохнула после метели, которая вертела и крутила во все стороны сне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Рассвет наступил рано. Проснулось все. Начали шнырять нахохлившиеся воробьи, выпрашивая у прохожих хлебные крошки или что-нибудь повкуснее, вороны  скакали по белоснежному покрову в поисках блестящего. Широко распахнулась дверь избы, и из нее выскочила веселая и румяная девочка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9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Рождество!!! – крикнула она и в валенках, без шапки выскочила на улицу, побежала к маленькой церквушке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9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Ах! – вслед за ней вышла бабушка, - Ну что мне делать с этой девчонкой! Хулиганка! Опять без шапки побежала! – бабушка вдохнула воздух и мягко улыбнулась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В церковь  приходило все больше и больше людей, все крестились и, увидев  знакомые лица, улыбались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Отче наш, еже иси на небесех,- читал молитву старенький батюшка, хотя он был пожилым, голос его звучал громко и звучно. Начал петь хор, люди подхватили, и ни один человек, ни одно доброе сердце сегодня не было грустным, все радовались, даже маленький карапуз, сидевший у своей мамы на руках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После праздничной службы все дружной гурьбой повалили к дому губернатора их небольшого села Дальницы. Около дома  намечалось гуляние. Молодые танцевали, старые сидели на лавочках, разговаривали и притопывали ногами в такт музыки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9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Фрося! Ефросинья! -бабушка искала свою непоседливую внучку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9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Бабушка! А вот и я! -Фрося незаметно выскочила из толпы с баранкой в руке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9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Бабушка! Рождество! Иисус Христос родился, представляешь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Бабушка усмехнулась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9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Да, внучка, да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Скажи, а чудеса на Рождество случаются? – вкрадчиво спросила Фрося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9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Конечно! Каждое Рождество случается что – нибудь необыкновенное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9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А что в это Рождество случится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9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Ну кто это знает –то, поглядим, посмотрим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9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А можно самим сделать чудо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9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Не знаю, я не пробовала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9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Бабушка, давай попробуем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9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Нет, внученька, это Рождество, праздник Иисуса Христа, пусть наш Господь </a:t>
            </a:r>
            <a:r>
              <a:rPr b="0" lang="en" sz="9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ам чудеса творит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Фрося надулась, но скоро повернулась к бабушке и звонко поцеловала ее в щеку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9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Пойдем в избу, холодно на улице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Вскоре немного стемнело, приближался час вечерней службы. Вдруг за окном разлилось сияние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9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Что это?- Фрося прильнула к окну и с любопытством  наблюдала за происходящим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9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Бабушка, что там? Я не вижу, за людьми. Пойдем, посмотрим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Они оделись и направились к этому сиянию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Когда они подошли, то увидели большой отпечаток православного креста на снегу, который светился. Он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изливал мягкий, искрящийся свет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Этот необыкновенный свет освещал все вокруг: удивленные и даже немного испуганные лица людей, деревья, избы. Казалось, он доходил до небес и упирался в звезды. Люди стояли словно завороженные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Прошло несколько минут и свет начал гаснуть, а вскоре и совсем погас, но крест остался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Бабушка улыбнулась и сказала людям и своей внучке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9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Вот и произошло чудо. Проявился православный крест, Чудо произошло, чудо! Иисус с нами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Люди заулыбались, у каждого в душе появилась необыкновенная радость. Рождество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9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24480" y="6095880"/>
            <a:ext cx="2519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Блохина Варвара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7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b1de8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07303760" y="105732360"/>
            <a:ext cx="5759640" cy="88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 *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а история вполне обычна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 очень милая и симпатичная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коло елки сидели дет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дели, мечтали о многом на све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арки они получили сегод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день прекрасный, в день новогод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 радость была их немного  грустно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арки вручили им папа с мамо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торт показался им вовсе невкусным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елка как будто бы и без изъян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 нет аромата и свежесть не т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вы, не сбылась у детей мечта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ти ведь просто чуда хотел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юбого—большого иль очень малого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им предложили то, что суме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х любимые папа с мамой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 вот пробили часы двенадцать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распахнулось вдруг настежь окно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тишки теперь уже не сомневаютс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йчас будет чудо—вот ведь оно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ез спешки к ним Дед Мороз заходи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шок за спиной, борода, добрый взгляд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собою морозную свежесть приноси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также для всех ребя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вдруг оживают все в доме игрушк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нцуют, поют и играют с детьм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уршат серпантины, звенят хлопушк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шуме веселой такой кутерьм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Дедушка, он, конечно, уходи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тавив веселье и звонкий смех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ешит он к детям другим– соседям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там ожидает полный успех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ра! С Новым годом! Кричим и смеемс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еселье и радость у нас без конц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 всем несчастливым навек расстаемс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полнены радостью наши сердц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28600"/>
            <a:ext cx="4496040" cy="38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* 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 история вполне обычна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очень милая и симпатичная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оло елки сидели дет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дели, мечтали о многом на све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арки они получили сегод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ень прекрасный, в день новогод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радость была их немного  грустной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арки вручили им папа с мамой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торт показался им вовсе невкусны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елка как будто бы и без изъян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нет аромата и свежесть не т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ы, не сбылась у детей мечта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ти ведь просто чуда хотел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бого—большого иль очень малого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им предложили то, что сум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х любимые папа с мамой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вот пробили часы двенадцат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распахнулось вдруг настежь окно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00800" y="457200"/>
            <a:ext cx="24829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естова Анна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7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52680" y="228600"/>
            <a:ext cx="3733920" cy="38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тишки теперь уже не сомневаю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йчас будет чудо—вот ведь оно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з спешки к ним Дед Мороз заходит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шок за спиной, борода, добрый взгляд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собою морозную свежесть приносит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также для всех ребя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вдруг оживают все в доме игрушк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нцуют, поют и играют с детьм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уршат серпантины, звенят хлопушк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шуме веселой такой кутерь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Дедушка, он, конечно, уходит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авив веселье и звонкий смех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шит он к детям другим– соседя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там ожидает полный успех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а! С Новым годом! Кричим и смеемс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селье и радость у нас без конц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 всем несчастливым навек расстаемс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олнены радостью наши сердц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99720" y="3657960"/>
            <a:ext cx="2090160" cy="28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* 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ждество! Снег лежи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ьчик с санками бежит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улыбки, и весель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людей во храме пень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ужба в храм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ет свеч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ьет в окно копна луч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езы, радость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благо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 окончен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ол накрыт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шьте, пейте на здоровь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ть в добре Господь велит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352680" y="5943600"/>
            <a:ext cx="2571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Блохина Варвара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7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62120" y="4114800"/>
            <a:ext cx="243828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75"/>
            </a:gs>
            <a:gs pos="50000">
              <a:srgbClr val="ffccff"/>
            </a:gs>
            <a:gs pos="100000">
              <a:srgbClr val="75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684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удо Рожд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Эта история произошла в канун Рождества в маленьком городке, когда во всех домах уже стояли елки, все готовили праздничное печенье, украшали дома. Лишь одна Василиса бродила по улицам и смотрела, как остальные радуются и смеются, у нее не было своего дома, она жила в старом вагончике на заброшенной стройке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У девочки были длинные, ярко-рыжие волосы, голубые, будто небо глаза (одним словом очень красивая девочка). Она очень любила ходить по улицам и смотреть на других детей – как они играют, веселятся, смотрела на  их красивые игрушки и даже немного завидовала. Она почти не разговаривала, да и с кем ей было разговаривать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егодня как  обычно Василиса вышла из своего вагончика и пошла гулять. Когда девочка шла, она увидела магазин </a:t>
            </a:r>
            <a:r>
              <a:rPr b="0" lang="en" sz="1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Чудо Рождества</a:t>
            </a:r>
            <a:r>
              <a:rPr b="0" lang="en" sz="1000" spc="-1" strike="noStrike">
                <a:solidFill>
                  <a:srgbClr val="000000"/>
                </a:solidFill>
                <a:latin typeface="Arial"/>
              </a:rPr>
              <a:t>»,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 его вывеска горела разными цветными огоньками, которые  ей очень понравились. Она долго смотрела  и, наверное, смотрела бы на них вечно, если бы к ней не подошла женщина, которая пригласила ее зайти в этот магазин и выбрать любую игрушку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асилиса долго выбирала, но все-таки взяла большой красивый елочный шарик со звездочками и снежинками. Она стеснялась эту женщину, и как только ей отдали игрушку, Василиса на весь магазин крикнула  спасибо и убежала в свой вагончик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сле этого она везде ходила только с этим шариком. Сегодня как обычно девочка пошла гулять и на столбе увидела свою фотографию из магазина. Она очень удивилась, под фотографией были какие – то совершенно непонятные ей закорючки. Хотя ей уже восемь лет, но она не умела читать. Василиса  отправилась дальше, но вдруг сзади услышала стук каблуков (ей стало немного страшно). Девочка повернулась и увидела женщину из магазина, которая подбежала к девочке, встала на колени и спросила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мнишь меня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мню,- ответила девочка и протянула вперед шарик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А я тебя искала, как тебя зовут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асилис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йдем, погуляем, я тебе куплю мороженое, будем вместе ходить и разговаривать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А что такое мороженое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роженое – это любимое лакомство всех детей, хочешь его попробовать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ответ Василиса лишь посмотрела на женщину своими большими глазами и та все  понял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Они очень долго гуляли, потом снова ходили в тот самый магазин и купили маленького плюшевого снеговика. Никогда еще Василисе не было так хорошо и спокойно, она была просто счастлива. После столь продолжительной прогулки обе спутницы пришли в уютный дом, где жила приятная и добрая женщина. Они нарядили елку и самым первым повесили Василисин шарик, тот самый из магазин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асилиса, хотела бы ты жить здесь со мной?- тихо спросила женщин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Да…, - робко ответила девочк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Это было первое Рождество в жизни совсем недавно бездомной девочки, которое она встретила в кругу  обретенной ею семьи. А ее приемная мама стала называть Василису </a:t>
            </a:r>
            <a:r>
              <a:rPr b="0" lang="en" sz="1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Чудо Рождества</a:t>
            </a:r>
            <a:r>
              <a:rPr b="0" lang="en" sz="1000" spc="-1" strike="noStrike">
                <a:solidFill>
                  <a:srgbClr val="000000"/>
                </a:solidFill>
                <a:latin typeface="Arial"/>
              </a:rPr>
              <a:t>»,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скольку обрела в этот день замечательную дочь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62720" y="5943600"/>
            <a:ext cx="312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Царева Анастасия, 8 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666880" y="5334120"/>
            <a:ext cx="152424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80880" y="685800"/>
            <a:ext cx="83059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ожд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здник Рождества—это праздник Рождества Христова. Я хочу рассказать, как Иисус Христос вылечил мальч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л—был мальчик, его звали Сергей, он очень тяжело болел. Наступило Рождество. Сергей лежал в постели и молился. Ему было грустно, потому что ёлка не украшена. А ангел высоко в небе услышал молитвы мальчика, он взял звезды с неба (потому что была ночь) и отослал на ёлку Сергею. Мальчик проснулся и очень обрадовался, когда увидел елочку, сверкающую как звез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перь Сергей молился каждый день Иисусу Христу. Иисус Христос услышал молитвы Сергея и вылечил его.Мальчик  очень счастли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867280" y="380880"/>
            <a:ext cx="2843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Мазурова Екатерина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2280" y="3886200"/>
            <a:ext cx="8686800" cy="27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ждество Христово—один из самых главных христианских праздников. В этот день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нваря, родился Иисус Христос—Спаситель мира. Все храмы украшаются еловыми ветвями, звонят колокола и слышны праздничные песнопения. В домах готовят рождественский обед, пекут пиро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е нравится этот праздник, потому что в нашей семье дарят друг другу подарки, мама готовит очень вкусный, праздничный обед, и я всегда  загадываю желания. Я хотел бы, чтобы все мои желания исполнялись в этот праздник. Верю, что та и будет, ведь Господь Бог всегда заботится о дет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ь много сказок и рассказов о Рождественских ангелах, которые приходили к хорошим и добрым детям, и происходили чуде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всех детей столько мечтаний, желаний, столько надежд связано с праздником Рождества. Самое главное—верить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943600" y="3505320"/>
            <a:ext cx="2627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Ермаков Алексей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50000">
              <a:srgbClr val="99ccff"/>
            </a:gs>
            <a:gs pos="100000">
              <a:srgbClr val="465e7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07303760" y="105732360"/>
            <a:ext cx="5759640" cy="88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Чудо Рожде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ождество. Что же это за праздник? В нашей семье раньше его не отмечали, и я не знала об истории его происхождения. Конечно для меня более радостный и волнующий праздник Новый год. Но, совсем недавно, на музыкальном празднике, учительница подарила мне книгу о Рождеств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Это история о рождении Иисуса Христа. О том, как в старом городе Вифлееме в пещере, в яслях—это место для маленьких ягнят, явился на свет младенец. Этот ребенок, когда вырос начал рассказывать людям о добре, о совести. Для того, чтобы мир стал добрее. Чтобы людям в нем жилось светлее и чище, чтобы они не завидовали друг другу, не ссорились, а дружи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 жизни Иисуса Христа написана длинная история. И в этой жизни есть и радость от общения с людьми, есть и предательство. Этот человек погиб за правду, а потом воскрес и теперь живет в истории, в душах людей, хотят жить с добр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теперь, зная эту притчу, я понимаю, что Рождество– это не яркий фантастический праздник, такой как фейерверк, когда все пляшут, громко смеются, дарят подарки. Это праздник тихий, светлый, когда нужно тихонько в своей душе дать собраться хорошим и добрым мыслям, чтобы быть ЧЕЛОВЕК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457200"/>
            <a:ext cx="8229600" cy="31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удо Рожд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ждество. Что же это за праздник? В нашей семье раньше его не отмечали, и я не знала об истории его происхождения. Конечно для меня более радостный и волнующий праздник Новый год. Но, совсем недавно, на музыкальном празднике, учительница подарила мне книгу о Рождест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история о рождении Иисуса Христа. О том, как в старом городе Вифлееме в пещере, в яслях—это место для маленьких ягнят, явился на свет младенец. Этот ребенок, когда вырос начал рассказывать людям о добре, о совести. Для того, чтобы мир стал добрее. Чтобы людям в нем жилось светлее и чище, чтобы они не завидовали друг другу, не ссорились, а дружи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 жизни Иисуса Христа написана длинная история. И в этой жизни есть и радость от общения с людьми, есть и предательство. Этот человек погиб за правду, а потом воскрес и теперь живет в истории, в душах людей, хотят жить с добр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теперь, зная эту притчу, я понимаю, что Рождество– это не яркий фантастический праздник, такой как фейерверк, когда все пляшут, громко смеются, дарят подарки. Это праздник тихий, светлый, когда нужно тихонько в своей душе дать собраться хорошим и добрым мыслям, чтобы быть ЧЕЛОВЕК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4191120"/>
            <a:ext cx="28083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Морозова Маргарита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676520" y="3733920"/>
            <a:ext cx="35812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0c07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04920" y="380880"/>
            <a:ext cx="84582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ождество… Ярко звезды светят на небе. Воздух прозрачен и свеж. На щечках у меня и моей сестренки румянец. А в душе восторг от такого прекрасного дня. В этот день родился Христос. Все вокруг сияет и все люди в этот день радостны. Я заметил, что в этот день всё какое-то особенное. Деревья под снегом искрятся, и глаза людей от радости светят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Этот праздник мы всей семьей празднуем на даче. Накрываем  праздничный стол, говорим друг другу красивые поздравления, зажигаем свечи. И как –то в этот день все по особен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Я помню этот день очень долго и жду , когда Рождество придет опя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ного лет назад свершилось чудо—родился Христос. И это чудо я чувствую каждый год на Рожде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62720" y="2057400"/>
            <a:ext cx="32749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Кожевников Сергей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3200400"/>
            <a:ext cx="89154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ег ровным покровом ложится на землю… Морозная звездная ночь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ется, что небо стало ближе. Вся природа погружается в сон, и в сердце загорается огонек надежды на то, что мир вокруг нас станет лучш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який раз, когда мы перешагиваем порог Нового года, на душе становится особенно тепло, потому что через несколько дней наступит Праздник Рождеств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ждество Христово—удивительное время, когда сердце наполняется ожиданием чуда… И это чудо происходит!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истос рождается, славит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!»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ется над Вселенной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истос с небес, встречайте!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»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сь мир воспевает славу Творцу. Ангелы и человеческий род вместе прославляют Того, Чья любовь не имеет границ. И, наверное, поэтому Рождество Христово называют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имней Пасхо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ый из нас старается провести этот день не так, как любой другой: подарить добро и любовь близкому человеку, стать лучше, а самое главное—ближе к Бог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15000" y="6019920"/>
            <a:ext cx="2987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Морущенко Илья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14600" y="24382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удо Рожд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46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562720" y="3733920"/>
            <a:ext cx="2971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Рожд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ступило Рождество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учи в небе расступились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Это словно волшебство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нгелы с небес спустились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ступило Рождество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 все светом озарилось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этот самый лучший ден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ет того, чтобы не сбылос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ступило Рождество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 в мое оконц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атянуло радост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аленькое солнц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62940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Максимов Петр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7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105520" y="533520"/>
            <a:ext cx="330984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* 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ступает Рождество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Люди улыбаю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ождество—великий праздник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исус Христос рождае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ебо словно  стало ближ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сердце горит огон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нгелы будто с неба спустилис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 у людей душа по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ечтаем дарить любовь и добр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этот чудесный ден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ердце наше полно ожидань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ходят скука и лен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 Рождеством, дорогие друзья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частья желаю Вам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ира и радости вс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светлый праздник Рождеств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867280" y="304920"/>
            <a:ext cx="2916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Озерова Арина ,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7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3829320" cy="54100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838080" y="5791320"/>
            <a:ext cx="3888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Рисунок Мазуровой Екатерины,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75"/>
            </a:gs>
            <a:gs pos="50000">
              <a:srgbClr val="ffccff"/>
            </a:gs>
            <a:gs pos="100000">
              <a:srgbClr val="755e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Сон перед Рождеством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 улице шел снег. Прекрасная погода для прогулки. Мальчишки и девчонки играют в снежки, строят снежные крепости, лепят снеговиков. Но Марта не могла выйти из своей комнаты. Путь к входной двери лежал через коридор, где ссорились  родители. Она так не хотела видеть это. </a:t>
            </a:r>
            <a:r>
              <a:rPr b="0" lang="en" sz="1000" spc="-1" strike="noStrike">
                <a:solidFill>
                  <a:srgbClr val="000000"/>
                </a:solidFill>
                <a:latin typeface="Arial"/>
                <a:ea typeface="新細明體"/>
              </a:rPr>
              <a:t>«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А ведь завтра Рождество!</a:t>
            </a:r>
            <a:r>
              <a:rPr b="0" lang="en" sz="1000" spc="-1" strike="noStrike">
                <a:solidFill>
                  <a:srgbClr val="000000"/>
                </a:solidFill>
                <a:latin typeface="Arial"/>
                <a:ea typeface="新細明體"/>
              </a:rPr>
              <a:t>» -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думала девочка, слеза скатилась по ее щеке и упала на дневник, который она вела с семи лет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000" spc="-1" strike="noStrike">
                <a:solidFill>
                  <a:srgbClr val="000000"/>
                </a:solidFill>
                <a:latin typeface="Arial"/>
                <a:ea typeface="新細明體"/>
              </a:rPr>
              <a:t>«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до же, прошло уже целых три года</a:t>
            </a:r>
            <a:r>
              <a:rPr b="0" lang="en" sz="1000" spc="-1" strike="noStrike">
                <a:solidFill>
                  <a:srgbClr val="000000"/>
                </a:solidFill>
                <a:latin typeface="Arial"/>
                <a:ea typeface="新細明體"/>
              </a:rPr>
              <a:t>», -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думала Март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есь этот день Марта читала свои записи в дневнике и так и заснула  с ним руках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Луг, и  кругом  цветы. В воздухе   тонкий аромат ванили. Это любимый запах… Рядом гладкое озеро. Где-то там далеко, непостижимые, но такие манящие горы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ветит солнце, освещая все вокруг. За моей спиной пение птиц. Обернувшись, я вижу прекрасный лес. Он тоже освещен солнцем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000" spc="-1" strike="noStrike">
                <a:solidFill>
                  <a:srgbClr val="000000"/>
                </a:solidFill>
                <a:latin typeface="Arial"/>
                <a:ea typeface="新細明體"/>
              </a:rPr>
              <a:t>«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ак же жаль, что это всего лишь сон…..</a:t>
            </a:r>
            <a:r>
              <a:rPr b="0" lang="en" sz="1000" spc="-1" strike="noStrike">
                <a:solidFill>
                  <a:srgbClr val="000000"/>
                </a:solidFill>
                <a:latin typeface="Arial"/>
                <a:ea typeface="新細明體"/>
              </a:rPr>
              <a:t>», -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думала Марта. Тут где-то далеко в лесу появилась едва видная фигура, она приближается и видно, что это девушка. Луч солнца упал на нее, потом еще один,  потом другой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000" spc="-1" strike="noStrike">
                <a:solidFill>
                  <a:srgbClr val="000000"/>
                </a:solidFill>
                <a:latin typeface="Arial"/>
                <a:ea typeface="新細明體"/>
              </a:rPr>
              <a:t>«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Да это же Богородица! - подумала девочка, не в силах ничего сказать – И это не от солнца исходит свет, а от Нее.!</a:t>
            </a:r>
            <a:r>
              <a:rPr b="0" lang="en" sz="1000" spc="-1" strike="noStrike">
                <a:solidFill>
                  <a:srgbClr val="000000"/>
                </a:solidFill>
                <a:latin typeface="Arial"/>
                <a:ea typeface="新細明體"/>
              </a:rPr>
              <a:t>».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Она вышла  на луг, и он  стал еще светлее, чем был. Цветы озарились светом, и мне показалось, что их стало еще больше. На Святой Богородице было прекрасное, белое с синим платье. Она улыбнулась спокойной доброй улыбкой, такой, какой улыбается мам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Здравствуй, Марта, – ее голос раздался эхом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 Я знала, что ты придешь ко мне! - воскликнула  Марта, и  улыбка Богородицы стала еще теплее, а карие глаза наполнились заботой . – Мне так грустно, что мои мама и папа ссорятся. Я же так их люблю…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 Я знаю, дочь моя – ответила Богородиц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 Это не справедливо! Они не должны ссориться! Они же мама и папа!.. – воскликнула девочка, и взгляд  помутнел от слез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 В мире много несправедливости, - казалось, в ее глазах собрались вся грусть и сострадание мира, – но я не в праве решать их судьбу, а ты можешь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Тут вокруг  Богородицы появилось мерцание, будто миллионы бриллиантов, и Пресвятая Богородица стала исчезать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 Но как? Прошу, постой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Богородица улыбнулась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Ты знаешь, Марта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 Она исчезла. Свечение мерцало все слабее и слабее , пока не погасло совсем. Только тут Марта поняла, что она улыбается и по щекам текут слезы счастья. Рождество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олнечное зимнее утро. Просторная белая комната освещена ярким солнечным светом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000" spc="-1" strike="noStrike">
                <a:solidFill>
                  <a:srgbClr val="000000"/>
                </a:solidFill>
                <a:latin typeface="Arial"/>
                <a:ea typeface="新細明體"/>
              </a:rPr>
              <a:t>«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Да сегодня же Рождество!</a:t>
            </a:r>
            <a:r>
              <a:rPr b="0" lang="en" sz="1000" spc="-1" strike="noStrike">
                <a:solidFill>
                  <a:srgbClr val="000000"/>
                </a:solidFill>
                <a:latin typeface="Arial"/>
                <a:ea typeface="新細明體"/>
              </a:rPr>
              <a:t>» -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оскликнула Марта, Спрыгивая с постели, она быстро взглянула на себя в зеркало. На нее смотрела счастливая  девочка с блестящими в предвкушении  глазами и доброй детской  улыбкой.  Бегом  спустившись вниз по лестнице, она вбежала в кухню и обняла маму с папой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 С Рождеством!  Мамочка, папочка, я вас так люблю! – она заглянула им в глаза и лучезарно улыбнулась. Родители обнялись и поцеловали девочку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 тут она поняла, о чем ей говорила Святая Богородица. Она должна была сказать им три простых слова, которые могут выразить так много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000" spc="-1" strike="noStrike">
                <a:solidFill>
                  <a:srgbClr val="000000"/>
                </a:solidFill>
                <a:latin typeface="Arial"/>
                <a:ea typeface="新細明體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 Она исчезла. Свечение мерцало все слабее и слабее , пока не погасло совсем. Только тут Марта поняла, что она улыбается, и по щекам текут слезы счастья. Рождество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олнечное зимнее утро. Просторная белая комната освещена ярким солнечным светом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000" spc="-1" strike="noStrike">
                <a:solidFill>
                  <a:srgbClr val="000000"/>
                </a:solidFill>
                <a:latin typeface="Arial"/>
                <a:ea typeface="新細明體"/>
              </a:rPr>
              <a:t>«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Да сегодня же Рождество!</a:t>
            </a:r>
            <a:r>
              <a:rPr b="0" lang="en" sz="1000" spc="-1" strike="noStrike">
                <a:solidFill>
                  <a:srgbClr val="000000"/>
                </a:solidFill>
                <a:latin typeface="Arial"/>
                <a:ea typeface="新細明體"/>
              </a:rPr>
              <a:t>» -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оскликнула Марта, спрыгивая с постели, она быстро взглянула на себя в зеркало. На нее смотрела счастливая  девочка с блестящими глазами и доброй детской  улыбкой.  Бегом  спустившись вниз по лестнице, она вбежала в кухню и обняла маму с папой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 С Рождеством!  Мамочка, папочка, я вас так люблю! – она заглянула им в глаза и лучезарно улыбнулась. Родители обнялись и поцеловали девочку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 тут она поняла, о чем ей говорила Пресвятая Богородица. Она должна была сказать им три простых слова, которые могут выразить так много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715000" y="6248520"/>
            <a:ext cx="2819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Джинчарадзе Нонна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7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5000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52280" y="304920"/>
            <a:ext cx="350532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Чудо Рожд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день, когда ангелы слетелис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 новая звезда на небе появилас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се христиане молили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ночи грусть растворилас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Христос к нам на Землю спустил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бы чудо сотворит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бы весь мир добротою светил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 на счастье надежду воплоти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Этот день зовется Рождество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отворилось для людей волшебство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огда Господь послал спас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 возможность от грехов искупл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90920" y="228600"/>
            <a:ext cx="2519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Степанова Аглая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7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867280" y="228600"/>
            <a:ext cx="3086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* 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ветлый праздник Рожд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стучал ко мне в ок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от и в церковь мы зашл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вечи восковые зажг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везды в небе так горят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Будут рады все подря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оброта на свете ест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христианах ее не сче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от и полночь наступа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церкви свечи догораю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Люди за грехи прощаю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ети во дворе играю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от что значит вера в Бога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Христиан на свете много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3352680"/>
            <a:ext cx="277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Рузина Карина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7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3935520"/>
            <a:ext cx="861048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Я вер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ете ли вы место, кроме родного очага, откуда вас никогда не прогонят? Я думаю, что знаю ответ на этот вопрос—это церков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со своей семьей хожу в церковь, которая находится в паре километров от дома. С детства я помню аромат восковых свечей, которые яркими огоньками горят  в храме во время службы. Я всегда там чувствую   себя спокойно. Помню моменты, когда я маленькой девочкой приходила к батюшке и исповедовалась; ставила свечи перед икон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анун Рождества мы всегда заходим в эту церковь, даже если ненадолго. Мама стоит, тихо проговаривая за батюшкой слова молитвы, а я стою и слушаю. Когда я была поменьше, то с интересом разглядывала людей вокруг себ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не хочу обманывать, поэтому не буду писать, что соблюдаю все посты. Зачем? Иисус Христос все видит и слышит. Этому в детстве меня учила мама, и я ей верю. Поэтому я люблю Бога, верю и молюсь ему о нашей  семь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352680" y="1447920"/>
            <a:ext cx="213372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50000">
              <a:srgbClr val="ccccff"/>
            </a:gs>
            <a:gs pos="100000">
              <a:srgbClr val="5e5e7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228600"/>
            <a:ext cx="36576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i="1" lang="ru-RU" sz="1200" spc="-1" strike="noStrike">
                <a:solidFill>
                  <a:srgbClr val="000000"/>
                </a:solidFill>
                <a:latin typeface="Comic Sans MS"/>
              </a:rPr>
              <a:t>Из чего состоит наш зимний выпуск журнала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omic Sans MS"/>
              </a:rPr>
              <a:t>Несколько легких снежинок, пара солнечных лучиков и конечно же Рождественское настрое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omic Sans MS"/>
              </a:rPr>
              <a:t>Рождество—это не праздник подарков, это праздник чуда, Рождества Христо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omic Sans MS"/>
              </a:rPr>
              <a:t>И пусть одной из маленьких рождественских радостей станет наш журнал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Comic Sans MS"/>
              </a:rPr>
              <a:t>Мечтатель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». </a:t>
            </a:r>
            <a:r>
              <a:rPr b="0" i="1" lang="ru-RU" sz="1200" spc="-1" strike="noStrike">
                <a:solidFill>
                  <a:srgbClr val="000000"/>
                </a:solidFill>
                <a:latin typeface="Comic Sans MS"/>
              </a:rPr>
              <a:t>Как первый, первый снег, как сверкание звезд в Рождественскую ноч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omic Sans MS"/>
              </a:rPr>
              <a:t>Остромогильский Аркад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648320"/>
            <a:ext cx="388620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Автор идеи: </a:t>
            </a:r>
            <a:r>
              <a:rPr b="0" i="1" lang="ru-RU" sz="1200" spc="-1" strike="noStrike">
                <a:solidFill>
                  <a:srgbClr val="000000"/>
                </a:solidFill>
                <a:latin typeface="Comic Sans MS"/>
              </a:rPr>
              <a:t>учитель русского языка и литера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omic Sans MS"/>
              </a:rPr>
              <a:t>Мазурова Елена  Анатолье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Главный редактор:    </a:t>
            </a:r>
            <a:r>
              <a:rPr b="0" i="1" lang="ru-RU" sz="1200" spc="-1" strike="noStrike">
                <a:solidFill>
                  <a:srgbClr val="000000"/>
                </a:solidFill>
                <a:latin typeface="Comic Sans MS"/>
              </a:rPr>
              <a:t>Остромогильский Аркад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Творческая группа:   </a:t>
            </a:r>
            <a:r>
              <a:rPr b="0" i="1" lang="ru-RU" sz="1200" spc="-1" strike="noStrike">
                <a:solidFill>
                  <a:srgbClr val="000000"/>
                </a:solidFill>
                <a:latin typeface="Comic Sans MS"/>
              </a:rPr>
              <a:t>учащиеся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0" i="1" lang="ru-RU" sz="1200" spc="-1" strike="noStrike">
                <a:solidFill>
                  <a:srgbClr val="000000"/>
                </a:solidFill>
                <a:latin typeface="Comic Sans MS"/>
              </a:rPr>
              <a:t> в кла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43400" y="27432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ена воспитывалась в детском доме, при женском монастыре. Ее самое заветное желание было о том, чтобы находилась ряд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вочка каждое утро подходила к окну и смотрела на тропинку, которая вела к воротам. Она хотела увидеть маму, но ее все не было. Потом Алена вставала перед иконой Пресвятой Богородицы, украшенной рушником и тихонечко молилась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поди, помоги мне, верни мою маму!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тская молитва срывалась с губ и восходила к небес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ажды девочка как обычно подошла к окну и посмотрела на зеленую тропинку. По ней шла немолодая женщина с длинными русыми волосами, заплетенными в тугую косу. У Алены екнуло сердц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нщина вошла в комнату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чка!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»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а посмотрела на девочку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м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»,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шептала Але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шло два дня. Алена стояла на коленях перед иконой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, господ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»,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щекам текли слез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подь услышал молитв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562720" y="533520"/>
            <a:ext cx="2133360" cy="1827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562720" y="6172200"/>
            <a:ext cx="3132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Блохина Варвара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7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849fa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00400" y="762120"/>
            <a:ext cx="57592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Что такое Рождеств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ождество Христово называют самым главным праздником. Он связан с рождением младенца Иисуса, с появлением которого связаны чудесные, необычайные события: к пастухам явились ангелы с радостной вестью о рождении Спасителя. Восточные мудрецы—волхвы увидели на небе яркую звезду, появление которой означало пришествие в мир БОЖЬЕГО СЫНА. Следуя за звездой, волхвы нашли новорожденного Спасителя, поклонились ему, принесли дары: золото, ладан и смирн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 Руси этот праздник был особенный. В ночь перед Рождеством в домах наряжали елки. Дети садились с родителями, слушали историю о рождении Христа. В ночь с шестого на седьмое января во всех храмах совершают торжественное Богослужение. С самого утра начинают славить Хрис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чинаются святки—святые дни, освещенные приходом в мир Спасителя. В первые дни по традиции принято посещать знакомых, близких, друзей, дарить подарки—в воспоминание о дарах, принесенных волхвами маленькому Иисус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этот светлый праздник надо думать не о себе, не о вкусной еде, не о суете, которая нас окружает, а надо делать добрые дела, вспоминать о бедных, больных и нуждающихся людях. Посещать детские дома, помогать больным и бездомным. Чтобы в этот день каждый смог бы сотворить маленькое чудо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 Рождеством! Добрых дел Вам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2000160" cy="2286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019920" y="304920"/>
            <a:ext cx="2698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Дедок Алена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4572000"/>
            <a:ext cx="284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ождество, Рождество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тмечают все его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есь народ собрался здес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б узреть спасителя с небес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2280" y="5715000"/>
            <a:ext cx="26672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Шерназарова Ямин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7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07303760" y="105732360"/>
            <a:ext cx="5759640" cy="88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Каждый год она сия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В день великий Рожде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И огнями возвещ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Светлый праздник Рожде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ождество– это один из самых главных церковных праздников. В этот день христиане славят младенца Иисуса Хрис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 преданию Иисус Христос родился в Вифлееме (небольшом городке Северной Палестины) во времена императора Авгус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едалеко от пещеры, в которой родился Иисус Христос, росло три дерева: ёлка, олива и пальм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лива передала младенцу свои золотистые плоды. Пальма предлагала младенцу свой зеленый шатер, как защиту от зноя и непогоды. И только ёлке нечего было подарить. Она печально опустила свои ветви и заплакала, а слезы были прозрачной смолой. Это увидела маленькая звездочка на небе. Она пожалела ёлочку, что-то тихо зашептала на небе своим подруга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вдруг случилось чудо… Звезды посыпались с неба огненным дождем и усеяли ёлку по всем ее веткам сверху –дониз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Ёлка радостно подняла свои ветви и впервые явилась миру в ослепительном блес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 тех пор и пошел у людей обычай наряжать елку яркими огненными свеч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7456400" y="105884640"/>
            <a:ext cx="5759280" cy="88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Каждый год она сия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В день великий Рожде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И огнями возвещ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Светлый праздник Рожде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ождество– это один из самых главных церковных праздников. В этот день христиане славят младенца Иисуса Хрис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 преданию Иисус Христос родился в Вифлееме (небольшом городке Северной Палестины) во времена императора Авгус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едалеко от пещеры, в которой родился Иисус Христос, росло три дерева: ёлка, олива и пальм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лива передала младенцу свои золотистые плоды. Пальма предлагала младенцу свой зеленый шатер, как защиту от зноя и непогоды. И только ёлке нечего было подарить. Она печально опустила свои ветви и заплакала, а слезы были прозрачной смолой. Это увидела маленькая звездочка на небе. Она пожалела ёлочку, что-то тихо зашептала на небе своим подруга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вдруг случилось чудо… Звезды посыпались с неба огненным дождем и усеяли ёлку по всем ее веткам сверху –дониз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Ёлка радостно подняла свои ветви и впервые явилась миру в ослепительном блес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 тех пор и пошел у людей обычай наряжать елку яркими огненными свеч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09880" y="228600"/>
            <a:ext cx="5105520" cy="43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аждый год она сия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 день великий Рожд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И огнями возвеща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ветлый праздник Рожд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ждество– это один из самых главных церковных праздников. В этот день христиане славят младенца Иисуса Хрис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преданию Иисус Христос родился в Вифлееме (небольшом городке Северной Палестины) во времена императора Авгус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далеко от пещеры, в которой родился Иисус Христос, росло три дерева: ёлка, олива и паль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лива передала младенцу свои золотистые плоды. Пальма предлагала младенцу свой зеленый шатер, как защиту от зноя и непогоды. И только ёлке нечего было подарить. Она печально опустила свои ветви и заплакала, а слезы были прозрачной смолой. Это увидела маленькая звездочка на небе. Она пожалела ёлочку, что-то тихо зашептала на небе своим подруга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вдруг случилось чудо… Звезды посыпались с неба огненным дождем и усеяли ёлку по всем ее веткам сверху –дониз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Ёлка радостно подняла свои ветви и впервые явилась миру в ослепительном блес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тех пор и пошел у людей обычай наряжать елку яркими огненными свеч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72200" y="4572000"/>
            <a:ext cx="2808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Денисьева Елизавета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886200" y="5029200"/>
            <a:ext cx="1905120" cy="1152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04920" y="609480"/>
            <a:ext cx="28954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 *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лся в Чудо-Рожд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ликий наш спасител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обижал он никого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исус Христос – учител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дарны мы е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 то, что он нас спа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жить теперь ему в Ра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он всех любит на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43000" y="380880"/>
            <a:ext cx="27352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онина Наталья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7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2971800"/>
            <a:ext cx="34192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уд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всем понять, как это важно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важен праздник Рожде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в этот день звездою ярк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друг озарилася  зем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ился на землю спасител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дьмого числа январ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ладенец Христос во пещере родилс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 взять все грехи на себ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5029200"/>
            <a:ext cx="3132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Шавкунов Алексей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7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клас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715000" y="762120"/>
            <a:ext cx="29163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нь Рождения Ииуса Христ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ождество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ветлый праздник Рожд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х людей зовет она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лка – символ Рожд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День Рождения Хрис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сь народ собрался здес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 увидеть, как на св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десь рождается Христос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 спасти наш мир от слез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791320" y="304920"/>
            <a:ext cx="3058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Сальников Спартак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7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181480" y="3200400"/>
            <a:ext cx="3600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Шерназарова Ямин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7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553080" y="3962520"/>
            <a:ext cx="22860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* 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ждество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ыбнись, не груст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ждество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х – всех люб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ждество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праздник тепла и любв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ждество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ту сказочную ноч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явился Иисус Христ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всем нам помоч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3338640" cy="4724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295280" y="6095880"/>
            <a:ext cx="360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Рисунок Новиковой  Анны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46"/>
            </a:gs>
            <a:gs pos="50000">
              <a:srgbClr val="ffcc99"/>
            </a:gs>
            <a:gs pos="100000">
              <a:srgbClr val="75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580920" y="838080"/>
            <a:ext cx="5410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удесное Рожде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ую зиму </a:t>
            </a:r>
            <a:r>
              <a:rPr b="0" lang="en" sz="12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нваря в нашей стране празднуют Рождество. Это яркий праздник, который сопровождается пышными празднествами и церковными службами. Что же это за праздник и откуда он появилс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ждество—это один из главных христианских праздников. В этот день верующие люди празднуют рождение Иисуса Христа. В России Рождество празднуют в начале января, а во многих других странах </a:t>
            </a:r>
            <a:r>
              <a:rPr b="0" lang="en" sz="1200" spc="-1" strike="noStrike">
                <a:solidFill>
                  <a:srgbClr val="000000"/>
                </a:solidFill>
                <a:latin typeface="Arial"/>
              </a:rPr>
              <a:t>25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кабря. Дата его празднования не связана с настоящей датой рождения Иисуса Христа, которое произошло не в зимнее время. Этот день установила Римская церковь много веков наза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ждество начинают праздновать задолго до </a:t>
            </a:r>
            <a:r>
              <a:rPr b="0" lang="en" sz="12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нваря. До этого дня идет Рождественский пост, который длится сорок дней. Шестого января в </a:t>
            </a:r>
            <a:r>
              <a:rPr b="0" lang="en" sz="1200" spc="-1" strike="noStrike">
                <a:solidFill>
                  <a:srgbClr val="000000"/>
                </a:solidFill>
                <a:latin typeface="Arial"/>
              </a:rPr>
              <a:t>12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ов ночи начинается торжественное богослужение в православных храмах. А седьмого января принято поздравлять друзей и родных с этим светлым праздник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т праздник приносит  с собой много любви, радости и света. В каждом доме, в каждой семье ежегодно идут приготовления к этому дню, дети ожидают его с радостным нетерпени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празднование Рождества—большое событие. Все города украшают красочными плакатами с поздравлениями, люди ходят в церковь, приглашают друг друга в гости, у всех праздничное настро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ашей семье тоже празднуют Рождество Христово. Обычно в этот день к нам в гости приходят наши родные, близкие и друзья. Папа готовит вкусный праздничный ужин, и мы весело проводим время, общаясь за пышно накрытым стол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ждество для нас—это праздник, когда вся наша семья вместе собирается за общим стол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867280" y="380880"/>
            <a:ext cx="2556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Медведев Марк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380880"/>
            <a:ext cx="33526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* 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екрасные мгновенья Рожде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жгутся лампочки на елк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будет на верху сиять звезд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на пол сыпаться игол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будет веселиться детвор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арков с нетерпеньем ожида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все мы будем верить в чудес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бескрайней милости Всевышнего взыва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2438280"/>
            <a:ext cx="2663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Фрейзон Наталья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2280" y="5791320"/>
            <a:ext cx="575964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ждество—  ДЕНЬ РОЖДЕНИЯ  ИИСУСА  ХРИСТА. Это очень  хороший праздни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та этого праздника рядом с Новым годом, но смысл у них разны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зднуют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нвар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486400" y="6095880"/>
            <a:ext cx="30592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Мигачев Иван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838080" y="3276720"/>
            <a:ext cx="2210040" cy="16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04920" y="457200"/>
            <a:ext cx="35049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* 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улице темно. Мороз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ждаются узоры на ок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вглядываюсь в небо. Осторож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ю я узоры на стекл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годня все особенно свободно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небе звезды яркие горят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ведут дорогой путевод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ечту. И что-то говоря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не грущу, ведь завтра праздн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слышу—песня льется сквозь сердц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 песня прославляет откровение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ждение Спасителя Христ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время где-то чудо происходит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я хочу понять сей чуда ми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ангелов душа находи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ен кто увидеть Божий лик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вижу ели серебром покрыты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вижу танец белоснежных мотыльков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делаю открытья неоткрыты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ухожу в страну мечты и сн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86200" y="457200"/>
            <a:ext cx="27003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ождество –это праздник, когда родился Иисус Христос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Его празднуют Седьмого января. Этот праздник очень хорош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5638680"/>
            <a:ext cx="255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естова Анна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7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0" y="1447920"/>
            <a:ext cx="280836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Филимонова София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657600" y="4191120"/>
            <a:ext cx="2362320" cy="18064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172200" y="1981080"/>
            <a:ext cx="26622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* 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шла зима, опала осен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ству срывает белый сне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Новый год мы с счастьем проси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будем грусть теперь нав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тол накроем мы варень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 стол гостей мы собере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вспомним вместе те мгновень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да мы весело по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72200" y="4038480"/>
            <a:ext cx="2843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онина Наталья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7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7303760" y="105732360"/>
            <a:ext cx="5759640" cy="88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аждый человек на земле знает это красивое слово—Рождество. В нем живет великое таинство—Рождество Христов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шло уже больше двух тысячелетий, когда однажды зимой сбылись все пророчества Ангела, который явился к  Марии и предрек рождение Иисуса. В эту ночь произошло еще одно чудо. Над всей землей и океаном, над всем миром той ночью взошла яркая звезда. В ту же ночь, направляемые звездой, двинулись к младенцу странники, которых называли волхвами. Они шли к Христу, ведь отныне он будет Спасителем и Заступник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ождество—праздник религиозный, отмечаемый во всех христианских странах. У этого праздника свои законы—в этот день все должны быть добрыми, внимательными к людям, никого не обижать. На Рождество в домах украшают елки и обязательно ставят на макушку звезду, которая символизирует Вифлеемскую звез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 Рождества начинаются Святки—праздники, в которые принято рядиться, устраивать веселые игры, ходить по домам, шутить, петь песни, колядоват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иближается этот замечательный праздник—Рождество, который мы будем отмечать после Нового года. Мне очень хочется, чтобы в этот день произошло чудо. Я буду молить Господа нашего Иисуса Христа об эт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9880" y="685800"/>
            <a:ext cx="502920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ый человек на земле знает это красивое слово—Рождество. В нем живет великое таинство—Рождество Христо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шло уже больше двух тысячелетий, когда однажды зимой сбылись все пророчества Ангела, который явился к  Марии и предрек рождение Иисуса. В эту ночь произошло еще одно чудо. Над всей землей и океаном, над всем миром той ночью взошла яркая звезда. В ту же ночь, направляемые звездой, двинулись к младенцу странники, которых называли волхвами. Они шли к Христу, ведь отныне он будет Спасителем и Заступник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ждество—праздник религиозный, отмечаемый во всех христианских странах. У этого праздника свои законы—в этот день все должны быть добрыми, внимательными к людям, никого не обижать. На Рождество в домах украшают елки и обязательно ставят на макушку звезду, которая символизирует Вифлеемскую звез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Рождества начинаются Святки—праздники, в которые принято рядиться, устраивать веселые игры, ходить по домам, шутить, петь песни, колядова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ближается этот замечательный праздник—Рождество, который мы будем отмечать после Нового года. Мне очень хочется, чтобы в этот день произошло чудо. Я буду молить Господа нашего Иисуса Христа об э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248520" y="304920"/>
            <a:ext cx="25192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ашук Дарья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486400" y="4952880"/>
            <a:ext cx="2286000" cy="1711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52280" y="914400"/>
            <a:ext cx="3429000" cy="41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 * 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долго первый снег жд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вот, в окно взглянув с утр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в удивленье замира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т больше в городе осеннего шатр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дев пальто, на улицу я быстро выбега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по сугробам весело шага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манит цирк снежи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вой шате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каждая снежинка в нем акте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нет преде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соте их нежной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каждая снежинка в платье белоснежном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вот я слышу мамин нежный голос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тавай же , соня!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» 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ма говор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рвался сон, но я его запомню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сть он в мечтах моих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звездочка горит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4876920"/>
            <a:ext cx="2772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Шкарина Дарья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50000">
              <a:srgbClr val="ccffff"/>
            </a:gs>
            <a:gs pos="100000">
              <a:srgbClr val="5e757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3059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Бескорыстное чуд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Холодно. Очень холодно. Колкий морозец уже забирается под теплую шубку.  Воскресное рождественское утро началось с поездки в церковь. Путь был неблизкий. Лошади бодро трусили по неглубокому снегу, оставляя за собой темную колею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ережа  сидел в санях и любовался легкими, как тополиный пух, сияющими на солнце снежинками. Но вот солнце скрылось за тучу, и начался антракт рождественского представления. В церковь Сережа ехал вместе с дедушкой. Мать заболела и осталась с младшими сестрами, которые были еще маленькие для такой  длительной поездки, а отца, не смотря на праздник, вызвали на службу. Сереже стало скучно, и он решил начать разговор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Дедушка, расскажи, как произошло рождение Христа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Ой, Сереженька, давно это было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у, расскажи, деда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у ладно, сынок, слушай. В ночь, когда родился Иисус, многие пастухи не спали, сторожили свое стадо. Вдруг предстал перед ними Ангел с белоснежными крыльями и сказал: </a:t>
            </a:r>
            <a:r>
              <a:rPr b="0" lang="en" sz="1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е бойтесь, я возвещаю вам великую радость – сегодня ночью родится Христос Спаситель; и вот вам знак: вы найдете младенца в пеленах, лежащего в яслях</a:t>
            </a:r>
            <a:r>
              <a:rPr b="0" lang="en" sz="1000" spc="-1" strike="noStrike">
                <a:solidFill>
                  <a:srgbClr val="000000"/>
                </a:solidFill>
                <a:latin typeface="Arial"/>
              </a:rPr>
              <a:t>».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казал так и превратился в крошечную звездочку на огромном ночном небе. И тогда пастухи сказали друг другу: </a:t>
            </a:r>
            <a:r>
              <a:rPr b="0" lang="en" sz="1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йдем в Вифлеем, посмотрим на то, о чем возвестил Ангел</a:t>
            </a:r>
            <a:r>
              <a:rPr b="0" lang="en" sz="1000" spc="-1" strike="noStrike">
                <a:solidFill>
                  <a:srgbClr val="000000"/>
                </a:solidFill>
                <a:latin typeface="Arial"/>
              </a:rPr>
              <a:t>».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 поспешили они. Нашли Марию, Иосифа, и Христа, лежавшего в яслях. Сказали тогда, что возвестили им о рождении младенца. Потом возвратились, славя Бога, за все, что видели и слышал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ка дедушка рассказывал, время пролетело незаметно, и сани подкатили к церкв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огда будешь молиться, Сереженька, можешь попросить Господа, главное, чтобы было это не для себя, а для других,- сказал дедушк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Около иконы, крестясь, Сережа так переволновался, что ни о чем не попросил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сю обратную дорогу он любовался снежинками и думал над дедушкиными словами. Но вот скрипнули ворота и сани, звеня бубенчиками въехали во двор. В доме было непривычно тихо. Когда мальчик вошел в дом, оказалось, что отец уже приехал. Почему так скоро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Здравствуй, папа! Почему так рано? – спросил недоумевающий Сереж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аме совсем плохо. Доктор сказал, что надежды мало, может не поправиться.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Обед прошел в полном молчании. Так же тяжело тянулся весь остаток дня. Засыпая, Сережа думал о  маме: </a:t>
            </a:r>
            <a:r>
              <a:rPr b="0" lang="en" sz="1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ак хорошо если бы мама выздоровела! Завтра был бы такой замечательный день! Помоги, Господи, моей маме!</a:t>
            </a:r>
            <a:r>
              <a:rPr b="0" lang="en" sz="1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нежинки порхали весело, задорно, радужно искрясь на солнце. Мы играли бы в снежную крепость… ,а теперь…. Помоги, Господи!  Не мне – маме …, и  мальчик незаметно уснул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 следующий день Сережа проснулся рано. На кухне слышалось шкворчание масл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А, Сережка проснулся! – раздался чей-то веселый голос. Сережа не одеваясь помчался на кухню. Около печки стояла мама с полной тарелкой блинов. Она улыбнулась ему, А Сережа подумал: </a:t>
            </a:r>
            <a:r>
              <a:rPr b="0" lang="en" sz="1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от оно, какое настоящее бескорыстное рождественское чудо</a:t>
            </a:r>
            <a:r>
              <a:rPr b="0" lang="en" sz="10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9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257800" y="5943600"/>
            <a:ext cx="365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стромогильский Аркадий, 7 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ya</cp:lastModifiedBy>
  <dcterms:modified xsi:type="dcterms:W3CDTF">2012-02-10T18:19:16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