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7.gif" ContentType="image/gi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ED0-E332-4B95-A5D4-72CE5A2F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2E2-8491-4B83-A95A-B79E838B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718-974C-487B-BA3A-ECAB864A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CEA-DB24-4476-AB27-C058C50D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D13-7EE6-4D6C-8113-41B0C8B4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970-5605-4798-B098-0A949852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A92-DB26-468E-965E-2AFB77BB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2E6-661F-412F-96F2-D83EF68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146-877C-4BD1-8D59-45C92C21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896-3A21-4F82-9B9E-BC6C5DA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83F-167A-4431-9044-18888A8B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27A-016E-49BD-97E0-18CB5682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7C3C-C8D0-4DF7-A7F1-CC2BCA29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57200"/>
            <a:ext cx="8077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Mickey Mou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5077080" cy="3589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05520" y="220968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905120" y="23623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33520" y="251460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705720" y="243828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8077320" y="220968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200400" y="2133720"/>
            <a:ext cx="714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My favourite person is Mickey Mou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1111320" cy="1333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48320" y="762120"/>
            <a:ext cx="3851280" cy="5638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29600" y="16765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038480" y="30492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257800" y="38088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629400" y="3049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8001000" y="228600"/>
            <a:ext cx="714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800240" y="22860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Mouse is a cartoon character. Mickey is a black mouse and typically wears red shorts, large yellow shoes, and white glov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957560" cy="5410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52480" y="30492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895480" y="228600"/>
            <a:ext cx="714600" cy="119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419720" y="380880"/>
            <a:ext cx="71424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4876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He is one of the most recognizable cartoon characters in the world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44863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e is very funny and merry. He has got many friends. They are Minnie Mouse, Goofy, Pluto, Daisy Duck and Donald Duck. They are friendly and like spending a lot of time together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00200" y="46483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505320" y="464832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334120" y="457200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705720" y="3276720"/>
            <a:ext cx="2190600" cy="219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52280" y="3200400"/>
            <a:ext cx="14623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6858000" y="3049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8001000" y="3049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228600" y="22860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1143000" y="228600"/>
            <a:ext cx="714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3962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Mickey has got a kind sensitive heart. It makes this little mouse good friend. I like it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05520" y="685800"/>
            <a:ext cx="35892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305920" y="91440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620120" y="3049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629400" y="3049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334120" y="304920"/>
            <a:ext cx="714240" cy="119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114800" y="38088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3886200" y="990720"/>
            <a:ext cx="7142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8T17:19:2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