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439F-63BE-45E1-A0D5-06E2E8054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FDC9-06C2-4C9B-9BB8-2DC0190F7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6D3C-E103-496D-AB02-B9C1A0359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C53C-784C-4801-9AF6-3BC9C60F4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B3E80-679C-49DD-87D4-A2F285DF6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16D65-5D1B-44D0-994F-01F3964F2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E1A1E-E576-46DB-A651-588939B5C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31DC9-6D04-4210-BDB1-687307BBE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26D2D-5202-4BAB-8B84-112A4E97B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D263E-5883-400A-A697-0C202C7E3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1FE59-27F5-4065-8EBA-65190C7D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64C0-5762-4A91-B9E3-B9CA3703A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8BB84-1B8C-42C9-87BA-19E7FB09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2CE48-C620-411A-B8D8-A4D105F3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4BBCC-E0C7-4313-8D66-421D8B621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23E9E-E7BC-453B-8974-2B507DE8D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F61B3-FCD1-4208-AB3A-B28E84878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7820-82AF-461F-ABFE-49AC82335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8DC8-F8B7-43EF-AA8C-E0089534C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10C5-D486-4CDF-A5A3-21F61DFAC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07F0-5E3A-414F-96C9-CCB017609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F1BB-E368-43DE-8298-BFF2DB91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AED2-D11B-47CD-9031-30937BB4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9FD6-8003-4E0D-A3ED-45EFBD95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84AF1-DA13-4613-BD0F-12C46A38042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4BB8-CDCA-4EBE-A4C7-CA2570423FC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testsoch.com/moe-otnoshenie-k-obrazam-rybaka-i-sotnikova/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6858000" cy="101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Monotype Corsiva"/>
              </a:rPr>
              <a:t>Русский язык 8 класс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80880" y="2666520"/>
            <a:ext cx="83059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СОБЛЕНИЕ ОПРЕДЕЛЕНИЙ И ПРИЛОЖЕНИЙ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русского языка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Макарьевская ООШ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ьга Валентиновна Тукмачев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6400800" y="0"/>
            <a:ext cx="274320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ОСОБЛЯЮТС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1.Согласованные определени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 одиночные приложения, есл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тоят после определяемого слова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Паутинка, зацепившаяся за ветку, блестит на солнц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На окне, серебряном от инея, за ночь хризантемы расцвел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Ландыш, майский цветок, любит тен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Ночь, облачная и туманная, окутала землю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6838920" y="0"/>
            <a:ext cx="23050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ОБОСОБЛЯЮТС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369800" y="1447920"/>
            <a:ext cx="731340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Если относятся к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ичному местоимению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Он, мятежный, просит бур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Красавца, его замечали вс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Если имеет добавочное обстоятельственное значение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Отягощенные плодами, ветви ломалис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Отличный 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Monotype Corsiva"/>
                <a:hlinkClick r:id="rId1"/>
              </a:rPr>
              <a:t>рыбак</a:t>
            </a: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, Васька знал толк в рыб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2"/>
          <a:stretch/>
        </p:blipFill>
        <p:spPr>
          <a:xfrm>
            <a:off x="6838920" y="0"/>
            <a:ext cx="2305080" cy="2819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6991200" y="152280"/>
            <a:ext cx="23050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5868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ОБОСОБЛЯЮТС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Если отделены от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яемого слов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ругими членами предложения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Несколько раз, таинственная и одинокая, появлялась в небе луна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Если присоединяются к определяемому слову с помощью союза КАК в значении ПОТОМУ ЧТО, БУДУЧИ, ТАК КАК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Отец, как человек осторожный, пока молчал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6838920" y="0"/>
            <a:ext cx="23050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594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НЕ ОБОСОБЛЯЮТС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160" y="2658240"/>
            <a:ext cx="8008920" cy="31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743040" indent="-743040">
              <a:lnSpc>
                <a:spcPct val="100000"/>
              </a:lnSpc>
              <a:buClr>
                <a:srgbClr val="000000"/>
              </a:buClr>
              <a:buSzPct val="7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Если тесно связан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с определяемым словом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Это привело к результатам печальным и непоправимы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. Если входят в состав сказуемого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Он пришел грустный и усталый</a:t>
            </a:r>
            <a:r>
              <a:rPr b="0" i="1" lang="ru-RU" sz="36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6838920" y="0"/>
            <a:ext cx="23050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5564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НЕ ОБОСОБЛЯЮТС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6838920" y="0"/>
            <a:ext cx="2305080" cy="28195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2391840"/>
            <a:ext cx="7759800" cy="298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ри ИНВЕРСИИ в поэтической речи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Лесом частым и дремучим ехал всадник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Если присоединяются к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емому слову с помощь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юза КАК в значении В КАЧЕСТВЕ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Его знали как хорошего учителя.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5640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ЕФИС ПРИ ПРИЛОЖЕНИ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160" y="1925280"/>
            <a:ext cx="8705880" cy="426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14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риложение и определяемое сло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жено нарицательными существительными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Гора-великан возвышалась до неб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пределяемое слово выражено именем собственным и стоит перед одиночным нарицательным существительным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           </a:t>
            </a: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Над Волгой-рекой слышна песн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832040"/>
            <a:ext cx="8305920" cy="452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Дорога вошла в лес, мертвый и холодный от луны и росы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всякая пачка исписанной второпях бумаг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ойна стать книгой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удой и высокий, он чем-то напоминал мне горестны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Дон-Кихот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лнцем мартовским пригретый, тает старый снег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им был собакой доверчивой и честной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горовна, добрая старуха, теперь сделалась его нянькою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акеи, временно находящиеся без места, от этого н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овятся свободными людьм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легкой капельке, свежей и чистой, отразилс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ркающий день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457200"/>
            <a:ext cx="55627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АКРЕПЛЕНИЕ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6705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шеломленная, мать неотрывно смотрела на Рыбин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Уверенный в привязанности своей дочери, Троекуров никогда не мог добиться от нее доверенност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веян вещею дремотой, полураздетый лес грустит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Усталый и побледневший, месяц все еще висел на огромном небе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7238880" y="380880"/>
            <a:ext cx="170496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 </a:t>
            </a:r>
            <a:br>
              <a:rPr sz="3600"/>
            </a:b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ДОМАШНЕЕ ЗАДАНИ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1. Прочитать § 31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2. Упр. 293, 294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5929200" y="2895480"/>
            <a:ext cx="30146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пасибо за внимани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61760" y="3123720"/>
            <a:ext cx="7313400" cy="18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c6565"/>
                </a:solidFill>
                <a:latin typeface="Arial Black"/>
              </a:rPr>
              <a:t>До свидания!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Цель урока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ъяснить лингвистическую сущность обособле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ъяснить правила постановки знаков препинания в предложениях с обособленными определениями и приложениям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смотреть сложные случаи постановки знаков препинания при обособленных определениях и приложения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6781680" y="0"/>
            <a:ext cx="23623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1447920"/>
            <a:ext cx="6858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учить видеть в предложении определ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 приложения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учить различать определения и приложения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работать правильную постановку знаков препинания в предложениях с определениями и приложениям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7010280" y="0"/>
            <a:ext cx="21337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54878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Задание на повторени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Определите типы подчинительной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связи в словосочетаниях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Его учебник, прибыть вовремя, увидеть его, сменить одежду, красивый цветок, первый ученик, книга из библиотеки, медленно поворачиваясь, моя тетрадь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6781680" y="380880"/>
            <a:ext cx="21621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Типы подчинительной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связи в словосочетани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Согласование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Управление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Примыкание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5929200" y="2895480"/>
            <a:ext cx="30146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       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ОПРЕДЕЛЕНИ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Что такое определение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Второстепенный член предложения, обозначающий признак предмета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ru-RU" sz="2900" spc="-1" strike="noStrike">
                <a:solidFill>
                  <a:srgbClr val="000000"/>
                </a:solidFill>
                <a:latin typeface="Verdana"/>
              </a:rPr>
              <a:t>Чем чаще всего бывает выражено определение?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Прилагательным и причастием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7086600" y="304920"/>
            <a:ext cx="18572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        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ПРИЛОЖЕНИ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369800" y="2437920"/>
            <a:ext cx="7313400" cy="35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Е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2900" spc="-1" strike="noStrike">
                <a:solidFill>
                  <a:srgbClr val="000000"/>
                </a:solidFill>
                <a:latin typeface="Monotype Corsiva"/>
              </a:rPr>
              <a:t>ОПРЕДЕЛЕНИЕ, ВЫРАЖЕННОЕ ИМЕНЕМ СУЩЕСТВИТЕЛЬНЫМ, СОГЛАСУЮЩИМСЯ С ОПРЕДЕЛЯЕМЫМ СЛОВОМ В ПАДЕЖЕ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6781680" y="152280"/>
            <a:ext cx="21621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632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ОБОСОБЛЕНИ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Обособление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- смысловое и интонационное выделение второстепенных членов 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целью придать им известную синтаксическую самостоятельность в предложени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7213680" y="0"/>
            <a:ext cx="1930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6777000" y="0"/>
            <a:ext cx="2367000" cy="28954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800" y="26665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точняют высказываемую мысль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нкретизируют описание действия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ют более углубленную характеристику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у или предмету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носят в предложение экспрессивную окраску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369800" y="761760"/>
            <a:ext cx="7313400" cy="144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собленные члены: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2-10T23:16:03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