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C10-7ADB-4E5F-8673-BB1C816D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C61-870A-4A2F-A176-088950B3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655-E7D3-42F6-BBE3-BCC30100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FAC-1FAF-48C7-A6D2-E4F25700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E5A6-522F-4036-B074-38A869E6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C88D-C417-4D5B-8036-C26F7767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0BF0-01F6-45E4-A1CD-3CFDB373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5A59-2035-4DEF-BFE2-48D16E37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43C1-A317-48DB-B6F3-F18AF9D5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C485-10C7-402F-A548-E286B7E8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00C9-7353-435D-BFEC-D2DDA45A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607-9C5D-47DD-9C0F-2AA37753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6DC0-A251-4970-8381-0F23BBCE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5239-20AA-40FD-9D4C-3664ECFD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76BC-039F-4F3A-89BC-34BA1A06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6462-7AA2-4D98-A1BB-AC469128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0467-91DF-44AB-B07D-DF3640A1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10746-6A44-4419-91AE-DB5C1216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FC35-7F6E-4D2A-946D-A2A0E3C2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4C354-3E49-4DA7-84A2-10C14E58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45D09-7BE6-45E0-A4EC-30D8EA14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7A80E-5E30-4B2C-A701-F6E83E63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D7A-05F1-4121-9D02-5ED319B3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28525-8E75-43AC-9852-452655C4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97B5C-4D12-46F5-8538-2AE32E1E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8836A-3CFC-40DD-AEC5-FED3EECD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688C-F749-4EFD-8653-2F9D787C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425B-ADD1-4391-8E93-4E0069D7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6B78C-CCD6-4F57-8CAD-B9EBBA3E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19EE8-5666-4A40-A751-635BE9A1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C3621-2EBF-4330-939F-6D4BB690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940DB-0DD9-4A37-AD0C-89288A0D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C0E13-2034-4ABB-AD67-AF469E9A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EF9-8C00-45EF-BA1C-13268D03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8356-2095-4AF1-AF36-7A034164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E1915-D3A2-40CC-89FF-C0510C0E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11361-8A37-4ECE-AD49-8B3024AC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5C2DD-5C45-4FF1-938C-ABE52DF3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2274C-E7FF-493A-847B-7F9CC424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6308E-0269-4E31-80F7-8B5DB9B2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7022F-62CA-456F-A75D-92E3EAB3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29F7E-25FA-4747-A72A-80A31F83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AF5C4-77D9-4995-A238-4C957E72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7A0-F471-400D-B4A4-8B3EF917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42D-CCE7-4AD4-8AEA-FB7731D4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A82-4DE5-441C-8243-1AEF4638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016-504C-41BE-8B3D-A6CED6CF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2FE-FC28-40E4-AC00-CA242DFF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F9F7-BDA5-47FB-9706-22B6167BA02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3837-CEB2-4555-9BAE-5306879EE8E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0A56-F6B2-434E-8BE8-B2D79123CE1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90A8-395B-4EE7-966F-DD1C50DD56E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1428840"/>
            <a:ext cx="82296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Adventure"/>
              </a:rPr>
              <a:t>Проект</a:t>
            </a:r>
            <a:br>
              <a:rPr sz="4400"/>
            </a:br>
            <a:r>
              <a:rPr b="0" lang="ru-RU" sz="4400" spc="-1" strike="noStrike">
                <a:solidFill>
                  <a:srgbClr val="04617b"/>
                </a:solidFill>
                <a:latin typeface="Adventure"/>
              </a:rPr>
              <a:t> «Овощной калейдоскоп».</a:t>
            </a:r>
            <a:br>
              <a:rPr sz="45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5580000" y="4527720"/>
            <a:ext cx="2300400" cy="17254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1857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Adventure"/>
              </a:rPr>
              <a:t>Паспорт проекта:</a:t>
            </a:r>
            <a:br>
              <a:rPr sz="45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00040" y="235692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Constantia"/>
              </a:rPr>
              <a:t>Вид проекта – творчески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Constantia"/>
              </a:rPr>
              <a:t>Продолжительность – недел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Constantia"/>
              </a:rPr>
              <a:t>Участники – дети старших логопедических групп, учителя логопеды, воспитатели, педагог дополнительного образования по компьютерным технологиям, заведующая МДОУ, заместитель заведующей по УВР, эколо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dventure"/>
              </a:rPr>
              <a:t>Содержание проект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28400" y="1571760"/>
            <a:ext cx="8429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b5395"/>
                </a:solidFill>
                <a:latin typeface="Constantia"/>
              </a:rPr>
              <a:t>познакомить детей с разнообразием овощных культур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b5395"/>
                </a:solidFill>
                <a:latin typeface="Constantia"/>
              </a:rPr>
              <a:t>дать обобщающее понятие «Овощи»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b5395"/>
                </a:solidFill>
                <a:latin typeface="Constantia"/>
              </a:rPr>
              <a:t>учить определять овощи с помощью системы сенсорных эталонов, узнавать по описанию, находить сходства и различия по нескольким признакам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b5395"/>
                </a:solidFill>
                <a:latin typeface="Constantia"/>
              </a:rPr>
              <a:t>обогатить словарь детей за счет обозначения в речи свойств и качеств овоща (вкуса, цвета, величины и т.д.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b5395"/>
                </a:solidFill>
                <a:latin typeface="Constantia"/>
              </a:rPr>
              <a:t>учить придумывать и отгадывать загадки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b5395"/>
                </a:solidFill>
                <a:latin typeface="Constantia"/>
              </a:rPr>
              <a:t>развить связную речь через составление описательных рассказов об овощах с использованием опорной схемы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b5395"/>
                </a:solidFill>
                <a:latin typeface="Constantia"/>
              </a:rPr>
              <a:t>побуждать к сочинению сказок (совместно с родителями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b5395"/>
                </a:solidFill>
                <a:latin typeface="Constantia"/>
              </a:rPr>
              <a:t>познакомить с профессиями повара, продавца, овощевода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b5395"/>
                </a:solidFill>
                <a:latin typeface="Constantia"/>
              </a:rPr>
              <a:t>подготовить фотовыставку совместно с родителями «Во саду ли в огороде»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b5395"/>
                </a:solidFill>
                <a:latin typeface="Constantia"/>
              </a:rPr>
              <a:t>познакомить с произведениями художественной литературы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b5395"/>
                </a:solidFill>
                <a:latin typeface="Constantia"/>
              </a:rPr>
              <a:t>составить алгоритм действий при работе на огороде (моделирование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b5395"/>
                </a:solidFill>
                <a:latin typeface="Constantia"/>
              </a:rPr>
              <a:t>провести викторину «Что у нас в лукошке?»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b5395"/>
                </a:solidFill>
                <a:latin typeface="Constantia"/>
              </a:rPr>
              <a:t>использовать компьютерные технологии в закреплении знаний об овощах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dventure"/>
              </a:rPr>
              <a:t>Системная паути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928800" y="1546200"/>
            <a:ext cx="7286400" cy="53118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3" descr=""/>
          <p:cNvPicPr/>
          <p:nvPr/>
        </p:nvPicPr>
        <p:blipFill>
          <a:blip r:embed="rId1"/>
          <a:stretch/>
        </p:blipFill>
        <p:spPr>
          <a:xfrm>
            <a:off x="2214720" y="2714760"/>
            <a:ext cx="4762440" cy="24192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Adventure"/>
              </a:rPr>
              <a:t>УРА!!!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8d90"/>
                </a:solidFill>
                <a:latin typeface="Constantia"/>
              </a:rPr>
              <a:t>С понедельника у нас начинается проек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8d90"/>
                </a:solidFill>
                <a:latin typeface="Constantia"/>
              </a:rPr>
              <a:t>«Овощной калейдоскоп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8d90"/>
                </a:solidFill>
                <a:latin typeface="Constantia"/>
              </a:rPr>
              <a:t>    </a:t>
            </a:r>
            <a:r>
              <a:rPr b="1" lang="ru-RU" sz="2200" spc="-1" strike="noStrike">
                <a:solidFill>
                  <a:srgbClr val="108d90"/>
                </a:solidFill>
                <a:latin typeface="Constantia"/>
              </a:rPr>
              <a:t>Приглашаем родителей   принять участие в его работ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8d9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108d90"/>
                </a:solidFill>
                <a:latin typeface="Constantia"/>
              </a:rPr>
              <a:t>ждем фотографий ваших детей на выставку «Я в огороде» или « Я помогаю маме»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8d9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108d90"/>
                </a:solidFill>
                <a:latin typeface="Constantia"/>
              </a:rPr>
              <a:t>сочините и запишите </a:t>
            </a:r>
            <a:r>
              <a:rPr b="1" lang="ru-RU" sz="2200" spc="-1" strike="noStrike">
                <a:solidFill>
                  <a:srgbClr val="21b2c9"/>
                </a:solidFill>
                <a:latin typeface="Constantia"/>
              </a:rPr>
              <a:t>сказку</a:t>
            </a:r>
            <a:r>
              <a:rPr b="1" lang="ru-RU" sz="2200" spc="-1" strike="noStrike">
                <a:solidFill>
                  <a:srgbClr val="108d90"/>
                </a:solidFill>
                <a:latin typeface="Constantia"/>
              </a:rPr>
              <a:t> вместе с детьми про овощ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8d90"/>
                </a:solidFill>
                <a:latin typeface="Constantia"/>
              </a:rPr>
              <a:t>выучите загадки, стихи, считалки   на тему: "Овощи"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8d90"/>
                </a:solidFill>
                <a:latin typeface="Constantia"/>
              </a:rPr>
              <a:t>И еще многое, многое другое ждет вас на будущей неделе..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8d90"/>
                </a:solidFill>
                <a:latin typeface="Constantia"/>
              </a:rPr>
              <a:t>Примите участие, не пожалеете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dventure"/>
              </a:rPr>
              <a:t>Овощная недел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43000" y="1571760"/>
          <a:ext cx="7072200" cy="4225680"/>
        </p:xfrm>
        <a:graphic>
          <a:graphicData uri="http://schemas.openxmlformats.org/drawingml/2006/table">
            <a:tbl>
              <a:tblPr/>
              <a:tblGrid>
                <a:gridCol w="3065400"/>
                <a:gridCol w="4006800"/>
              </a:tblGrid>
              <a:tr h="351000">
                <a:tc>
                  <a:txBody>
                    <a:bodyPr lIns="15480" rIns="15480" tIns="0" bIns="0" anchor="t">
                      <a:noAutofit/>
                    </a:bodyPr>
                    <a:p>
                      <a:pPr marL="64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Adventure"/>
                          <a:ea typeface="Calibri"/>
                        </a:rPr>
                        <a:t>Дни нед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480" rIns="15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Adventure"/>
                          <a:ea typeface="Calibri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8280">
                <a:tc>
                  <a:txBody>
                    <a:bodyPr lIns="15480" rIns="15480" tIns="0" bIns="0" anchor="t">
                      <a:noAutofit/>
                    </a:bodyPr>
                    <a:p>
                      <a:pPr marL="79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3495c"/>
                          </a:solidFill>
                          <a:latin typeface="Calibri"/>
                          <a:ea typeface="Calibri"/>
                        </a:rPr>
                        <a:t>Понедель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480" rIns="154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3495c"/>
                          </a:solidFill>
                          <a:latin typeface="Calibri"/>
                          <a:ea typeface="Calibri"/>
                        </a:rPr>
                        <a:t>занятие-практикум «Наш огород»; экскурсия в овощной магазин разучивание пальчиковой гимнастики «Капуста»; самомассаж кистей рук «Овощи» речевая игра «Супермарке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600">
                <a:tc>
                  <a:txBody>
                    <a:bodyPr lIns="15480" rIns="15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3495c"/>
                          </a:solidFill>
                          <a:latin typeface="Calibri"/>
                          <a:ea typeface="Calibri"/>
                        </a:rPr>
                        <a:t>Втор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480" rIns="154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3495c"/>
                          </a:solidFill>
                          <a:latin typeface="Calibri"/>
                          <a:ea typeface="Calibri"/>
                        </a:rPr>
                        <a:t>составление описательных рассказов придумывание загадок занятие -дегустация «Веселые повара» развитие графических навыков «Овощи я называю и раскрашиваю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8280">
                <a:tc>
                  <a:txBody>
                    <a:bodyPr lIns="15480" rIns="15480" tIns="0" bIns="0" anchor="t">
                      <a:noAutofit/>
                    </a:bodyPr>
                    <a:p>
                      <a:pPr marL="64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3495c"/>
                          </a:solidFill>
                          <a:latin typeface="Calibri"/>
                          <a:ea typeface="Calibri"/>
                        </a:rPr>
                        <a:t>Ср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480" rIns="154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3495c"/>
                          </a:solidFill>
                          <a:latin typeface="Calibri"/>
                          <a:ea typeface="Calibri"/>
                        </a:rPr>
                        <a:t>презентация проекта «Волшебное калейдоскоп» с использованием компьютерных технологий, чтение русской народной сказки « Вершки и корешки» заучивание стихотворения «Спор овощей» ЮлианаТув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1240">
                <a:tc>
                  <a:txBody>
                    <a:bodyPr lIns="15480" rIns="15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3495c"/>
                          </a:solidFill>
                          <a:latin typeface="Calibri"/>
                          <a:ea typeface="Calibri"/>
                        </a:rPr>
                        <a:t>Четве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480" rIns="154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3495c"/>
                          </a:solidFill>
                          <a:latin typeface="Calibri"/>
                          <a:ea typeface="Calibri"/>
                        </a:rPr>
                        <a:t>чтение сказки Чипполино Д. Родари «Сочиним сказку вместе» прослушивание сказок сочиненными детьми и родителями. Знакомство с профессиями: повара, овощевода, продавц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0280">
                <a:tc>
                  <a:txBody>
                    <a:bodyPr lIns="15480" rIns="15480" tIns="0" bIns="0" anchor="t">
                      <a:noAutofit/>
                    </a:bodyPr>
                    <a:p>
                      <a:pPr>
                        <a:lnSpc>
                          <a:spcPts val="2086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3495c"/>
                          </a:solidFill>
                          <a:latin typeface="Calibri"/>
                          <a:ea typeface="Calibri"/>
                        </a:rPr>
                        <a:t>Пятниц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480" rIns="154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3495c"/>
                          </a:solidFill>
                          <a:latin typeface="Calibri"/>
                          <a:ea typeface="Calibri"/>
                        </a:rPr>
                        <a:t>инсценировка сказки «Станция огородная» оформление фотовыставки вместе с родителями « Я на огород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08:47:21Z</dcterms:created>
  <dc:creator>SANDRO</dc:creator>
  <dc:description/>
  <dc:language>en-US</dc:language>
  <cp:lastModifiedBy>SANDRO</cp:lastModifiedBy>
  <dcterms:modified xsi:type="dcterms:W3CDTF">2012-02-10T15:06:26Z</dcterms:modified>
  <cp:revision>23</cp:revision>
  <dc:subject/>
  <dc:title>Муниципальное дошкольное образовательное учреждение – Центр развития ребёнка – детский сад №36</dc:title>
</cp:coreProperties>
</file>