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E45-6AB2-42FD-BA80-B00A24A3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7F2-C6C8-41AD-95B1-85DE89FC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9E6-CDF8-4BA5-A4BD-1EAF741B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749-B510-43E5-8CB1-A7ABFD9D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FAC1D-E58A-4D80-9DB1-8CA1ACB3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DB15F-B19A-4A99-B98A-3644FAD8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0FBBB-1E23-4041-A5FE-F31D7DA3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DA813-7BB2-420C-9DAE-39855A12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E1DEF-5886-4136-85C3-F284CA1C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D05D7-84B0-4F83-A937-24E66333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18054-7BB7-4217-A308-AC1D90F7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502-3F9C-4160-AF41-22662E94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1371E-B160-48CE-A949-45DADFE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A1C45-3A0C-4978-A584-1E9DBC1A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874B2-F7B4-45AC-AB1D-87DD7D00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0B2C-333B-4112-8311-5C54468D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7C396-E6F1-436F-B059-5FA90248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80A3-2762-4837-950E-5DA351F7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E44A-AC4B-49D9-8517-B9D5059E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B172-EBAA-4D5A-9984-764B7C07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8928-98FC-422D-89E9-CF89E2FF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C4DE-9A2B-4F12-9C6B-3C1350C6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A96-EE9B-4C3D-8B02-A9A13E51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DFF2D-A507-4F4C-80FC-068585E4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F829-AF87-4E31-8D03-C653ABF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5E827-6C48-408F-8378-F3D09F94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4D0C-F7E8-4C16-ABD4-A517D716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BC97-9BF0-4C5A-A908-FB24E59A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F78E-BFF9-4351-87B4-95578651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8614-9711-4AA3-8957-FE331D4B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787D1-1FDE-4C17-BD42-CC4EE92A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C7F49B-A362-4F54-89B2-09B94294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8F15A-9C39-4611-8928-21565600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F86-B4A3-42D6-8B60-AE593BA6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FB0035-8960-477B-A5A0-43ED03C6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CBBFA-C9B8-4B10-ADC2-ED8BBB0B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0772A-E65C-449C-8CE3-6C32497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4B825-86D7-42DE-9C48-80E1D4A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8D3120-150F-44B6-A520-517E88A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00498-7B1A-4F2B-AF24-8434DCB5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B9A0B-8C78-4349-810C-0B09189C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B9E5EE-DA16-46A0-A2DB-8B51E139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93D22-78A4-4234-984D-A09B7F2F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172-B900-40D2-AD47-0E67C94F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7D1-CB02-4E96-B89A-F979C615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516-CDF8-4364-8BBA-9A53E4F2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BB7-E74F-4A01-B25E-FC88DCF2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BE8-7A2A-4BBE-B0DA-F8E92D69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F76C-F566-4F72-A42D-3F9CA590FEB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2E8A-FA95-4357-ACEA-9141203FE44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A8BB-55DD-4DA0-92F0-9CB114C7C2A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F16B-6B15-4348-9F31-A0F8B4A0CDD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бучение грамматике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 использованием ИК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684360" y="530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42160" y="5300640"/>
            <a:ext cx="423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ласова Е.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40 м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 урок - презент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голы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Ш группы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анчивающиеся  в неопределенной форме н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r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меют в окончании букву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–a: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e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nte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nvoye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river, rester, entre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450720" y="706320"/>
            <a:ext cx="824256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071800" y="2499840"/>
            <a:ext cx="5572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'al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i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nous al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â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 al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s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vous al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ât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 al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ils al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è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e al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ells al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èr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993600" y="1006560"/>
            <a:ext cx="679788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3" descr=""/>
          <p:cNvPicPr/>
          <p:nvPr/>
        </p:nvPicPr>
        <p:blipFill>
          <a:blip r:embed="rId1"/>
          <a:stretch/>
        </p:blipFill>
        <p:spPr>
          <a:xfrm>
            <a:off x="298440" y="139680"/>
            <a:ext cx="8364600" cy="1440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714240" y="1356840"/>
            <a:ext cx="37814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глаголы,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канчивающиес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роме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re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 —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u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uri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— il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uru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rir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— il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ru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fri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vri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uvrir — j'ouvri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end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ond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ttendre — j'attend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répondre - je répondi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080" indent="-514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ui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duire — je conduisi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857480" y="1356840"/>
            <a:ext cx="3429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groupe du verb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tir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rtir — je sorti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tir- je parti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les verbes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endre — je pr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dire — je d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faire — je f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mettre — je m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rire — je r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écrire — j'écriv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voir — je v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naître — je naqui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'asseoir — je m'assi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357200" y="1999800"/>
            <a:ext cx="62150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 par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s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us par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î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 par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s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us par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ît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 par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s par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1066680" y="853920"/>
            <a:ext cx="6583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93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856800" y="1928520"/>
            <a:ext cx="36385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oi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оме глагола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voi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— j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vis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ouvoir — je pu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vouloir — je voulu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avoir — je su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lloir — il fallu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leuvoir — il plu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cevoir — je recu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evoir — je du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precevoir — j'aperçu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99980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les verbes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re — je lu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urir — je couru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rir — je mouru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laire — je plu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vivre — je vécu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–aît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naître — je connu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6" descr=""/>
          <p:cNvPicPr/>
          <p:nvPr/>
        </p:nvPicPr>
        <p:blipFill>
          <a:blip r:embed="rId1"/>
          <a:stretch/>
        </p:blipFill>
        <p:spPr>
          <a:xfrm>
            <a:off x="1352520" y="706320"/>
            <a:ext cx="6657840" cy="1086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1714680" y="2214360"/>
            <a:ext cx="27144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 vou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 vou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 vou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2214360"/>
            <a:ext cx="35668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us vou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û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us vou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ût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s vou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4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8259840" cy="1932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99980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avoir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'eus     nous eû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 eus   vous eût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 eut     ils eu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99980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êtr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 fus       nous fû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 fus       vous fût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 fut         ils furen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214280"/>
            <a:ext cx="40435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ni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 vins             Nous vîn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 vins            Vous vînt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 vint               Ils vin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eni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 tins         Nous tîn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 tins        Vous tînt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s tint         Ils tin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642840" y="642960"/>
            <a:ext cx="464364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Celui-ci marcha droit à table… jeta sans calcule une pièce d’or…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et lança sur le tailleur un regard… “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Le banquier oublia de dire ces phrases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ils regardèrent  le jeune homme et les cartes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(La peau de chagri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L’étudiant salua les pensionnaires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L’étudiant regarda Vautrin…</a:t>
            </a:r>
            <a:r>
              <a:rPr b="0" i="1" lang="en-US" sz="2600" spc="-1" strike="noStrike">
                <a:solidFill>
                  <a:srgbClr val="000000"/>
                </a:solidFill>
                <a:latin typeface="Monotype Corsiva"/>
              </a:rPr>
              <a:t>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(Le père Goriot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85480" y="3929040"/>
            <a:ext cx="31431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.de Balza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2" descr="D:\Мамины документы\картинки\BALZAC.JPG"/>
          <p:cNvPicPr/>
          <p:nvPr/>
        </p:nvPicPr>
        <p:blipFill>
          <a:blip r:embed="rId1"/>
          <a:stretch/>
        </p:blipFill>
        <p:spPr>
          <a:xfrm>
            <a:off x="285840" y="714240"/>
            <a:ext cx="3000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3642840"/>
            <a:ext cx="347184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.de Maupassa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85760" y="500040"/>
            <a:ext cx="4900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Elle leva son voile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Il demanda avec intéret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Il alluma une cigarette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Mme de Guilleroy présent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- Mon mari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Ils commencèrent par échanger leurs observations sur les gens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puis ils parlèrent d’eux-mêmes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Elle donna son adresse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Fort comme la mort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Picture 2" descr="D:\Мамины документы\картинки\image001.jpg"/>
          <p:cNvPicPr/>
          <p:nvPr/>
        </p:nvPicPr>
        <p:blipFill>
          <a:blip r:embed="rId1"/>
          <a:stretch/>
        </p:blipFill>
        <p:spPr>
          <a:xfrm>
            <a:off x="714240" y="357120"/>
            <a:ext cx="27860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701640" y="268200"/>
            <a:ext cx="79916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4000680"/>
            <a:ext cx="340056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main Rolla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29040" y="1071720"/>
            <a:ext cx="47577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Ces affreuses images s’imprimèrent dans l’esprit  brûlant d’Annette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90360" indent="-9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90360" indent="-9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Elle n’y  retrouva  plus rien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90360" indent="-9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90360" indent="-9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Raoul  resta  seul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“L’âme enchantée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Picture 3" descr="D:\Мамины документы\картинки\6e60cf9b5a94.jpg"/>
          <p:cNvPicPr/>
          <p:nvPr/>
        </p:nvPicPr>
        <p:blipFill>
          <a:blip r:embed="rId1"/>
          <a:stretch/>
        </p:blipFill>
        <p:spPr>
          <a:xfrm>
            <a:off x="857160" y="642960"/>
            <a:ext cx="2786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3429000"/>
            <a:ext cx="31147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de Saint-Exuper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714840" y="1214280"/>
            <a:ext cx="5000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il me répéta alors, tout doucement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Il regarda attentivement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 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je dessinai un mouton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Je lançai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Je m’efforçai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(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 Petit Prince”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D:\Мамины документы\картинки\antoine de saint exuperyThumbnail.jpg"/>
          <p:cNvPicPr/>
          <p:nvPr/>
        </p:nvPicPr>
        <p:blipFill>
          <a:blip r:embed="rId1"/>
          <a:stretch/>
        </p:blipFill>
        <p:spPr>
          <a:xfrm>
            <a:off x="714240" y="428760"/>
            <a:ext cx="27860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3786120"/>
            <a:ext cx="311472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.Simen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71920" y="428760"/>
            <a:ext cx="51148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Maigret quitta le bureau pour aller manger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Quand il rentra, le brigadier avait laissé un petit mot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Maigret paya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Le musicien lui adressa un clin d’oeuil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Maigret rangea ses papiers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Justin Mitard se leva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1" lang="en-US" sz="2600" spc="-1" strike="noStrike">
                <a:solidFill>
                  <a:srgbClr val="000000"/>
                </a:solidFill>
                <a:latin typeface="Monotype Corsiva"/>
              </a:rPr>
              <a:t>Mitard se plaça enfin…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La première enquête de Maigret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Picture 2" descr="D:\Мамины документы\картинки\showImage.ashx.jpg"/>
          <p:cNvPicPr/>
          <p:nvPr/>
        </p:nvPicPr>
        <p:blipFill>
          <a:blip r:embed="rId1"/>
          <a:stretch/>
        </p:blipFill>
        <p:spPr>
          <a:xfrm>
            <a:off x="571680" y="500040"/>
            <a:ext cx="2714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2" descr="D:\Мамины документы\картинки\1248868533_x_8676d01b.jpg"/>
          <p:cNvPicPr/>
          <p:nvPr/>
        </p:nvPicPr>
        <p:blipFill>
          <a:blip r:embed="rId1"/>
          <a:stretch/>
        </p:blipFill>
        <p:spPr>
          <a:xfrm>
            <a:off x="1071720" y="642960"/>
            <a:ext cx="6858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икогда не употребляется в разговорном языке, но широко употребляется во всех литературных стилях: в повествовании, докладах, лекциях и т.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242200" cy="1724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" descr="D:\Мамины документы\картинки\Pen and Paper.gif"/>
          <p:cNvPicPr/>
          <p:nvPr/>
        </p:nvPicPr>
        <p:blipFill>
          <a:blip r:embed="rId2"/>
          <a:stretch/>
        </p:blipFill>
        <p:spPr>
          <a:xfrm>
            <a:off x="5143680" y="3929040"/>
            <a:ext cx="30002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D:\Мамины документы\картинки\livres_222.jpg"/>
          <p:cNvPicPr/>
          <p:nvPr/>
        </p:nvPicPr>
        <p:blipFill>
          <a:blip r:embed="rId2"/>
          <a:stretch/>
        </p:blipFill>
        <p:spPr>
          <a:xfrm>
            <a:off x="1714680" y="1670040"/>
            <a:ext cx="5715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D:\Мамины документы\картинки\59324.jpg"/>
          <p:cNvPicPr/>
          <p:nvPr/>
        </p:nvPicPr>
        <p:blipFill>
          <a:blip r:embed="rId2"/>
          <a:stretch/>
        </p:blipFill>
        <p:spPr>
          <a:xfrm>
            <a:off x="2071800" y="1787400"/>
            <a:ext cx="54291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форм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passé simpl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арактерно наличие трех типов окончан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passé simpl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буквой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 окончании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passé simpl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буквой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 окончании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passé simpl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буквой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 оконч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3" descr=""/>
          <p:cNvPicPr/>
          <p:nvPr/>
        </p:nvPicPr>
        <p:blipFill>
          <a:blip r:embed="rId1"/>
          <a:stretch/>
        </p:blipFill>
        <p:spPr>
          <a:xfrm>
            <a:off x="353880" y="433440"/>
            <a:ext cx="824076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лаголы I и II групп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меют в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passé simpl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у же основу, что и в инфинитиве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r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 —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l par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;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r — il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лаголы III групп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меют в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passe simpl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ую основу, которая часто значительно отличается от основы инфинитива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a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 — il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;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o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 — il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  parl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 par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us par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â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 par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s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vous par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ât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 par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ils par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è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255600" y="353880"/>
            <a:ext cx="843768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000080" y="2642760"/>
            <a:ext cx="68580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 fi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us fi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î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 fi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s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vous fi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ît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 fi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t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s fi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450720" y="566640"/>
            <a:ext cx="8242560" cy="17258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4"/>
          <p:cNvSpPr/>
          <p:nvPr/>
        </p:nvSpPr>
        <p:spPr>
          <a:xfrm>
            <a:off x="2928960" y="221472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)fi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21:35Z</dcterms:created>
  <dc:creator>belka</dc:creator>
  <dc:description/>
  <dc:language>en-US</dc:language>
  <cp:lastModifiedBy>Мама</cp:lastModifiedBy>
  <dcterms:modified xsi:type="dcterms:W3CDTF">2012-02-10T17:52:17Z</dcterms:modified>
  <cp:revision>35</cp:revision>
  <dc:subject/>
  <dc:title>Passé simple</dc:title>
</cp:coreProperties>
</file>