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787A-BF8D-4B02-BAFF-AB571B2E7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3FA5-099C-4D7E-9E5F-AD9C3AD95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096A80-80DB-409D-9F14-234273065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B24F1B-8777-45D7-9580-A76827B77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FA7D78-0309-4B38-BB0F-6B41B2525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BE1441-14E7-4DE6-BBAF-62F60A02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19BB24-AE08-4EEC-875A-A4D63CFB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52D53B-B51C-43DC-96E3-F3F3CBE9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C69A44-301F-4BCC-B03F-D4E263B0E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33B485-4837-44B8-806B-F29E90A88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5D2107-25C8-4911-8555-0B4C795AF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346D-58E9-48EA-A84F-B981BE74A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FB73-8E9A-4027-A800-7E0D4546D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97A96-D17B-49DF-AE1E-DFB889305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15168-60F1-48AA-A1FD-FF99161CD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7DB99-7D76-44EE-90BA-B3BE7054C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1DB87-BA5D-4BB7-9AF3-8BA53ACBE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B5D92-8F12-4B43-9F30-A1BEB1C72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7F512-F3A5-4B6B-B66E-60ADC3CD7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DCFF4-A61E-4A63-8A05-191DEB96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A961-68DA-492A-9B44-21749B2EE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521CD-67C7-40A4-A6F2-9896BF58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0565C-C5DC-495F-8601-10FFE836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EADE3-8528-4EF3-B7D7-FC53C8F57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853D9-CDB1-4C33-A702-DD0DAF501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C8C98-C9CD-4EAD-A14D-5B8E826FD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D3B03-216B-4CCF-ACE1-7960B7BC8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61660-F826-47B4-88D7-B8C5570EF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E02DF-982F-47E2-993F-A9140703D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633B1-CE1D-439C-BB84-1E708B519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3E51F-636D-4EB9-9AE0-545370024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4059-3616-42B6-82E4-EBFBAB484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78150-F735-42D0-8642-EE8A3A681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3E3EA-EEB9-4DD8-87E7-3BA0BAC1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BADAF-A59C-4128-B9EC-CDBF94E8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5E529-12E0-4246-8D43-835A3A4D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0F5D1-F7CE-4335-BCF7-DBDA326E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B36D9-0CEB-4D9A-9FBF-294350747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C9DB1-E10C-4552-907D-23A4002C0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FFF55-D7A0-4F53-A192-D48D4A259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8099B-351C-4FC7-B2F0-599439470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6631D-E51A-4FFF-A8A7-EA9EAAA2A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F9BD-7569-4E71-B3E4-50E774400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550F4-1BDB-44DD-A964-42CE8DFC3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3A809-356F-4BF3-BD42-099FC5933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D8652-B93E-4C5A-99EE-685063F51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FC877-B0C4-4CCD-B5E9-020784F4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D68CC-B239-4C99-A5BF-2305E870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2743F-3B9F-4820-B750-E1B8206B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D3844-330B-4CE2-8789-1EE6A0BFC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7C864-E7BE-4F3F-B36E-0A8093DD8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AC12E-57DA-4770-889E-1E88F9E65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0EE2B-1C21-482B-BF7C-3A9CFA1DF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425F-FB91-4F01-91B2-F8035381D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528FB-CE2C-420D-B4BE-B5726070E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DB206D-A3C7-4655-8C71-8F8C842FF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9570E-2380-408C-AC30-05C20E900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1B791-1D3B-48C0-9F38-5F6A0A1BC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FFAC7-4750-4BB7-8C2B-08171B4A4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7DD9D-51D0-4790-9ECD-A8A5CD1C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0A93E-D1D9-4B0C-9D50-CB433008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77C92-63C0-4C50-9EDB-46D1A801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71903-AD2E-4108-A624-63208F3D5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5EA9A-7B45-4556-8BBB-5876ED593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C473-B88B-45B4-9811-E4C7408F9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30D51-40FE-401B-99CE-AF82704D9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F6637A-F1ED-4BAD-B9A5-2D964D363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77C7FE-2FF6-461D-8520-203A26E2C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D0869-7525-47F3-8C97-25E19A1AC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C6950-7611-4F4C-BC4E-008B2FFF4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DBD75-7260-487F-9E83-F52D9E146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E3917-2BC1-4C46-90E7-B47445F4F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0DC27-B637-4F3C-B35F-F3F19D9B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9C551-F00F-4B33-9BA4-7C4894BB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68049-51FC-41A6-810C-B23BC882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38C2-2A72-4792-BDA7-E5BA826A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53DB9-0748-448A-A2B7-482915C00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C587B-51F4-446D-90E8-F338580EC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E1B14-BE87-4EDD-A71A-22C46AEFC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51F6A3-2F1E-4422-83AF-0EB083251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35BEE-B692-4AD7-9FA7-9BB435F7C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CEF954-FD2E-4E42-8DBE-4EE646D2A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4F2A4-6CE1-4FE8-B7C9-411E38172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DE503-EBDC-4158-8CF2-426D2DDA7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AF98C6-C275-4294-922D-EB365CC8E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412FA1-796D-471B-AFB9-90D345C7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9881-0732-4349-A680-4E517F53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BB818B-2F99-4D43-9193-34B522AA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4CC25-2A4C-4E5D-8841-E092EF7B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6EEAF-1B06-462A-BB0E-09DDCFF52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704C2A-F899-4D9D-B896-18D8D6F7D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02508B-32C2-42E0-83BB-141ADAD49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EC59DC-4C3D-4027-AECC-8DF0CCC1C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2D1A3-3054-43D4-B2EE-AEC4BBE8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E047E-831A-478D-99D9-EEE0CBEFE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C68293-3EC7-4EEC-BE22-79A8627A9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91C93-158A-4E31-A8C8-90BE769E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B140-2EE4-47F8-9A0A-E87C9AC9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80429F-2189-4A63-A07B-5E5978F59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652CE0-A014-4498-A768-754CE1BB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94D2FC-8617-4CBB-B3D5-6574B565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29FFBC-BED9-4C0E-98B5-F9F1C636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17F897-0C0C-4407-9B39-E19FB0FC5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9248C7-20A9-4C26-9CA6-CAA5DE5FC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5A9FBD-F98A-4CFC-ACDD-E5BE7CAA1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4B0DC2-E7C4-4CA8-9968-1F05DE592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F5CFA9-B72E-4104-A171-A152FCEFC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4D49C6-A407-4F78-AD1E-2B6C04046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EE49C-CF9B-4B1E-99A1-1CC22B7F1CF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20BC9-D7A9-4935-9360-9A7FCC7B249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31EED-B5D2-40BF-8EA3-3AC842005B3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20375-4891-47AE-916E-9FEB412D46A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7DE3E-9631-41FB-991E-B3AE967E48D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792FC-8BFC-4EEE-8CFD-15F7F4DB21C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EF455-FEA0-4E14-808E-916A2CA1FA4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C2DD6-BBCD-4A17-8151-BE83B38C98B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71F24-8447-4673-9263-2F565D94B0B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3" descr=""/>
          <p:cNvPicPr/>
          <p:nvPr/>
        </p:nvPicPr>
        <p:blipFill>
          <a:blip r:embed="rId1"/>
          <a:stretch/>
        </p:blipFill>
        <p:spPr>
          <a:xfrm>
            <a:off x="298440" y="371520"/>
            <a:ext cx="8699400" cy="1384200"/>
          </a:xfrm>
          <a:prstGeom prst="rect">
            <a:avLst/>
          </a:prstGeom>
          <a:ln w="0">
            <a:noFill/>
          </a:ln>
        </p:spPr>
      </p:pic>
      <p:pic>
        <p:nvPicPr>
          <p:cNvPr id="400" name="Содержимое 5" descr="6m.jpg"/>
          <p:cNvPicPr/>
          <p:nvPr/>
        </p:nvPicPr>
        <p:blipFill>
          <a:blip r:embed="rId2"/>
          <a:stretch/>
        </p:blipFill>
        <p:spPr>
          <a:xfrm>
            <a:off x="2000160" y="1928880"/>
            <a:ext cx="545940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02" name="Содержимое 3" descr="178.jpg"/>
          <p:cNvPicPr/>
          <p:nvPr/>
        </p:nvPicPr>
        <p:blipFill>
          <a:blip r:embed="rId1"/>
          <a:stretch/>
        </p:blipFill>
        <p:spPr>
          <a:xfrm>
            <a:off x="1428840" y="1857240"/>
            <a:ext cx="608652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04" name="Содержимое 5" descr="141.jpg"/>
          <p:cNvPicPr/>
          <p:nvPr/>
        </p:nvPicPr>
        <p:blipFill>
          <a:blip r:embed="rId1"/>
          <a:stretch/>
        </p:blipFill>
        <p:spPr>
          <a:xfrm>
            <a:off x="971640" y="2533680"/>
            <a:ext cx="2857320" cy="28573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464796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1. Отрежьте 4 полоски фольги. Не переживайте, если они получатся кривыми и разнокалиберными, это не важно. </a:t>
            </a:r>
            <a:br>
              <a:rPr sz="2800"/>
            </a:b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07" name="Содержимое 4" descr="147.jpg"/>
          <p:cNvPicPr/>
          <p:nvPr/>
        </p:nvPicPr>
        <p:blipFill>
          <a:blip r:embed="rId1"/>
          <a:stretch/>
        </p:blipFill>
        <p:spPr>
          <a:xfrm>
            <a:off x="642960" y="2000160"/>
            <a:ext cx="3392640" cy="339264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64796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2. каждую полоску необходимо слегка обжать в ладонях, а потом покатать между пальцами. В итоге должны получиться такие колбаски- это ноги. </a:t>
            </a:r>
            <a:br>
              <a:rPr sz="2800"/>
            </a:b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3.  Отрежьте еще одну полоску, но пошире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64796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4.Сложите ее пополам, потом еще раз пополам и разгладьте рукой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2" name="Рисунок 4" descr="149.jpg"/>
          <p:cNvPicPr/>
          <p:nvPr/>
        </p:nvPicPr>
        <p:blipFill>
          <a:blip r:embed="rId1"/>
          <a:stretch/>
        </p:blipFill>
        <p:spPr>
          <a:xfrm>
            <a:off x="857160" y="2857680"/>
            <a:ext cx="3286080" cy="3286080"/>
          </a:xfrm>
          <a:prstGeom prst="rect">
            <a:avLst/>
          </a:prstGeom>
          <a:ln w="0">
            <a:noFill/>
          </a:ln>
        </p:spPr>
      </p:pic>
      <p:pic>
        <p:nvPicPr>
          <p:cNvPr id="413" name="Рисунок 5" descr="150.jpg"/>
          <p:cNvPicPr/>
          <p:nvPr/>
        </p:nvPicPr>
        <p:blipFill>
          <a:blip r:embed="rId2"/>
          <a:stretch/>
        </p:blipFill>
        <p:spPr>
          <a:xfrm>
            <a:off x="5286240" y="3000240"/>
            <a:ext cx="3286440" cy="32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320" y="1447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5. сложите ноги и примерно посередине скрепите их полоской полученной в п.4, придавая округлую форму.</a:t>
            </a:r>
            <a:br>
              <a:rPr sz="2800"/>
            </a:b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6" name="Содержимое 4" descr="153.jpg"/>
          <p:cNvPicPr/>
          <p:nvPr/>
        </p:nvPicPr>
        <p:blipFill>
          <a:blip r:embed="rId1"/>
          <a:stretch/>
        </p:blipFill>
        <p:spPr>
          <a:xfrm>
            <a:off x="4857840" y="2071800"/>
            <a:ext cx="367668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Для этого пальцами обеих рук тщательно сминаем фольгу между лапками, пытаясь сформовать шарик и при этом не смять ножки. Должно получиться примерно так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9" name="Содержимое 4" descr="5m.jpg"/>
          <p:cNvPicPr/>
          <p:nvPr/>
        </p:nvPicPr>
        <p:blipFill>
          <a:blip r:embed="rId1"/>
          <a:stretch/>
        </p:blipFill>
        <p:spPr>
          <a:xfrm>
            <a:off x="4429080" y="1857240"/>
            <a:ext cx="443880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21" name="Содержимое 4" descr="6m.jpg"/>
          <p:cNvPicPr/>
          <p:nvPr/>
        </p:nvPicPr>
        <p:blipFill>
          <a:blip r:embed="rId1"/>
          <a:stretch/>
        </p:blipFill>
        <p:spPr>
          <a:xfrm>
            <a:off x="642960" y="1500120"/>
            <a:ext cx="3664080" cy="457200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464796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Каждую ножку согнуть, стараясь, чтобы сгиб был выше, чем на середине лапки. Тогда паук будет «стройным», и его тело не будет лежать на полу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24" name="Содержимое 4" descr="7m.jpg"/>
          <p:cNvPicPr/>
          <p:nvPr/>
        </p:nvPicPr>
        <p:blipFill>
          <a:blip r:embed="rId2"/>
          <a:stretch/>
        </p:blipFill>
        <p:spPr>
          <a:xfrm>
            <a:off x="736560" y="1428840"/>
            <a:ext cx="3335400" cy="4857840"/>
          </a:xfrm>
          <a:prstGeom prst="rect">
            <a:avLst/>
          </a:prstGeom>
          <a:ln w="0">
            <a:noFill/>
          </a:ln>
        </p:spPr>
      </p:pic>
      <p:pic>
        <p:nvPicPr>
          <p:cNvPr id="425" name="Содержимое 5" descr="8m.jpg"/>
          <p:cNvPicPr/>
          <p:nvPr/>
        </p:nvPicPr>
        <p:blipFill>
          <a:blip r:embed="rId3"/>
          <a:stretch/>
        </p:blipFill>
        <p:spPr>
          <a:xfrm>
            <a:off x="5214960" y="2714760"/>
            <a:ext cx="3092400" cy="23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14:15:21Z</dcterms:created>
  <dc:creator>Ольга</dc:creator>
  <dc:description/>
  <dc:language>en-US</dc:language>
  <cp:lastModifiedBy>Ольга</cp:lastModifiedBy>
  <dcterms:modified xsi:type="dcterms:W3CDTF">2011-02-08T11:10:13Z</dcterms:modified>
  <cp:revision>6</cp:revision>
  <dc:subject/>
  <dc:title>Паучок из фольги</dc:title>
</cp:coreProperties>
</file>