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00B-1689-4069-B8E8-397D9049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C92-1314-49E2-8AF3-928DB0CA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7951-5673-4943-A530-F3E66064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A9C-61DF-48AF-AE83-01129282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E136-84F4-401F-A68F-C145AE93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B5E6-21BE-4D7C-80EE-0B8559B1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948E-9E88-4EF2-99CC-F8DB1EF3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A167-725E-49A0-886B-49E82867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3027-9985-4692-8973-1B783A7F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52CA-4DDA-4D00-B466-F92DA24A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1A04-5870-4DAF-A931-DB5CF955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296-8BA7-47DF-BDEA-5B59C279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9731-6C48-47A5-A87E-EF466745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9C44-255A-4AF4-AA4F-123079F0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4C82-D46D-4007-9504-82032D59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820F-787A-43BC-B5D5-C25E00B7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C2FE-0C91-4A7B-BAA2-6894004C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E95-F93A-4BC0-A325-19240E79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07C-0A12-4638-9790-28D6629E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708-7665-44BB-B639-C111A8AC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CA9-B0BD-4CD8-8470-73435E1A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F20-C05D-4BA6-80CC-C6DC91C0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BE6B-F08E-4EA6-9A6E-F3216BA1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FC1-02C3-4893-BD7D-F8DE4AD6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8AD9-ECB6-403B-B82F-0A1776A754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DF84-B655-45FF-B431-5D9D1F0B9D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Планета Земля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в опасности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моги природ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19871" t="34644" r="19614" b="5179"/>
          <a:stretch/>
        </p:blipFill>
        <p:spPr>
          <a:xfrm>
            <a:off x="826920" y="1700280"/>
            <a:ext cx="7777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62028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Они могут исчезнуть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25493" t="28717" r="26732" b="5525"/>
          <a:stretch/>
        </p:blipFill>
        <p:spPr>
          <a:xfrm>
            <a:off x="684360" y="1557360"/>
            <a:ext cx="7848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дкие рептил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9790" t="31210" r="21768" b="10378"/>
          <a:stretch/>
        </p:blipFill>
        <p:spPr>
          <a:xfrm>
            <a:off x="755640" y="1413000"/>
            <a:ext cx="756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. М. Пришвин говорил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«Для рыбы нужна чистая вода – будем охранять наши водоёмы. В лесах, степях, горах разные ценные животные – будем охранять наши леса, степи, горы. Рыбе – вода, птице – воздух, зверю – лес, степь, горы. А человеку нужна Родина. И охранять природу – значит охранять Родину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храним природу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22486" t="36064" r="23556" b="5534"/>
          <a:stretch/>
        </p:blipFill>
        <p:spPr>
          <a:xfrm>
            <a:off x="755640" y="1557360"/>
            <a:ext cx="77788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рубка лес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789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зрушение среды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б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202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грязнение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кружающей сре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621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раконьер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7058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икие животные в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вол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чезающие ви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0074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храна прир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8007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расная книг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расной книге, составленной Международным сообществом по охране природы перечислено более 500 видов млекопитающих, 880 видов птиц, 170 рептилий, 60 земноводных, 270 рыб, 875 насекомых и 510 видов других беспозвоночных, которые находятся на грани исчезнов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8:15:54Z</dcterms:created>
  <dc:creator>Customer</dc:creator>
  <dc:description/>
  <dc:language>en-US</dc:language>
  <cp:lastModifiedBy>Customer</cp:lastModifiedBy>
  <dcterms:modified xsi:type="dcterms:W3CDTF">2008-11-23T20:23:38Z</dcterms:modified>
  <cp:revision>3</cp:revision>
  <dc:subject/>
  <dc:title>  Планета Земля   в опасности!</dc:title>
</cp:coreProperties>
</file>