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media/image13.wmf" ContentType="image/x-wmf"/>
  <Override PartName="/ppt/media/image5.png" ContentType="image/png"/>
  <Override PartName="/ppt/media/image8.jpeg" ContentType="image/jpeg"/>
  <Override PartName="/ppt/media/image12.wmf" ContentType="image/x-wmf"/>
  <Override PartName="/ppt/media/image4.png" ContentType="image/png"/>
  <Override PartName="/ppt/media/image16.png" ContentType="image/png"/>
  <Override PartName="/ppt/media/image15.jpeg" ContentType="image/jpeg"/>
  <Override PartName="/ppt/media/image1.png" ContentType="image/png"/>
  <Override PartName="/ppt/media/image2.jpeg" ContentType="image/jpeg"/>
  <Override PartName="/ppt/media/image6.png" ContentType="image/png"/>
  <Override PartName="/ppt/media/image18.png" ContentType="image/png"/>
  <Override PartName="/ppt/media/image7.jpeg" ContentType="image/jpeg"/>
  <Override PartName="/ppt/media/image10.wmf" ContentType="image/x-wmf"/>
  <Override PartName="/ppt/media/image14.png" ContentType="image/png"/>
  <Override PartName="/ppt/media/image9.wmf" ContentType="image/x-wmf"/>
  <Override PartName="/ppt/media/image3.png" ContentType="image/png"/>
  <Override PartName="/ppt/media/image17.jpeg" ContentType="image/jpeg"/>
  <Override PartName="/ppt/media/image1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09D18-F931-4E69-AA8F-542C23A91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64947-D57B-4830-8F7F-C727888AF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CBA425-5C1C-47C2-B2F7-023C23738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26682C-D5E5-4C53-BC60-4B1B488FC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7A72FB-3726-4DAD-9F67-3FE8DBBC4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9755FC-7369-4E93-9130-4D0CA8C02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198E33-8BEE-4009-A89E-E77D2AA8F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BF02B6-B322-49F8-97CE-D380F5323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1C3DD5-A7C5-45CA-B75E-89DB5AC2D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6B20F6-0B94-4B48-B157-9C429702E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60340E-C42E-45B3-A6F8-EC1489433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CD3957-ADE2-4F77-B044-E2C29E82B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63FEE-557E-4468-AD10-A82E69B92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884972-3AA4-40FA-9C95-129E0AB60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430F1A-D461-416D-AA35-DC31439F1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6E913F-FF46-40BC-9616-D7C284ABF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C95D99-94F1-4926-871E-EB67E88D2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435331-1BD3-419F-97EE-7DD13F5EE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9E110D-3229-4A3A-914D-00B9BCF8C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8A696F-3233-482E-8ADD-55B2439E3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8F89FA-26C5-472B-923D-C64B242AF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7635E7-92E6-417B-A1C8-C53A821C0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5F7FA5-EA02-477E-AAC3-9FDC6A8C8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24D2E-FFFA-4F7B-9AFD-5AB052EA6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5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6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3585CA-CC8D-4AAF-9876-64C379C3E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6B7C1F7-98B5-4094-BE07-DD831AA87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0609C74-B68D-40C7-9664-13F78B800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B12F873-334B-4372-9B15-201FB006B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76756A2-C6BC-45A9-B9C4-73DC2023E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59F6989-4EBD-45EF-A3F2-419428338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3D51756-9EFF-44AC-98BA-11B110612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E004E74-C6EE-4F8F-A4B2-29FA7D974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3176ACB-4BD1-4F7D-B6C3-E0999CAD7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DE78900-0B9C-43C3-B481-1A60E68E9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F432E-6D8A-4AC9-A7F6-D2E6639E1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EBAC73C-967A-4910-846F-C1C67075D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344351C-E446-4560-9C38-C5560CA0A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7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8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B5FC748-8910-491D-913D-BF2D77FB7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F78A0F-06BA-4BD5-A20A-D09364EEF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4F0519-B991-4E4F-998E-EA8B2D370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CCF085-7408-4C9A-BBCB-83F8F1234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D87D84-29B4-48B2-A43A-ADDA99FD7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1F554C-27AF-4BF8-B1CE-D19110743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5B3040-69F1-4548-AFFC-303F9C90B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91961B-9066-43F1-A267-B6E9AECD8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F07A6-BD93-47D3-AFDD-8CD7F351C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0D53DB-2B0A-4A7C-9522-B22DD016D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E75617-E7E2-4A75-9D98-ACDE1047F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350C8C-0FA2-47A1-948B-8513FB1AB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0BFAE4-1237-4472-BEA0-0DE73C328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6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7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42B3D8-E56E-4411-88CE-DD2D80940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86A55C7-E8B4-464C-86C3-97CCCD93F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D8F384E-BE69-40A5-AF13-74304FA17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EF07D30-A383-46DE-91EC-6F0660323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215F897-F10E-4218-8CDF-A92D01A25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AE3626D-270F-4B72-9725-2B7AD44CC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A0649-C483-444A-8CA4-94CD89940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79408F3-6A3D-4AD3-BF4F-6DAE5968E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A0D5ED6-01E3-4772-99C8-7D2745A65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CB6BBCB-E224-4359-902F-E1B99257D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DEBBC56-08FF-4793-9C70-0762C074F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EBCBDC8-4F0E-4F5F-9CA3-C0C4A1526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9E88F33-C26B-4740-8227-C56605057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4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5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6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EFAE934-7435-41B8-B8A2-8FF983585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6E056A2-E15B-4570-B891-F49E517C7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CD6FB88-81FD-4F1A-A208-44F4A00CF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BDA3DBC-5C8C-43B7-8883-547614EDF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48B6F-5855-432D-80CE-C0A5CFBEA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931B84B-169C-4733-9E77-827FE3244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C24281E-4824-49F9-A81E-361F743CF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0839BD7-5AFE-40E7-8D1B-15F2BCDA4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3B7B769-3E2B-4F26-A546-104322F7D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DEF5D58-CBF9-471A-8EFB-0471BA904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F7D5C7C-B9D4-4CD1-99A5-710127139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878A2C8-25A0-40FB-B1B2-720FC5088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7D326E1-B3D9-401F-995A-FB7AD9D64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FA72FB1-DC48-4780-9840-F49B07854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F6D58DA-CB77-4B48-A2FF-FE1B1E493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218C3-9636-4702-83FC-DC6447C75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9A02B28-ADC2-42E7-B47F-CC132F27A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243CDA4-6A81-49EC-A696-312D87810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4E24818-E7B5-40D0-8D8D-22C0E62CF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33B1BFF-FB9D-47E2-B59D-19D2E41EE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9DC274E-AD75-4A4D-925F-A880C6ACD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4AEA974-BA25-43B2-A25F-8347AE3E0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B1B2604-A5C0-4E29-B02B-184D34D09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A4045E7-27C8-4982-BB60-E1A83324F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88A4004-9DE7-48BD-979B-EA41C4DC7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E3E29F0-984A-4B79-AA3E-F162E81F0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FDF90-01FB-477B-9922-9F2020DC9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086988B-4286-44BC-9F03-2FEE14120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9153EB8-4B56-4BAE-8D4C-C50A5B4DA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8A50ACE-A116-443C-8444-522D059C2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95B463A-EF2E-4783-8D0C-E0DD3305B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CAB06D2-E2B4-446F-8C32-6BB0CC1CF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0B98E58-F7EA-4B06-863B-4F545ABCA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C73A837-C3AF-4BAF-BD27-04C03CFD2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2D5DC83-C34C-43C1-9976-671741B48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4EDB6C0-723A-49B8-A6A5-39A688393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C5204F2-0EA6-4A3E-A196-2F1E6CCB3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4DD64-D079-4CD6-8978-805681008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F9B7004-6EF2-4881-8632-58D521C80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2AC18EC-7D00-4417-AC03-8E7BDC12B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961BE1F-DC02-4212-98E2-EBEEC3E6F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9A4B78C-4527-41FB-B1C6-D5D707A1E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7092146-061C-45B7-A76F-2F16678EE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BE1456E-FFA1-4FA4-A7E2-2186C01C7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10D88DF-890E-4D79-8E5C-7C4F87837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1BB3860-C23D-4CB2-A59C-DC418B401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264B159-78A9-4B7E-8EAB-C6DB62341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3BA42BD-7C79-40AD-9785-EB4009F56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33280-79E5-4437-A2E7-1E6356AB5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5E135-4D78-4480-97F2-7B89AC59B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7B2A635-7CEA-4C16-955F-86F50FC4C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A2F543D-B00E-4A9A-8F85-736BEFAB4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EBD87DF-2B6D-4DA8-BEFA-1985C3A18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3DBB097-C3BA-4925-9694-698A51ABB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2CAEAFA-C589-42B2-8AE6-3080B864F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A2E8841-7294-4865-9DDB-C743DE0CC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B57F07A-0DAE-42FB-B74C-3F3F9B869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7AF83B0-5C9B-4DE9-A2C1-2E8B870CE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BA1B1D1-CF95-47CA-B608-65E6FFF91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53575D4-E26E-4D64-92C6-A9A87E37C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8A7EB-F309-4FCA-8C6A-6D9A11533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7CDE7A8-4FB0-44F1-9BC2-6B8CF1429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82C376A-12B1-4961-A605-4CD62CE47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208FBAB-5E07-4C4D-A427-A8B234B4D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ADB7C2F-3CFD-4072-A737-A508F69D4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1470F48-5EDB-4FEF-9313-09B76BDDC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3FE92BD-4010-407A-96A0-78CC7BDB7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0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1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19AB027-524E-47C2-8BA5-5BE668A22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19616-D2CB-40D3-8B3D-19C1D809D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18378-D876-4448-A1B7-F66DD9BC9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450B6-DB02-47B5-9976-15D929603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461F964-E4D5-4685-91E8-6F20E18B7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E5B50BB-D88E-4E06-8D79-9F3F134EA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D7C7B97-DB17-4341-84D5-2D5154DC8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5596416-F192-497D-96BC-40C887C02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6C28DB5-A972-4869-9698-D8E7E6A42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3481D-0F2E-417E-85F9-06D0CCDC1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E4EF298-CB92-4653-BA0D-21644BEA6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036211A-07AC-4BA0-B7EC-5AEC5E842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2F47F0-CB47-4F9E-9927-0C6EE7273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28418D-6863-4FBF-9122-87CC1F65E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B6EF19A-00BC-4316-A1BC-7B1439B53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CEACB94-54C1-4BD8-ADEC-CA5184BB8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9094A4B-A4B2-44A5-A0AB-878D5476A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525ED4-B6E0-4DFD-AB3B-C614201C1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AE7E2D-A9AF-4234-A27E-B5CA7713D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B73B5F-DD76-4063-A56A-45BDEC948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A70C5-4262-4888-AE48-2DD73B31B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B6EA47-AAE1-4FF5-8BB3-645199485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1443D8-7355-4D10-80F5-CB753B1D7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84911E-5970-4C0D-B364-FFA8FAF48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49DBBF-A2FF-4A2C-B652-AF313CC33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52F847-D9AE-4106-81A4-047376A1F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754B51-9D76-43AE-BCC9-F6AE39F17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19B717-C329-46EC-BF71-2F17C2D1E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2F9211-DEF3-4BB7-94D3-D6314254E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07B399-38EA-4046-AD1D-732E9792C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5537B2-B97C-4BFC-9244-9F69CEBD2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6020C-EB6A-4B89-A0A9-E13BF3ABE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0D80AA-35A3-4725-842B-0389E6631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2EA338-153C-495E-9F1E-3A8B4EF45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7492EA-5ED2-42C8-A423-826EFF134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A256FB-CB6C-4769-8696-CBED6B369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B126FF-0D51-48C2-8A65-BD5965307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93C345-F088-4756-97B8-F797D3558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EA7544-4E31-4C52-8779-CF2F7287C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479B40-5292-4FFE-BE87-A4F6230F9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A71EE7-A61D-4BF2-A73C-82EC2C536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C252D6-525F-4728-AAC7-961C4C19A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9F64F-0407-4138-99B7-6757A49DF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39C432-50E8-44BB-B9A0-CB4EA5FD9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EC0352-2165-4E4C-AA9E-586544D11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F70340-C32B-4FC1-A93A-07724C63B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04AC9C-9A37-4ABD-8C12-B8A4A4ABE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5A0E41-1544-4548-A08E-72B7E8117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CDF26C-E0D2-4340-A83E-664B7FCA1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052285-6CA0-4E4F-B381-2FDF5127C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CBA3A4-BFE7-45AF-8794-BE9F6FDFE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6DC4AC-4856-434B-9BDC-E3FBC5603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96F258-7FFC-43AA-B345-B9DFD8336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61E6D-FF53-43D8-A2DD-7DF848514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A0F4B5-6E66-4C5E-838E-C606571BC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B9BC4A-B8AB-40ED-8F6C-1E4785708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CDEACB-E8E8-4E3B-81CA-0C8BC5B6A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6BEE3D-92C1-4C21-8D97-53BABF954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7C1C00-FD31-40C9-A696-CFF766289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4DEF3C-A5D8-4158-A046-3F93D8A24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782EF3-0B26-4488-AC62-A317C0464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939415-A453-4DD1-A337-38E670964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61989A-28E5-4EDA-A8E1-069A59CF7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B9D0E2-3683-427A-B3F8-1440ECDD6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2D4B3-C547-415B-8B1D-2A22C201D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D01215-9C64-449A-9A8D-6C2DE2545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FBD227-B05F-4788-AC73-3A3D96678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FCA524-D55F-4B97-A005-E05721DD9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58F932-47AB-4102-8F95-45454B938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B17867-E2D7-4EB2-BC16-A9D2C006D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0874C9-BC4F-49DF-94EE-9CDF41DC9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925902-5BFA-40C1-9CD6-374CBCE69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3383C1-2961-43A0-AF28-94FBF405A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FC754F-3A38-4A4E-9254-E268454C8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8C37C4-6A93-4E48-BA8E-57E5C2E16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AF9DC-2DDD-46BC-B07B-5255C04EB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950B2E-7946-4221-88EB-0F13FC118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B808FC-3E5F-4826-BF70-C21357F0E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CACC11-05A0-4DA5-BE9D-7EBF8F011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0783A6-DA3A-470D-892B-DBA2FE2DE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FA1A79-4342-424D-B82E-EFC14CCA2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B96A27-1235-4852-AFF9-3ED43FD20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7154AD-BFEA-447D-9559-A2760D197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E25D94-F9ED-490B-8065-D6E18C43E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BBD2BC-D052-455F-A2F1-77D983859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627158-E1D6-42FF-AFEF-B62A11977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7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7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7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7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8688D-0290-4923-970E-1BB3C94E00F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AutoShape 7"/>
          <p:cNvSpPr/>
          <p:nvPr/>
        </p:nvSpPr>
        <p:spPr>
          <a:xfrm>
            <a:off x="685800" y="2394000"/>
            <a:ext cx="7772400" cy="10944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1B72B-AC77-4AFF-8977-7E214892C711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 type="ftr" idx="3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 type="sldNum" idx="3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A2E44-C797-49CE-8084-6719CDAFF51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 type="dt" idx="3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30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531" name="Полилиния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2" name="Полилиния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33" name="Полилиния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34" name="Полилиния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5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pic>
          <p:nvPicPr>
            <p:cNvPr id="536" name="Прямая соединительная линия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 type="dt" idx="3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 type="ftr" idx="3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 type="sldNum" idx="3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41D38-A3B5-45DF-9A51-48BC59D15CC8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9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80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581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2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583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584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5" name="Нашивка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 type="dt" idx="3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 type="ftr" idx="3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0" name="PlaceHolder 5"/>
          <p:cNvSpPr>
            <a:spLocks noGrp="1"/>
          </p:cNvSpPr>
          <p:nvPr>
            <p:ph type="sldNum" idx="3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73024-F89C-4A47-97EA-CDEDB7EA4925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8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29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630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1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632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 type="dt" idx="4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 type="ftr" idx="4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7" name="PlaceHolder 5"/>
          <p:cNvSpPr>
            <a:spLocks noGrp="1"/>
          </p:cNvSpPr>
          <p:nvPr>
            <p:ph type="sldNum" idx="4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E7F3D-A553-4842-A23D-FF08C01228E5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 type="dt" idx="4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 type="ftr" idx="4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8" name="PlaceHolder 5"/>
          <p:cNvSpPr>
            <a:spLocks noGrp="1"/>
          </p:cNvSpPr>
          <p:nvPr>
            <p:ph type="sldNum" idx="4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2D9EA-D584-4AFB-A3F0-9035F31C5593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6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17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718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720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 type="dt" idx="4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 type="ftr" idx="4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5" name="PlaceHolder 5"/>
          <p:cNvSpPr>
            <a:spLocks noGrp="1"/>
          </p:cNvSpPr>
          <p:nvPr>
            <p:ph type="sldNum" idx="4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C9799-0E94-4D24-9953-0602582B70E5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 type="dt" idx="4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 type="ftr" idx="5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6" name="PlaceHolder 5"/>
          <p:cNvSpPr>
            <a:spLocks noGrp="1"/>
          </p:cNvSpPr>
          <p:nvPr>
            <p:ph type="sldNum" idx="5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346B3-399D-48A3-9AEE-99DA0828788A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Полилиния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4" name="Полилиния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05" name="Прямоугольный треугольник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806" name="Прямоугольный треугольник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808" name="Прямая соединительная линия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809" name="Нашивка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0" name="Нашивка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 type="dt" idx="5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4" name="PlaceHolder 4"/>
          <p:cNvSpPr>
            <a:spLocks noGrp="1"/>
          </p:cNvSpPr>
          <p:nvPr>
            <p:ph type="ftr" idx="5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5" name="PlaceHolder 5"/>
          <p:cNvSpPr>
            <a:spLocks noGrp="1"/>
          </p:cNvSpPr>
          <p:nvPr>
            <p:ph type="sldNum" idx="5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B9549-2595-4F1C-BEB3-F949DF880CF4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61" name="Freeform 3"/>
            <p:cNvSpPr/>
            <p:nvPr/>
          </p:nvSpPr>
          <p:spPr>
            <a:xfrm>
              <a:off x="0" y="925560"/>
              <a:ext cx="7122960" cy="1055520"/>
            </a:xfrm>
            <a:prstGeom prst="pie">
              <a:avLst/>
            </a:pr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0"/>
              <a:ext cx="7242120" cy="1903320"/>
            </a:xfrm>
            <a:prstGeom prst="pie">
              <a:avLst/>
            </a:pr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2D3A9-FE97-4EE7-ACBD-D04AB8BA1721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ftr" idx="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ldNum" idx="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11588-F585-43B0-BADB-C528C45BDD40}" type="slidenum">
              <a:rPr b="0" lang="ru-RU" sz="12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0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0000cc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66ff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6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66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33ff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66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33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AutoShape 4"/>
          <p:cNvSpPr/>
          <p:nvPr/>
        </p:nvSpPr>
        <p:spPr>
          <a:xfrm>
            <a:off x="609480" y="1566720"/>
            <a:ext cx="7958160" cy="10980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dt" idx="10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1FE54-1AED-4751-89B7-8CDB64EB3836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9B908-62F0-4396-8693-D3BA5D5C300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1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42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244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702F9-FF92-466D-BEF3-E6E636CBC872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6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287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6CE25-F5B4-4439-B1A4-140C58CD518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6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347" name="Freeform 3"/>
            <p:cNvSpPr/>
            <p:nvPr/>
          </p:nvSpPr>
          <p:spPr>
            <a:xfrm>
              <a:off x="0" y="2286000"/>
              <a:ext cx="8183520" cy="3657600"/>
            </a:xfrm>
            <a:prstGeom prst="pie">
              <a:avLst/>
            </a:pr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Freeform 4"/>
            <p:cNvSpPr/>
            <p:nvPr/>
          </p:nvSpPr>
          <p:spPr>
            <a:xfrm>
              <a:off x="0" y="0"/>
              <a:ext cx="8458200" cy="5856120"/>
            </a:xfrm>
            <a:prstGeom prst="pie">
              <a:avLst/>
            </a:pr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AF6DE-C0D9-48B8-B948-853C44AD32B1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39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0000cc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9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39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33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33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33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33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66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33ff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66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33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131D3-22AF-45AD-A48A-7E603F52BB3E}" type="slidenum">
              <a:rPr b="0" lang="ru-RU" sz="12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image" Target="../media/image13.wmf"/><Relationship Id="rId6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WordArt 4"/>
          <p:cNvSpPr txBox="1"/>
          <p:nvPr/>
        </p:nvSpPr>
        <p:spPr>
          <a:xfrm>
            <a:off x="1147680" y="1143000"/>
            <a:ext cx="7158240" cy="2550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утешествие 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о календарю 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853" name="Picture 4" descr="C:\Program Files\Microsoft Office\MEDIA\CAGCAT10\j0299587.wmf"/>
          <p:cNvPicPr/>
          <p:nvPr/>
        </p:nvPicPr>
        <p:blipFill>
          <a:blip r:embed="rId1"/>
          <a:stretch/>
        </p:blipFill>
        <p:spPr>
          <a:xfrm>
            <a:off x="457200" y="3809880"/>
            <a:ext cx="1827360" cy="1824120"/>
          </a:xfrm>
          <a:prstGeom prst="rect">
            <a:avLst/>
          </a:prstGeom>
          <a:ln w="0">
            <a:noFill/>
          </a:ln>
        </p:spPr>
      </p:pic>
      <p:pic>
        <p:nvPicPr>
          <p:cNvPr id="854" name="Picture 5" descr="C:\Program Files\Microsoft Office\MEDIA\CAGCAT10\j0088542.wmf"/>
          <p:cNvPicPr/>
          <p:nvPr/>
        </p:nvPicPr>
        <p:blipFill>
          <a:blip r:embed="rId2"/>
          <a:stretch/>
        </p:blipFill>
        <p:spPr>
          <a:xfrm>
            <a:off x="152280" y="206280"/>
            <a:ext cx="8839440" cy="827280"/>
          </a:xfrm>
          <a:prstGeom prst="rect">
            <a:avLst/>
          </a:prstGeom>
          <a:ln w="0">
            <a:noFill/>
          </a:ln>
        </p:spPr>
      </p:pic>
      <p:pic>
        <p:nvPicPr>
          <p:cNvPr id="855" name="Picture 6" descr="C:\Program Files\Microsoft Office\MEDIA\CAGCAT10\j0212661.wmf"/>
          <p:cNvPicPr/>
          <p:nvPr/>
        </p:nvPicPr>
        <p:blipFill>
          <a:blip r:embed="rId3"/>
          <a:stretch/>
        </p:blipFill>
        <p:spPr>
          <a:xfrm>
            <a:off x="4952880" y="4343400"/>
            <a:ext cx="1782720" cy="1811160"/>
          </a:xfrm>
          <a:prstGeom prst="rect">
            <a:avLst/>
          </a:prstGeom>
          <a:ln w="0">
            <a:noFill/>
          </a:ln>
        </p:spPr>
      </p:pic>
      <p:pic>
        <p:nvPicPr>
          <p:cNvPr id="856" name="Picture 7" descr="C:\Program Files\Microsoft Office\MEDIA\CAGCAT10\j0298897.wmf"/>
          <p:cNvPicPr/>
          <p:nvPr/>
        </p:nvPicPr>
        <p:blipFill>
          <a:blip r:embed="rId4"/>
          <a:stretch/>
        </p:blipFill>
        <p:spPr>
          <a:xfrm>
            <a:off x="7086600" y="3809880"/>
            <a:ext cx="1806480" cy="1578240"/>
          </a:xfrm>
          <a:prstGeom prst="rect">
            <a:avLst/>
          </a:prstGeom>
          <a:ln w="0">
            <a:noFill/>
          </a:ln>
        </p:spPr>
      </p:pic>
      <p:pic>
        <p:nvPicPr>
          <p:cNvPr id="857" name="Picture 8" descr="C:\Program Files\Microsoft Office\MEDIA\CAGCAT10\j0183328.wmf"/>
          <p:cNvPicPr/>
          <p:nvPr/>
        </p:nvPicPr>
        <p:blipFill>
          <a:blip r:embed="rId5"/>
          <a:stretch/>
        </p:blipFill>
        <p:spPr>
          <a:xfrm>
            <a:off x="2819520" y="3809880"/>
            <a:ext cx="1806480" cy="181476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Цели урока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"/>
          <p:cNvSpPr txBox="1"/>
          <p:nvPr/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66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бобщим знания по пейзажной лирике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66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учимся защищать свою тему(проект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66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удем превращаться то в поэтов, то в актеров, то в критиков, то в художников как волшебники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66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удем развивать нашу монологическую речь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66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се будем придерживаться девиза мушкетеров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«Один за всех- и все за одного!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66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66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66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"/>
          <p:cNvSpPr txBox="1"/>
          <p:nvPr/>
        </p:nvSpPr>
        <p:spPr>
          <a:xfrm>
            <a:off x="456840" y="2666520"/>
            <a:ext cx="838188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Lucida Sans Unicode"/>
              </a:rPr>
              <a:t>1. Выразительное чтение стихотворение стихотворения о «своем» времени года;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Lucida Sans Unicode"/>
              </a:rPr>
              <a:t>2.Небольшой анализ стихотворения;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Lucida Sans Unicode"/>
              </a:rPr>
              <a:t>3.Инсценировка  «своего»  времени года;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Lucida Sans Unicode"/>
              </a:rPr>
              <a:t>4.Оформить стол «своего» времени года красками или символами времени года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861" name="Rectangle 2" descr=""/>
          <p:cNvPicPr/>
          <p:nvPr/>
        </p:nvPicPr>
        <p:blipFill>
          <a:blip r:embed="rId1"/>
          <a:stretch/>
        </p:blipFill>
        <p:spPr>
          <a:xfrm>
            <a:off x="450720" y="85680"/>
            <a:ext cx="8455320" cy="185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3300"/>
                </a:solidFill>
                <a:latin typeface="Tahoma"/>
              </a:rPr>
              <a:t>Внимание!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ahoma"/>
              </a:rPr>
              <a:t>Вы должны уложиться во время - выступление длится 6-8 минут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65" name="Picture 4" descr="Grabar_Fevralskaya_lazur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cap="sq" w="444600">
            <a:solidFill>
              <a:srgbClr val="7272fe"/>
            </a:solidFill>
            <a:miter/>
          </a:ln>
          <a:effectLst>
            <a:outerShdw dist="190409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866" name="Прямоугольник 5"/>
          <p:cNvSpPr/>
          <p:nvPr/>
        </p:nvSpPr>
        <p:spPr>
          <a:xfrm>
            <a:off x="228600" y="5934240"/>
            <a:ext cx="8915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73"/>
                </a:solidFill>
                <a:latin typeface="Monotype Corsiva"/>
              </a:rPr>
              <a:t>Грабарь «Февральская лазурь»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67" name="зима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80880" cy="380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6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6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628951" fill="hold"/>
                                        <p:tgtEl>
                                          <p:spTgt spid="8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8" name="Picture 8" descr="E:\Новая папка\DSC0157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9" name="PlaceHolder 1"/>
          <p:cNvSpPr>
            <a:spLocks noGrp="1"/>
          </p:cNvSpPr>
          <p:nvPr>
            <p:ph/>
          </p:nvPr>
        </p:nvSpPr>
        <p:spPr>
          <a:xfrm>
            <a:off x="304560" y="0"/>
            <a:ext cx="800100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408600" indent="0" algn="ctr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ffff"/>
                </a:solidFill>
                <a:latin typeface="Monotype Corsiva"/>
              </a:rPr>
              <a:t>Выступает группа </a:t>
            </a:r>
            <a:r>
              <a:rPr b="1" lang="ru-RU" sz="8800" spc="-1" strike="noStrike">
                <a:solidFill>
                  <a:srgbClr val="ffffff"/>
                </a:solidFill>
                <a:latin typeface="Monotype Corsiva"/>
              </a:rPr>
              <a:t>«Зима»</a:t>
            </a:r>
            <a:endParaRPr b="0" lang="en-US" sz="8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Продолжение в копии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71" name="" descr=""/>
          <p:cNvPicPr/>
          <p:nvPr/>
        </p:nvPicPr>
        <p:blipFill>
          <a:blip r:embed="rId1"/>
          <a:stretch/>
        </p:blipFill>
        <p:spPr>
          <a:xfrm>
            <a:off x="566280" y="1752480"/>
            <a:ext cx="800100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1T02:32:11Z</dcterms:created>
  <dc:creator>Азияна</dc:creator>
  <dc:description/>
  <dc:language>en-US</dc:language>
  <cp:lastModifiedBy>Пользователь</cp:lastModifiedBy>
  <dcterms:modified xsi:type="dcterms:W3CDTF">2012-02-10T15:12:18Z</dcterms:modified>
  <cp:revision>3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