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E20-DB84-44C4-85F4-102804FF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947-927B-4BDA-B812-4E5B5AAA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9A9-1BFA-488B-A5AE-8BCC8C0D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BA3-E4C8-462E-A979-F962229D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AB0-828E-4276-BD12-1FE47C92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152C-07BD-4990-8F86-B106A7E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80F8-7EB0-4EB4-9ABA-1AC122E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B4F-5CAA-4940-A6A9-0459BED4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6CF2-78FA-4B29-BAE9-7DAF8BB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969-5518-45FD-89C3-141821F1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02F7-FC59-4B0D-927C-1BE818C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CAF-8815-46D6-A629-DB14563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748-8DA6-421E-89A1-92D15E3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85F-2826-4FBC-803A-FBDAADD0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7BA-3935-4541-BC3D-07961654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5931-FC3D-4FF1-9C09-227AB5E9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15D-E30F-4936-A377-848E6EC2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769-EFE3-4007-BA19-CA40990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BA7-BDB1-4E90-AFD2-D6B397D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1B0-886E-4719-A1A2-56E8D9D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C63-6FAA-4AF2-948C-54251309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14E-CB34-42EC-9518-BB00598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9AE-98B1-42ED-8C1B-F6C171C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211-3BD2-4AB3-B731-B5FE9B4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EF4-17D8-4A70-84C4-D126979FC5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D64-6DFC-4C81-9824-246F865D98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8000" y="765000"/>
            <a:ext cx="518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08000" y="2997360"/>
            <a:ext cx="49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опорно-двигатель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87640" y="393372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систем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1755720" cy="2641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332000" y="1916280"/>
            <a:ext cx="5616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"ПМП при поврежд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403280" y="476280"/>
            <a:ext cx="58327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ситуационная зада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628640"/>
            <a:ext cx="82090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ма поехал на лыжах с крутой горы, спрыгнул с трамплина, неудачно приземлился и леж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ать не может, кричит, что у него болит нога. При осмотре ноги внешних повреждений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е не видно, при надавливании на одно место в области голени – резкая б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стукивании о пятку – тоже резкая боль в гол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913120" cy="218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87280" y="2997360"/>
            <a:ext cx="6480360" cy="2064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елать в этой ситу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случилось с Д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ервая помощь при переломах конечносте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052640"/>
          <a:ext cx="7488000" cy="2676240"/>
        </p:xfrm>
        <a:graphic>
          <a:graphicData uri="http://schemas.openxmlformats.org/drawingml/2006/table">
            <a:tbl>
              <a:tblPr/>
              <a:tblGrid>
                <a:gridCol w="644760"/>
                <a:gridCol w="684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за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спрос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врача или обеспеч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7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3786120"/>
          <a:ext cx="7488000" cy="3071880"/>
        </p:xfrm>
        <a:graphic>
          <a:graphicData uri="http://schemas.openxmlformats.org/drawingml/2006/table">
            <a:tbl>
              <a:tblPr/>
              <a:tblGrid>
                <a:gridCol w="632520"/>
                <a:gridCol w="6855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от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95280" y="260280"/>
          <a:ext cx="7993080" cy="2913120"/>
        </p:xfrm>
        <a:graphic>
          <a:graphicData uri="http://schemas.openxmlformats.org/drawingml/2006/table">
            <a:tbl>
              <a:tblPr/>
              <a:tblGrid>
                <a:gridCol w="687240"/>
                <a:gridCol w="730584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за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езболивающего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спросить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и алле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кры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врача или обеспечить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ставк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 месту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5280" y="3284640"/>
          <a:ext cx="7993080" cy="3448080"/>
        </p:xfrm>
        <a:graphic>
          <a:graphicData uri="http://schemas.openxmlformats.org/drawingml/2006/table">
            <a:tbl>
              <a:tblPr/>
              <a:tblGrid>
                <a:gridCol w="674640"/>
                <a:gridCol w="731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от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…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крово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езболивающего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укры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ач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еспечить доставку к месту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вреждение отделов скелета человек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719360"/>
          <a:ext cx="8229600" cy="4562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Название перело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ПМ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ЛЕЧ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БЕДР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ГРУДНАЯ КЛЕТ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РАВМА ПОЗВОНОЧН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РАВМА ЧЕРЕП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Стр.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32000" y="260280"/>
            <a:ext cx="56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197000"/>
            <a:ext cx="72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писать синквейн – ушибы, перело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граф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093080" y="2060640"/>
            <a:ext cx="431640" cy="1584360"/>
          </a:xfrm>
          <a:prstGeom prst="downArrow">
            <a:avLst>
              <a:gd name="adj1" fmla="val 50000"/>
              <a:gd name="adj2" fmla="val 917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492280"/>
            <a:ext cx="505080" cy="1656000"/>
          </a:xfrm>
          <a:prstGeom prst="downArrow">
            <a:avLst>
              <a:gd name="adj1" fmla="val 50000"/>
              <a:gd name="adj2" fmla="val 819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916280"/>
            <a:ext cx="431640" cy="2447640"/>
          </a:xfrm>
          <a:prstGeom prst="downArrow">
            <a:avLst>
              <a:gd name="adj1" fmla="val 50000"/>
              <a:gd name="adj2" fmla="val 1417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Скелет"/>
          <p:cNvPicPr/>
          <p:nvPr/>
        </p:nvPicPr>
        <p:blipFill>
          <a:blip r:embed="rId2"/>
          <a:stretch/>
        </p:blipFill>
        <p:spPr>
          <a:xfrm>
            <a:off x="7451640" y="5084640"/>
            <a:ext cx="1362240" cy="124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836640"/>
            <a:ext cx="53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Типы соединения к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43700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подв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лусуста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4797360"/>
            <a:ext cx="27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уста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3716280"/>
            <a:ext cx="28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одвиж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ш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0 из 1280"/>
          <p:cNvPicPr/>
          <p:nvPr/>
        </p:nvPicPr>
        <p:blipFill>
          <a:blip r:embed="rId1"/>
          <a:stretch/>
        </p:blipFill>
        <p:spPr>
          <a:xfrm>
            <a:off x="539640" y="549360"/>
            <a:ext cx="5113440" cy="4091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16 из 948"/>
          <p:cNvPicPr/>
          <p:nvPr/>
        </p:nvPicPr>
        <p:blipFill>
          <a:blip r:embed="rId2"/>
          <a:stretch/>
        </p:blipFill>
        <p:spPr>
          <a:xfrm>
            <a:off x="3851280" y="1773360"/>
            <a:ext cx="4726080" cy="472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5 из 12242"/>
          <p:cNvPicPr/>
          <p:nvPr/>
        </p:nvPicPr>
        <p:blipFill>
          <a:blip r:embed="rId3"/>
          <a:stretch/>
        </p:blipFill>
        <p:spPr>
          <a:xfrm>
            <a:off x="755640" y="76500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35680" cy="5127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84360" y="333360"/>
            <a:ext cx="71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Николай Иванович Пир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987640" y="90792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(1810-188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392360" cy="5732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рогов осматривает Д.И.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227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02320" cy="525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0720" y="3322800"/>
            <a:ext cx="4319280" cy="3006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547640" y="404640"/>
            <a:ext cx="619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ёстры милосер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68360" y="404640"/>
            <a:ext cx="44643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Виды перело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68360" y="907920"/>
            <a:ext cx="1872000" cy="122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907920"/>
            <a:ext cx="1657440" cy="122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6093000"/>
            <a:ext cx="41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e9ce8"/>
                </a:solidFill>
                <a:latin typeface="Arial"/>
              </a:rPr>
              <a:t>Закрытый пере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e9ce8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716360" y="522936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e9ce8"/>
                </a:solidFill>
                <a:latin typeface="Arial"/>
              </a:rPr>
              <a:t>Открытый пере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e9ce8"/>
              </a:solidFill>
              <a:latin typeface="Arial"/>
              <a:ea typeface="Arial"/>
            </a:endParaRPr>
          </a:p>
        </p:txBody>
      </p:sp>
      <p:pic>
        <p:nvPicPr>
          <p:cNvPr id="181" name="" descr="Картинка 17 из 259"/>
          <p:cNvPicPr/>
          <p:nvPr/>
        </p:nvPicPr>
        <p:blipFill>
          <a:blip r:embed="rId1"/>
          <a:stretch/>
        </p:blipFill>
        <p:spPr>
          <a:xfrm>
            <a:off x="4932360" y="2421000"/>
            <a:ext cx="3600360" cy="245592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82" name="" descr="Голени плафон разрушения"/>
          <p:cNvPicPr/>
          <p:nvPr/>
        </p:nvPicPr>
        <p:blipFill>
          <a:blip r:embed="rId2"/>
          <a:stretch/>
        </p:blipFill>
        <p:spPr>
          <a:xfrm>
            <a:off x="826920" y="2349360"/>
            <a:ext cx="2946600" cy="35942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авила наложения шин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052640"/>
            <a:ext cx="7777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 любой подруч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рнуть шину ватой (ткан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аложении шины обеспечить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неподвижность не менее 2 суставов – выше и ниже места перел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3124440" cy="1905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35640" y="3789360"/>
            <a:ext cx="20588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портаж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1562040"/>
            <a:ext cx="7245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664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5:12:58Z</dcterms:created>
  <dc:creator>Наташа</dc:creator>
  <dc:description/>
  <dc:language>en-US</dc:language>
  <cp:lastModifiedBy>Гусева </cp:lastModifiedBy>
  <dcterms:modified xsi:type="dcterms:W3CDTF">2012-02-03T10:43:33Z</dcterms:modified>
  <cp:revision>19</cp:revision>
  <dc:subject/>
  <dc:title>Слайд 1</dc:title>
</cp:coreProperties>
</file>