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DBA-A341-4197-A98C-118C3796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86B-A7A9-407A-A7BF-6068A2EB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791-1188-40F8-8F64-C710583A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C97-AE6F-4123-8191-9E1CC4CC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1179-2AB0-4E9A-BFE7-1D0AF204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8970-A6B3-4203-907B-9B6580ED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4FE7-AA31-4254-847A-24FD6FC2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BAFF-4336-4191-983F-9716B076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C859-E5CE-4292-9F06-268118B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C596-E7BA-4D18-9856-97E9FC0F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E2B1-A03D-41EF-B87E-1E3F1466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9F7-80B6-44BD-A871-E16FB0D1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8C93-9AFB-40E1-B0D1-9DE2348B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D69A-1520-49E2-BB64-81DF36ED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A61F-AE07-4852-92C8-02FDE535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250A-3B33-423F-9E02-0A06471E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99FE-5EA6-4874-AFA2-04533C94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DB6-77C8-4301-B5BF-4974E6DD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22E-4922-4C5E-82BF-DC7C661C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8AD-85A3-4F76-A1CE-2A0D732C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147-FBF1-4490-B193-998EEAF5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7B0-D0F3-4D3E-9F2C-5A8A0D21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F3E-25CA-4496-9271-2F931DDB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B14-BE59-49EE-8AE6-3DB5349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FE5E-5092-40FB-A736-C09C9807A4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D466-6143-4E71-B1F0-6DDF4FE2CF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908000" y="765000"/>
            <a:ext cx="5185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08000" y="2997360"/>
            <a:ext cx="49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опорно-двигатель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987640" y="393372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систем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1755720" cy="2641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332000" y="1916280"/>
            <a:ext cx="561636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"ПМП при поврежде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403280" y="476280"/>
            <a:ext cx="583272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ситуационная задач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1628640"/>
            <a:ext cx="82090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ма поехал на лыжах с крутой горы, спрыгнул с трамплина, неудачно приземлился и леж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ать не может, кричит, что у него болит нога. При осмотре ноги внешних повреждений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е не видно, при надавливании на одно место в области голени – резкая бо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стукивании о пятку – тоже резкая боль в гол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913120" cy="218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87280" y="2997360"/>
            <a:ext cx="6480360" cy="2064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делать в этой ситу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случилось с Ди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ервая помощь при переломах конечносте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052640"/>
          <a:ext cx="7488000" cy="2676240"/>
        </p:xfrm>
        <a:graphic>
          <a:graphicData uri="http://schemas.openxmlformats.org/drawingml/2006/table">
            <a:tbl>
              <a:tblPr/>
              <a:tblGrid>
                <a:gridCol w="644760"/>
                <a:gridCol w="684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при закрытом перело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бодить от воздействия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2 таблетки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 спроси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фиксировать конечность с помощью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его, особенно при холодной погоде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вать врача или обеспечи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7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3786120"/>
          <a:ext cx="7488000" cy="3071880"/>
        </p:xfrm>
        <a:graphic>
          <a:graphicData uri="http://schemas.openxmlformats.org/drawingml/2006/table">
            <a:tbl>
              <a:tblPr/>
              <a:tblGrid>
                <a:gridCol w="632520"/>
                <a:gridCol w="6855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при открытом перело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бодить от воздействия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и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2 таблетки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фиксировать конечность с помощью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его, особенно при холодной погоде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ва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95280" y="260280"/>
          <a:ext cx="7993080" cy="2913120"/>
        </p:xfrm>
        <a:graphic>
          <a:graphicData uri="http://schemas.openxmlformats.org/drawingml/2006/table">
            <a:tbl>
              <a:tblPr/>
              <a:tblGrid>
                <a:gridCol w="687240"/>
                <a:gridCol w="730584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при закрытом перело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бодить от воздействия…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деж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2 таблетки…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безболивающего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 спросить…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и аллер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фиксировать конечность с помощью…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его, особенно при холодной погоде…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кры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вать врача или обеспечить…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оставк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 месту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5280" y="3284640"/>
          <a:ext cx="7993080" cy="3448080"/>
        </p:xfrm>
        <a:graphic>
          <a:graphicData uri="http://schemas.openxmlformats.org/drawingml/2006/table">
            <a:tbl>
              <a:tblPr/>
              <a:tblGrid>
                <a:gridCol w="674640"/>
                <a:gridCol w="731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при открытом перело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бодить от воздействия…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деж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ить…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крово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2 таблетки…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безболивающего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фиксировать конечность с помощью…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его, особенно при холодной погоде…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укры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вать…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рач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беспечить доставку к месту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вреждение отделов скелета человек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719360"/>
          <a:ext cx="8229600" cy="4562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Название перело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ПМП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ПЛЕЧ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БЕДР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ГРУДНАЯ КЛЕТ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ТРАВМА ПОЗВОНОЧН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ТРАВМА ЧЕРЕП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Стр. 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32000" y="260280"/>
            <a:ext cx="56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1197000"/>
            <a:ext cx="727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писать синквейн – ушибы, перело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араграф 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093080" y="2060640"/>
            <a:ext cx="431640" cy="1584360"/>
          </a:xfrm>
          <a:prstGeom prst="downArrow">
            <a:avLst>
              <a:gd name="adj1" fmla="val 50000"/>
              <a:gd name="adj2" fmla="val 917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2492280"/>
            <a:ext cx="505080" cy="1656000"/>
          </a:xfrm>
          <a:prstGeom prst="downArrow">
            <a:avLst>
              <a:gd name="adj1" fmla="val 50000"/>
              <a:gd name="adj2" fmla="val 819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916280"/>
            <a:ext cx="431640" cy="2447640"/>
          </a:xfrm>
          <a:prstGeom prst="downArrow">
            <a:avLst>
              <a:gd name="adj1" fmla="val 50000"/>
              <a:gd name="adj2" fmla="val 1417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Скелет"/>
          <p:cNvPicPr/>
          <p:nvPr/>
        </p:nvPicPr>
        <p:blipFill>
          <a:blip r:embed="rId2"/>
          <a:stretch/>
        </p:blipFill>
        <p:spPr>
          <a:xfrm>
            <a:off x="7451640" y="5084640"/>
            <a:ext cx="1362240" cy="1247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68360" y="836640"/>
            <a:ext cx="530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Типы соединения кос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443700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подв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олусуста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4797360"/>
            <a:ext cx="273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в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суста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3716280"/>
            <a:ext cx="287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подвиж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ш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Картинка 0 из 1280"/>
          <p:cNvPicPr/>
          <p:nvPr/>
        </p:nvPicPr>
        <p:blipFill>
          <a:blip r:embed="rId1"/>
          <a:stretch/>
        </p:blipFill>
        <p:spPr>
          <a:xfrm>
            <a:off x="539640" y="549360"/>
            <a:ext cx="5113440" cy="4091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Картинка 16 из 948"/>
          <p:cNvPicPr/>
          <p:nvPr/>
        </p:nvPicPr>
        <p:blipFill>
          <a:blip r:embed="rId2"/>
          <a:stretch/>
        </p:blipFill>
        <p:spPr>
          <a:xfrm>
            <a:off x="3851280" y="1773360"/>
            <a:ext cx="4726080" cy="472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5 из 12242"/>
          <p:cNvPicPr/>
          <p:nvPr/>
        </p:nvPicPr>
        <p:blipFill>
          <a:blip r:embed="rId3"/>
          <a:stretch/>
        </p:blipFill>
        <p:spPr>
          <a:xfrm>
            <a:off x="755640" y="76500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35680" cy="5127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684360" y="333360"/>
            <a:ext cx="712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Николай Иванович Пир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987640" y="907920"/>
            <a:ext cx="2514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(1810-1881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392360" cy="5732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8360" y="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ирогов осматривает Д.И.Менделе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2276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рымск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802320" cy="5256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00720" y="3322800"/>
            <a:ext cx="4319280" cy="3006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547640" y="404640"/>
            <a:ext cx="6193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Сёстры милосер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68360" y="404640"/>
            <a:ext cx="446436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Виды перело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68360" y="907920"/>
            <a:ext cx="1872000" cy="122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907920"/>
            <a:ext cx="1657440" cy="122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6093000"/>
            <a:ext cx="41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e9ce8"/>
                </a:solidFill>
                <a:latin typeface="Arial"/>
              </a:rPr>
              <a:t>Закрытый перел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e9ce8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716360" y="5229360"/>
            <a:ext cx="41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e9ce8"/>
                </a:solidFill>
                <a:latin typeface="Arial"/>
              </a:rPr>
              <a:t>Открытый перел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e9ce8"/>
              </a:solidFill>
              <a:latin typeface="Arial"/>
              <a:ea typeface="Arial"/>
            </a:endParaRPr>
          </a:p>
        </p:txBody>
      </p:sp>
      <p:pic>
        <p:nvPicPr>
          <p:cNvPr id="181" name="" descr="Картинка 17 из 259"/>
          <p:cNvPicPr/>
          <p:nvPr/>
        </p:nvPicPr>
        <p:blipFill>
          <a:blip r:embed="rId1"/>
          <a:stretch/>
        </p:blipFill>
        <p:spPr>
          <a:xfrm>
            <a:off x="4932360" y="2421000"/>
            <a:ext cx="3600360" cy="245592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182" name="" descr="Голени плафон разрушения"/>
          <p:cNvPicPr/>
          <p:nvPr/>
        </p:nvPicPr>
        <p:blipFill>
          <a:blip r:embed="rId2"/>
          <a:stretch/>
        </p:blipFill>
        <p:spPr>
          <a:xfrm>
            <a:off x="826920" y="2349360"/>
            <a:ext cx="2946600" cy="3594240"/>
          </a:xfrm>
          <a:prstGeom prst="rect">
            <a:avLst/>
          </a:prstGeom>
          <a:ln w="2844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равила наложения шин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052640"/>
            <a:ext cx="7777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м любой подручный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рнуть шину ватой (ткань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аложении шины обеспечить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неподвижность не менее 2 суставов – выше и ниже места перел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03280" y="4221000"/>
            <a:ext cx="3124440" cy="1905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435640" y="3789360"/>
            <a:ext cx="20588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портаж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5640" y="1562040"/>
            <a:ext cx="7245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664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5:12:58Z</dcterms:created>
  <dc:creator>Наташа</dc:creator>
  <dc:description/>
  <dc:language>en-US</dc:language>
  <cp:lastModifiedBy>Гусева </cp:lastModifiedBy>
  <dcterms:modified xsi:type="dcterms:W3CDTF">2012-02-03T10:43:33Z</dcterms:modified>
  <cp:revision>19</cp:revision>
  <dc:subject/>
  <dc:title>Слайд 1</dc:title>
</cp:coreProperties>
</file>