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88C-7DA0-4427-992F-3B576CA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637-B845-44F5-8254-D6BB056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99-41DA-4B82-9B5F-B9DD2C9A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778-E905-4FC2-93E2-13BD5699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5515-FA1B-4C4F-A683-7B85159C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EE9-4340-433A-88DE-4239BFE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642-0611-41CC-9F54-A4B9791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FBC8-546E-4CFB-8C14-FB6F9399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3E0-6937-431E-912B-9176C96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FF2-C0F9-497A-BD04-7AE7D8B4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C589-F963-4270-8616-8575503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636-CC8C-4D8D-BEF7-D40B8624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A571-C750-4096-9616-2ACC41AB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47CF-E01C-4635-8CA5-1C67987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58E-BCF3-481F-80D8-DD32135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0D31-FBAB-4378-A938-2577271F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6E8-5F76-4989-B63A-83C1A6A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28D0-646C-46D4-8D0B-5DDB63AB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D77A-5938-430A-A2D8-462A226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762B-1F47-4CD2-AFE2-B91BB6E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1FA5-95E0-4EEC-A135-685089B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2E51-D18E-49CE-8A11-8EA0895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BED-6AEB-4990-9983-E66E391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E997-5A5F-4F05-B059-751F9E7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26D7-5A83-4156-AF5C-3E63FBD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50FE-36C9-4F15-8542-F323233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1030-14F3-4258-96B5-1C303B1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27CF-084C-4951-83DB-89C666A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FDDA-5C6D-467C-8AEF-C5868D84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CC6A-4D7E-4401-92CF-A18C24B8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88B4-8707-4A86-8036-BA93CA74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3951-413A-4EEB-875E-C79F91E1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210C-58ED-46D8-9513-49C8AEB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A9C-6EFE-41F0-92A7-6141373F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FE2B-AE2C-419C-B748-E2433BE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BC53-8CFE-4355-BD14-2E45A70B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F969-8DD9-48E5-9CEF-C42EE3E5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9507-1E54-4722-9437-A127934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43DB-B591-4E6A-9853-9F27D2F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63B3-EDA4-4E85-9E15-92ED6C4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8D6D-5DA3-4151-B5F7-60AEE3C2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3951-9AF8-4E21-B6BC-F0268300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093B-614A-4CCE-B018-EA4F461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FF6-DF09-4548-B19D-18C95F97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C06-0A24-4C42-AD50-5D41F07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73C-3543-4A32-9FF0-94F2D1A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781-F194-4F04-AF19-4188DCA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555-94C5-4D7B-8D3E-8136FA6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84F-429D-4D15-9BDE-509C115932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7F0-86CE-436A-90C6-D583292281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B16-6F9A-4BFF-A302-0184B4BBB7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626-E524-4D95-9FDC-2493527690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3827" TargetMode="External"/><Relationship Id="rId2" Type="http://schemas.openxmlformats.org/officeDocument/2006/relationships/hyperlink" Target="http://dic.academic.ru/dic.nsf/ruwiki/2447" TargetMode="External"/><Relationship Id="rId3" Type="http://schemas.openxmlformats.org/officeDocument/2006/relationships/hyperlink" Target="http://dic.academic.ru/dic.nsf/ruwiki/105596" TargetMode="External"/><Relationship Id="rId4" Type="http://schemas.openxmlformats.org/officeDocument/2006/relationships/hyperlink" Target="http://dic.academic.ru/dic.nsf/ruwiki/83460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3" TargetMode="External"/><Relationship Id="rId2" Type="http://schemas.openxmlformats.org/officeDocument/2006/relationships/hyperlink" Target="http://dic.academic.ru/dic.nsf/ruwiki/15242" TargetMode="External"/><Relationship Id="rId3" Type="http://schemas.openxmlformats.org/officeDocument/2006/relationships/hyperlink" Target="http://dic.academic.ru/dic.nsf/ruwiki/24918" TargetMode="External"/><Relationship Id="rId4" Type="http://schemas.openxmlformats.org/officeDocument/2006/relationships/hyperlink" Target="http://dic.academic.ru/dic.nsf/ruwiki/8513" TargetMode="External"/><Relationship Id="rId5" Type="http://schemas.openxmlformats.org/officeDocument/2006/relationships/hyperlink" Target="http://dic.academic.ru/dic.nsf/ruwiki/2038" TargetMode="External"/><Relationship Id="rId6" Type="http://schemas.openxmlformats.org/officeDocument/2006/relationships/hyperlink" Target="http://dic.academic.ru/dic.nsf/ruwiki/4815" TargetMode="External"/><Relationship Id="rId7" Type="http://schemas.openxmlformats.org/officeDocument/2006/relationships/hyperlink" Target="http://dic.academic.ru/dic.nsf/ruwiki/24918" TargetMode="External"/><Relationship Id="rId8" Type="http://schemas.openxmlformats.org/officeDocument/2006/relationships/hyperlink" Target="http://dic.academic.ru/dic.nsf/ruwiki/513201" TargetMode="External"/><Relationship Id="rId9" Type="http://schemas.openxmlformats.org/officeDocument/2006/relationships/hyperlink" Target="http://dic.academic.ru/dic.nsf/ruwiki/73573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24918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237074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lovari.yandex.ru/~&#1082;&#1085;&#1080;&#1075;&#1080;/&#1041;&#1057;&#1069;/&#1042;&#1086;&#1077;&#1085;&#1085;&#1086;-&#1057;&#1091;&#1093;&#1091;&#1084;&#1089;&#1082;&#1072;&#1103;%20&#1076;&#1086;&#1088;&#1086;&#1075;&#1072;/" TargetMode="External"/><Relationship Id="rId2" Type="http://schemas.openxmlformats.org/officeDocument/2006/relationships/hyperlink" Target="http://slovari.yandex.ru/~&#1082;&#1085;&#1080;&#1075;&#1080;/&#1041;&#1057;&#1069;/&#1058;&#1077;&#1073;&#1077;&#1088;&#1076;&#1080;&#1085;&#1089;&#1082;&#1080;&#1081;%20&#1079;&#1072;&#1087;&#1086;&#1074;&#1077;&#1076;&#1085;&#1080;&#1082;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9565" TargetMode="External"/><Relationship Id="rId2" Type="http://schemas.openxmlformats.org/officeDocument/2006/relationships/hyperlink" Target="http://dic.academic.ru/dic.nsf/ruwiki/12076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tdih.nakubani.ru/photoview/?partlimit=2&amp;itemid=3320&amp;libid=dataset&amp;typeid=SetCombination_Default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6;&#1099;&#1075;&#1077;&#1081;&#1089;&#1082;&#1080;&#1081;_&#1103;&#1079;&#1099;&#1082;" TargetMode="External"/><Relationship Id="rId2" Type="http://schemas.openxmlformats.org/officeDocument/2006/relationships/hyperlink" Target="http://ru.wikipedia.org/wiki/&#1050;&#1072;&#1073;&#1072;&#1088;&#1076;&#1080;&#1085;&#1086;-&#1095;&#1077;&#1088;&#1082;&#1077;&#1089;&#1089;&#1082;&#1080;&#1081;_&#1103;&#1079;&#1099;&#1082;" TargetMode="External"/><Relationship Id="rId3" Type="http://schemas.openxmlformats.org/officeDocument/2006/relationships/hyperlink" Target="http://ru.wikipedia.org/wiki/&#1056;&#1077;&#1082;&#1072;" TargetMode="External"/><Relationship Id="rId4" Type="http://schemas.openxmlformats.org/officeDocument/2006/relationships/hyperlink" Target="http://ru.wikipedia.org/wiki/&#1057;&#1077;&#1074;&#1077;&#1088;&#1085;&#1099;&#1081;_&#1050;&#1072;&#1074;&#1082;&#1072;&#1079;" TargetMode="External"/><Relationship Id="rId5" Type="http://schemas.openxmlformats.org/officeDocument/2006/relationships/hyperlink" Target="http://ru.wikipedia.org/wiki/&#1055;&#1088;&#1080;&#1090;&#1086;&#1082;" TargetMode="External"/><Relationship Id="rId6" Type="http://schemas.openxmlformats.org/officeDocument/2006/relationships/hyperlink" Target="http://ru.wikipedia.org/wiki/&#1050;&#1091;&#1073;&#1072;&#1085;&#1100;_(&#1088;&#1077;&#1082;&#1072;)" TargetMode="External"/><Relationship Id="rId7" Type="http://schemas.openxmlformats.org/officeDocument/2006/relationships/hyperlink" Target="http://ru.wikipedia.org/wiki/&#1052;&#1072;&#1083;&#1072;&#1103;_&#1051;&#1072;&#1073;&#1072;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51;&#1072;&#1073;&#1072;" TargetMode="External"/><Relationship Id="rId2" Type="http://schemas.openxmlformats.org/officeDocument/2006/relationships/hyperlink" Target="http://ru.wikipedia.org/wiki/&#1052;&#1072;&#1083;&#1072;&#1103;_&#1051;&#1072;&#1073;&#1072;" TargetMode="External"/><Relationship Id="rId3" Type="http://schemas.openxmlformats.org/officeDocument/2006/relationships/hyperlink" Target="http://ru.wikipedia.org/w/index.php?title=&#1043;&#1083;&#1072;&#1074;&#1085;&#1099;&#1081;_&#1050;&#1072;&#1074;&#1091;&#1072;&#1079;&#1089;&#1082;&#1080;&#1081;_&#1093;&#1088;&#1077;&#1073;&#1077;&#1090;&amp;action=edit&amp;redlink=1" TargetMode="External"/><Relationship Id="rId4" Type="http://schemas.openxmlformats.org/officeDocument/2006/relationships/hyperlink" Target="http://ru.wikipedia.org/wiki/&#1052;&#1072;&#1083;&#1072;&#1103;_&#1051;&#1072;&#1073;&#1072;" TargetMode="External"/><Relationship Id="rId5" Type="http://schemas.openxmlformats.org/officeDocument/2006/relationships/hyperlink" Target="http://ru.wikipedia.org/wiki/&#1060;&#1072;&#1088;&#1089;_(&#1088;&#1077;&#1082;&#1072;)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90;&#1086;&#1074;&#1089;&#1082;&#1086;&#1081;" TargetMode="External"/><Relationship Id="rId2" Type="http://schemas.openxmlformats.org/officeDocument/2006/relationships/hyperlink" Target="http://ru.wikipedia.org/wiki/&#1051;&#1072;&#1073;&#1080;&#1085;&#1089;&#1082;" TargetMode="External"/><Relationship Id="rId3" Type="http://schemas.openxmlformats.org/officeDocument/2006/relationships/hyperlink" Target="http://ru.wikipedia.org/wiki/&#1050;&#1091;&#1088;&#1075;&#1072;&#1085;&#1080;&#1085;&#1089;&#1082;" TargetMode="External"/><Relationship Id="rId4" Type="http://schemas.openxmlformats.org/officeDocument/2006/relationships/hyperlink" Target="http://ru.wikipedia.org/wiki/&#1047;&#1072;&#1089;&#1089;&#1086;&#1074;&#1089;&#1082;&#1072;&#1103;" TargetMode="External"/><Relationship Id="rId5" Type="http://schemas.openxmlformats.org/officeDocument/2006/relationships/hyperlink" Target="http://ru.wikipedia.org/wiki/&#1042;&#1083;&#1072;&#1076;&#1080;&#1084;&#1080;&#1088;&#1089;&#1082;&#1072;&#1103;" TargetMode="External"/><Relationship Id="rId6" Type="http://schemas.openxmlformats.org/officeDocument/2006/relationships/hyperlink" Target="http://ru.wikipedia.org/wiki/&#1056;&#1086;&#1076;&#1085;&#1080;&#1082;&#1086;&#1074;&#1089;&#1082;&#1072;&#1103;" TargetMode="External"/><Relationship Id="rId7" Type="http://schemas.openxmlformats.org/officeDocument/2006/relationships/hyperlink" Target="http://ru.wikipedia.org/wiki/&#1058;&#1077;&#1084;&#1080;&#1088;&#1075;&#1086;&#1077;&#1074;&#1089;&#1082;&#1072;&#1103;" TargetMode="External"/><Relationship Id="rId8" Type="http://schemas.openxmlformats.org/officeDocument/2006/relationships/hyperlink" Target="http://ru.wikipedia.org/wiki/&#1042;&#1086;&#1079;&#1076;&#1074;&#1080;&#1078;&#1077;&#1085;&#1089;&#1082;&#1072;&#1103;_(&#1089;&#1090;&#1072;&#1085;&#1080;&#1094;&#1072;)" TargetMode="External"/><Relationship Id="rId9" Type="http://schemas.openxmlformats.org/officeDocument/2006/relationships/hyperlink" Target="http://ru.wikipedia.org/wiki/&#1058;&#1077;&#1085;&#1075;&#1080;&#1085;&#1089;&#1082;&#1072;&#1103;" TargetMode="External"/><Relationship Id="rId10" Type="http://schemas.openxmlformats.org/officeDocument/2006/relationships/hyperlink" Target="http://ru.wikipedia.org/wiki/&#1053;&#1086;&#1074;&#1086;&#1083;&#1072;&#1073;&#1080;&#1085;&#1089;&#1082;&#1072;&#1103;" TargetMode="External"/><Relationship Id="rId11" Type="http://schemas.openxmlformats.org/officeDocument/2006/relationships/hyperlink" Target="http://ru.wikipedia.org/wiki/&#1053;&#1077;&#1082;&#1088;&#1072;&#1089;&#1086;&#1074;&#1089;&#1082;&#1072;&#1103;_(&#1050;&#1088;&#1072;&#1089;&#1085;&#1086;&#1076;&#1072;&#1088;&#1089;&#1082;&#1080;&#1081;_&#1082;&#1088;&#1072;&#1081;)" TargetMode="External"/><Relationship Id="rId12" Type="http://schemas.openxmlformats.org/officeDocument/2006/relationships/hyperlink" Target="http://ru.wikipedia.org/wiki/&#1061;&#1086;&#1076;&#1079;&#1100;_(&#1072;&#1091;&#1083;)" TargetMode="External"/><Relationship Id="rId13" Type="http://schemas.openxmlformats.org/officeDocument/2006/relationships/hyperlink" Target="http://ru.wikipedia.org/wiki/&#1053;&#1072;&#1090;&#1099;&#1088;&#1073;&#1086;&#1074;&#1086;" TargetMode="External"/><Relationship Id="rId14" Type="http://schemas.openxmlformats.org/officeDocument/2006/relationships/hyperlink" Target="http://ru.wikipedia.org/wiki/&#1050;&#1086;&#1096;&#1077;&#1093;&#1072;&#1073;&#1083;&#1100;" TargetMode="External"/><Relationship Id="rId15" Type="http://schemas.openxmlformats.org/officeDocument/2006/relationships/hyperlink" Target="http://ru.wikipedia.org/wiki/&#1045;&#1075;&#1077;&#1088;&#1091;&#1093;&#1072;&#1081;" TargetMode="External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9749" TargetMode="External"/><Relationship Id="rId2" Type="http://schemas.openxmlformats.org/officeDocument/2006/relationships/hyperlink" Target="http://dic.academic.ru/dic.nsf/ruwiki/10098" TargetMode="External"/><Relationship Id="rId3" Type="http://schemas.openxmlformats.org/officeDocument/2006/relationships/hyperlink" Target="http://dic.academic.ru/dic.nsf/ruwiki/8513" TargetMode="External"/><Relationship Id="rId4" Type="http://schemas.openxmlformats.org/officeDocument/2006/relationships/hyperlink" Target="http://dic.academic.ru/dic.nsf/ruwiki/2038" TargetMode="External"/><Relationship Id="rId5" Type="http://schemas.openxmlformats.org/officeDocument/2006/relationships/hyperlink" Target="http://dic.academic.ru/dic.nsf/ruwiki/421" TargetMode="External"/><Relationship Id="rId6" Type="http://schemas.openxmlformats.org/officeDocument/2006/relationships/hyperlink" Target="http://dic.academic.ru/dic.nsf/ruwiki/1298018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7209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43686" TargetMode="External"/><Relationship Id="rId2" Type="http://schemas.openxmlformats.org/officeDocument/2006/relationships/hyperlink" Target="http://dic.academic.ru/dic.nsf/ruwiki/217732" TargetMode="External"/><Relationship Id="rId3" Type="http://schemas.openxmlformats.org/officeDocument/2006/relationships/hyperlink" Target="http://dic.academic.ru/dic.nsf/ruwiki/119202" TargetMode="External"/><Relationship Id="rId4" Type="http://schemas.openxmlformats.org/officeDocument/2006/relationships/hyperlink" Target="http://dic.academic.ru/dic.nsf/ruwiki/1149931" TargetMode="External"/><Relationship Id="rId5" Type="http://schemas.openxmlformats.org/officeDocument/2006/relationships/hyperlink" Target="http://dic.academic.ru/dic.nsf/ruwiki/47695" TargetMode="External"/><Relationship Id="rId6" Type="http://schemas.openxmlformats.org/officeDocument/2006/relationships/hyperlink" Target="http://dic.academic.ru/dic.nsf/ruwiki/24918#cite_note-0" TargetMode="External"/><Relationship Id="rId7" Type="http://schemas.openxmlformats.org/officeDocument/2006/relationships/hyperlink" Target="http://dic.academic.ru/dic.nsf/ruwiki/6947" TargetMode="External"/><Relationship Id="rId8" Type="http://schemas.openxmlformats.org/officeDocument/2006/relationships/hyperlink" Target="http://dic.academic.ru/dic.nsf/ruwiki/77" TargetMode="External"/><Relationship Id="rId9" Type="http://schemas.openxmlformats.org/officeDocument/2006/relationships/hyperlink" Target="http://dic.academic.ru/dic.nsf/ruwiki/421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527960" TargetMode="External"/><Relationship Id="rId2" Type="http://schemas.openxmlformats.org/officeDocument/2006/relationships/hyperlink" Target="http://dic.academic.ru/dic.nsf/ruwiki/1109453" TargetMode="External"/><Relationship Id="rId3" Type="http://schemas.openxmlformats.org/officeDocument/2006/relationships/hyperlink" Target="http://dic.academic.ru/dic.nsf/ruwiki/804506" TargetMode="External"/><Relationship Id="rId4" Type="http://schemas.openxmlformats.org/officeDocument/2006/relationships/hyperlink" Target="http://dic.academic.ru/dic.nsf/ruwiki/91058" TargetMode="External"/><Relationship Id="rId5" Type="http://schemas.openxmlformats.org/officeDocument/2006/relationships/hyperlink" Target="http://dic.academic.ru/dic.nsf/ruwiki/1111026" TargetMode="External"/><Relationship Id="rId6" Type="http://schemas.openxmlformats.org/officeDocument/2006/relationships/hyperlink" Target="http://dic.academic.ru/dic.nsf/ruwiki/89727" TargetMode="External"/><Relationship Id="rId7" Type="http://schemas.openxmlformats.org/officeDocument/2006/relationships/hyperlink" Target="http://dic.academic.ru/dic.nsf/ruwiki/24918#cite_note-1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57643" TargetMode="External"/><Relationship Id="rId2" Type="http://schemas.openxmlformats.org/officeDocument/2006/relationships/hyperlink" Target="http://dic.academic.ru/dic.nsf/ruwiki/47648" TargetMode="External"/><Relationship Id="rId3" Type="http://schemas.openxmlformats.org/officeDocument/2006/relationships/hyperlink" Target="http://dic.academic.ru/dic.nsf/ruwiki/38030" TargetMode="External"/><Relationship Id="rId4" Type="http://schemas.openxmlformats.org/officeDocument/2006/relationships/hyperlink" Target="http://dic.academic.ru/dic.nsf/ruwiki/82652" TargetMode="External"/><Relationship Id="rId5" Type="http://schemas.openxmlformats.org/officeDocument/2006/relationships/hyperlink" Target="http://dic.academic.ru/dic.nsf/ruwiki/632335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41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nstantia"/>
              </a:rPr>
              <a:t>Река Кубань и её приток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nstantia"/>
              </a:rPr>
              <a:t>Презентация  подготовлена учителем МОУСОШ №6   Антоненко М.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XIX веке половина стока реки Кубань направлялась через Старую Кубань в причерноморский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лима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Кизилташский, а оттуда в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Чёрное мор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. Затем было произведено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обваловани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, и сток через Старую Кубань прекратился. Сравнительно недавно был проведён опреснительный канал по трассе отмершего Черноморского русла, по которому воды Кубани вновь поступают в Кизилташский лиман для нужд созданного там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кефалевог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хозяйства. В 1973—1975 годах было заполнено Кубанское водохранилище, которое поглотило Тщикск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Притоки реки Куба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nstantia"/>
              </a:rPr>
              <a:t>Река Афипс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4e6d"/>
                </a:solidFill>
                <a:latin typeface="Constantia"/>
              </a:rPr>
              <a:t>Река Теберда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nstantia"/>
              </a:rPr>
              <a:t>Река Белая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0c0"/>
                </a:solidFill>
                <a:latin typeface="Constantia"/>
              </a:rPr>
              <a:t>Река Лаба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Псекупс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b050"/>
                </a:solidFill>
                <a:latin typeface="Constantia"/>
              </a:rPr>
              <a:t>Река Пшиш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Река Афипс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Афи́п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— река в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осси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на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еверном Кавказ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левый приток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Кубан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отекает по территории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Краснодарского кра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Адыге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Берёт истоки у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гор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Афипс (738 м), впадает в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ку Кубан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Общая протяженность 96 км. Река протекает через такие населенные пункты как станица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Смоленска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поселок городского типа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Афипски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Река Афип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 высоте 738 м. начинаются истоки реки Афипс, а именно на северо-восточном склоне лесистой горы Большой Афипс. Растянувшись на 96 км, Афипс пересекает куэстовую гряду и, выйдя на просторы предгорной флювиогляциальной равнины, вливает свои воды через Шапсугское водохранилище в реку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Кубан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у аула Афипсип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Река Афип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ка Афипс принимает в себя ряд небольших горных рек. Наиболее крупными ее притоками являются река Шебш длиною 100 км и Убин длиною 63 км. Афипс в своем верхнем и среднем течении очень мелководен, однако ниже впадения в нее реки Шебша встречаются и глубокие места. Река довольно спокойно несет свои чистые воды по галечниковому руслу, но в период половодья становится бурной и многоводной. Недалеко от впадения ее в Кубань для целей зарегулирования последней и для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орошени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земель построено Шапсугское водохранилищ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0c886e0d58024f34f405ccddd5e4ba40.jpg"/>
          <p:cNvPicPr/>
          <p:nvPr/>
        </p:nvPicPr>
        <p:blipFill>
          <a:blip r:embed="rId1"/>
          <a:stretch/>
        </p:blipFill>
        <p:spPr>
          <a:xfrm>
            <a:off x="838080" y="1646280"/>
            <a:ext cx="7315200" cy="475452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3" descr="0c886e0d58024f34f405ccddd5e4ba40.jpg"/>
          <p:cNvPicPr/>
          <p:nvPr/>
        </p:nvPicPr>
        <p:blipFill>
          <a:blip r:embed="rId2"/>
          <a:stretch/>
        </p:blipFill>
        <p:spPr>
          <a:xfrm>
            <a:off x="838080" y="167652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4e6d"/>
                </a:solidFill>
                <a:latin typeface="Calibri"/>
              </a:rPr>
              <a:t>Река Теберд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3" descr="http://www.dombaikurort.ru/img/i-13.jpg"/>
          <p:cNvPicPr/>
          <p:nvPr/>
        </p:nvPicPr>
        <p:blipFill>
          <a:blip r:embed="rId1"/>
          <a:stretch/>
        </p:blipFill>
        <p:spPr>
          <a:xfrm>
            <a:off x="838080" y="1219320"/>
            <a:ext cx="2743200" cy="25905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теб.jpg"/>
          <p:cNvPicPr/>
          <p:nvPr/>
        </p:nvPicPr>
        <p:blipFill>
          <a:blip r:embed="rId2"/>
          <a:stretch/>
        </p:blipFill>
        <p:spPr>
          <a:xfrm>
            <a:off x="4797360" y="1371600"/>
            <a:ext cx="3265560" cy="2362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теб2.jpg"/>
          <p:cNvPicPr/>
          <p:nvPr/>
        </p:nvPicPr>
        <p:blipFill>
          <a:blip r:embed="rId3"/>
          <a:stretch/>
        </p:blipFill>
        <p:spPr>
          <a:xfrm>
            <a:off x="2819520" y="4191120"/>
            <a:ext cx="3124080" cy="236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4e6d"/>
                </a:solidFill>
                <a:latin typeface="Calibri"/>
              </a:rPr>
              <a:t>Река Теберд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еберда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река на северном склоне Большого Кавказа, в Карачаево-Черкесской АО, левый приток Кубани. Длина 60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км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площадь бассейна 1080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к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Русло галечное, загромождённое валунами; водопады. Питание смешанное, с преобладанием (55%) ледниково-снегового (в бассейне Т. около 100 ледников). Наибольшая водность в июле — августе. Средний расход воды в 45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км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от устья 27,2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/сек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Зимой шуга (сплошного ледостава нет). На Т. — город и курорт Теберда, в устье — г. Карачаевск. По долине реки проходит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Военно-Сухумская дорог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В верховьях Т. —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Тебердинский заповедни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В бассейне реки — альпинистские лагеря и туристские баз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4e6d"/>
                </a:solidFill>
                <a:latin typeface="Calibri"/>
              </a:rPr>
              <a:t>Река Теберд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ка Теберд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образуется слиянием двух рек -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Аманауз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Гоначхи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В нее впадают сотни больших и малых рек, таких как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Хаджибе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Улу-Хатипа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Мух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Гидам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Амгат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являющиеся левыми притоками, и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Гедеж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Улу-Мурудж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Шумк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Джамагат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соответственно, правые притоки. Большинство этих рек питаются от таяния ледников и снеж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о своему географическому положению долин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ки Теберды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с древнейших времен являлась одной из основных исторических дорог, соединяющих степи с Черноморским побережьем Кавк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4e6d"/>
                </a:solidFill>
                <a:latin typeface="Calibri"/>
              </a:rPr>
              <a:t>Река Теберд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  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Река Теберд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очень быстрая, полноводная, извилистая и местами с многочисленными завалами в протоках. Сам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Теберд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впадает в Кубань - одну из главных рек всего Северного Кавка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    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енем реки назван город, который раскинулся на ее бере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Наз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убань (Къвбин, Кобан, Кубан, Губань и т. д.) — одно из около трёхсот названий этой реки. Существуют предположения, что название происходило из карачаево-балкарского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поднимающаяся, разливающаяся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из древнетюркского означающего «река» или «поток», от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половецког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уман. По некоторым данным название реки Кубань произошло от древнегреческого Гопанис (Гипанис): «конская река», в смысле «буйная, сильная река».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Адыгеско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название Псыж означает «древняя река», или «мать-р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Река Бел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Река Бел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2160" y="1130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5" descr="белая2.jpg"/>
          <p:cNvPicPr/>
          <p:nvPr/>
        </p:nvPicPr>
        <p:blipFill>
          <a:blip r:embed="rId3"/>
          <a:stretch/>
        </p:blipFill>
        <p:spPr>
          <a:xfrm>
            <a:off x="4724280" y="1828800"/>
            <a:ext cx="3508560" cy="2513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6" descr="белая3.jpg"/>
          <p:cNvPicPr/>
          <p:nvPr/>
        </p:nvPicPr>
        <p:blipFill>
          <a:blip r:embed="rId4"/>
          <a:stretch/>
        </p:blipFill>
        <p:spPr>
          <a:xfrm>
            <a:off x="2971800" y="4343400"/>
            <a:ext cx="37339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Река Бел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Древнее адыгейское название реки Белой – Шхагуаще, в переводе "богиня гор" или "хозяйка гор", второе ее название, по преданию, Бэла, а позже оно сменилось созвучным ему названием Белая. Река Белая берет начало у снеговых вершин Фишт-Оштеновского массива. Вырвавшись из каменных недр массива, Белая устремляется на юго-восток, в направлении к закованной в грозные ледники, вершине Чугуш (3238 м), со склонов которой навстречу спешит ее первый приток – река Бирюзовая (река Березовая). Обе сливаются под углом почти в 180°, далее Белая поворачивает влево под прямым углом, огибая восточную оконечность Черкесского хребта, принимая воды второго крупного притока – Чессу, зарождающегося па ледниках северного склона Чугуша. Далее Белая делает еще один поворот под прямым углом влево и течет в направлении прямо противоположном исходному, на северо-запа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Река Бел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оловодье на реке Белой бывает в теплое время года, но часто разливается в любое время года, за исключением зимы. Причины разливов: весной – таяние снегов, летом – таяние ледников Фишт-Оштеновского массива и ливни в горах, осенью – дожди. Зимняя межень характерна для реки Белой, при отрицательных температурах часть воды уходит на ледовые образования, но она имеет неустойчивый, непродолжительный характер, что обусловлено частыми оттепелями и дождями во время положительных температур в зимний перио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 среднем за год в бассейне реки Белой наблюдается 18 – 20 ливн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Calibri"/>
              </a:rPr>
              <a:t>Река Ла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Содержимое 3" descr="Laba.jpg"/>
          <p:cNvPicPr/>
          <p:nvPr/>
        </p:nvPicPr>
        <p:blipFill>
          <a:blip r:embed="rId1"/>
          <a:stretch/>
        </p:blipFill>
        <p:spPr>
          <a:xfrm>
            <a:off x="762120" y="1979640"/>
            <a:ext cx="3636720" cy="2897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бол лаба.jpg"/>
          <p:cNvPicPr/>
          <p:nvPr/>
        </p:nvPicPr>
        <p:blipFill>
          <a:blip r:embed="rId2"/>
          <a:stretch/>
        </p:blipFill>
        <p:spPr>
          <a:xfrm>
            <a:off x="5181480" y="1963800"/>
            <a:ext cx="3657600" cy="291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Calibri"/>
              </a:rPr>
              <a:t>Река Ла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Лаба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дыг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и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кабард.-черк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Лабэж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 —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рек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на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еверном Кавказ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, левый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рито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реки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убан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дна из наиболее значительных рек Западного Кавказа, левый приток Кубани. Адыгейцы зовут её «Лабэ». Наиболее популярны два мнения. Одно связывает название с ираноязычным древним термином «алб» («альб») — белый. Другое — с ираноязычным же топоэлементом «лаб» («лав»), что по-персидски значит — берег. Так, один из притоков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Малой Лаб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берет начало с горы Лоуба ,а в языке сванов — горно-грузинских соседей абазин — слово «лабна» означает источ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Calibri"/>
              </a:rPr>
              <a:t>Река Ла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бразуется слиянием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Большой Лаб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и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алой Лаб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, которые берут начало из ледников на северном склоне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лавного хреб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Большого Кавказа. Длина (вместе с Большой Лабой) — 347 км, от места слияния с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Малой Лабо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 — 214 км, площадь бассейна 12 500 км². В верхнем течении Лаба и её притоки — бурные горные реки, текущие в глубоких ущельях. В нижнем течении берега реки пологие, течение спокойное. Питание реки смешанное: снеговое, ледниковое и дождевое. Средний расход близ устья 95,7 м³/сек. Лаба замерзает в конце декабря, но не каждый год, вскрывается в конце февраля — начале марта. Главные притоки Лабы — Чамлык (правый)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Фар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(левый). Используется для орош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Calibri"/>
              </a:rPr>
              <a:t>Река Ла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о территории Карачаево-Черкессии, до слияния Большой и Малой Лабы, на её берегах расположены посёлки: Пхия, Дамхурц, Загедан, Рожкао, Азиатский; села Псемен, Курджиново, Ершов, Предгорное, Подскальное. Затем Большая Лаба течёт уже по территории Краснодарского края — первый населённый пункт — станица Ахметовская. У станицы Каладжинской реки Большая и Малая Лаба сливаются. По выходу из горно-лесной зоны Лаба течёт по равнинной территории Краснодарского края. После посёлка городского типа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остовско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по реке проходит граница края с Адыгеей. На правой (краснодарской) стороне расположены города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Лабин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и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Курганин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ряд станиц: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Зассов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Владимир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Родников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Темиргоев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Воздвижен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Тенгин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Новолабин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Некрасовск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. На адыгейской стороне расположены адыгейские аулы, русские сёла и посёлки: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Ходз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Натырбово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Кошехабл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Егеруха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, Соколов, Пшизо, Джамбичи, Саратовский, Хатука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Напротив места впадения Лабы в Кубань расположен город Усть-Лаб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ка Псекуп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3" descr="э.jpg"/>
          <p:cNvPicPr/>
          <p:nvPr/>
        </p:nvPicPr>
        <p:blipFill>
          <a:blip r:embed="rId1"/>
          <a:stretch/>
        </p:blipFill>
        <p:spPr>
          <a:xfrm>
            <a:off x="990720" y="2514600"/>
            <a:ext cx="3276360" cy="20750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псе.jpg"/>
          <p:cNvPicPr/>
          <p:nvPr/>
        </p:nvPicPr>
        <p:blipFill>
          <a:blip r:embed="rId2"/>
          <a:stretch/>
        </p:blipFill>
        <p:spPr>
          <a:xfrm>
            <a:off x="1143000" y="4521240"/>
            <a:ext cx="3048120" cy="23367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пс.jpg"/>
          <p:cNvPicPr/>
          <p:nvPr/>
        </p:nvPicPr>
        <p:blipFill>
          <a:blip r:embed="rId3"/>
          <a:stretch/>
        </p:blipFill>
        <p:spPr>
          <a:xfrm>
            <a:off x="5257800" y="1862280"/>
            <a:ext cx="3124080" cy="2149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i.jpg"/>
          <p:cNvPicPr/>
          <p:nvPr/>
        </p:nvPicPr>
        <p:blipFill>
          <a:blip r:embed="rId4"/>
          <a:stretch/>
        </p:blipFill>
        <p:spPr>
          <a:xfrm>
            <a:off x="5257800" y="4564080"/>
            <a:ext cx="3276720" cy="229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ка Псекуп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ка Псекупс — левый приток р. Кубань. Река расположена в северной части Туапсинского района. Вдоль р.Псекупс проходит железная дорога Туапсе — Горячий Ключ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ка Псекупс берёт начало на северном склоне г. Агой (высота 958 м) и, протекая через село Садовое, г. Горячий Ключ, впадает в Краснодарское водохранилище. Общая длина реки 146 км, в том числе в пределах Туапсинского района — 29 км. Площадь водосбора 360 квадратных километров. Среднегодовой расход воды в пределах Туапсинского района составляет 18 кубометров в секунду. Уровень реки сильно колеблется. Источник питания — атмосферные осадки и грунтовые воды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Река Пши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Содержимое 3" descr="пш2.jpg"/>
          <p:cNvPicPr/>
          <p:nvPr/>
        </p:nvPicPr>
        <p:blipFill>
          <a:blip r:embed="rId1"/>
          <a:stretch/>
        </p:blipFill>
        <p:spPr>
          <a:xfrm>
            <a:off x="457200" y="2209680"/>
            <a:ext cx="3571920" cy="26672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пшиш.jpg"/>
          <p:cNvPicPr/>
          <p:nvPr/>
        </p:nvPicPr>
        <p:blipFill>
          <a:blip r:embed="rId2"/>
          <a:stretch/>
        </p:blipFill>
        <p:spPr>
          <a:xfrm>
            <a:off x="4800600" y="2362320"/>
            <a:ext cx="3868560" cy="257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Карта реки Кубан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5" descr="КУБ.bmp"/>
          <p:cNvPicPr/>
          <p:nvPr/>
        </p:nvPicPr>
        <p:blipFill>
          <a:blip r:embed="rId1"/>
          <a:stretch/>
        </p:blipFill>
        <p:spPr>
          <a:xfrm>
            <a:off x="1600200" y="2666880"/>
            <a:ext cx="5600880" cy="381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Река Пши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а западном склоне горы Шесси берет свое начало река Пшиш – левый приток реки Кубани. Длина реки 258 км. Верхняя его часть расположена в области средневысотных складчатых хребтов, сложенных известковыми и глинистыми породами юрского возраста. Эти хребты сильно расчленены деятельностью вод и покрыты густыми дубово-буковыми лесами. Средняя часть бассейна находится в зоне низкогорий и предгорий Большого Кавказа, поросших дубовыми лесами, а нижняя – в зоне предгорий лесостепной равнины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Река Пши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аправляя свой бег на север, Пшиш пересекает полосу куэстовых гряд, затем выходит на просторы предгорий равнины и вливается в Кубань (в Краснодарское водохранилище) ниже станицы Старокорсунской. В Пшиш впадает ряд притоков. Самый значительный из них река Цице. Долина реки Пшиш в верхнем течении имеет вид узкого ущелья, вниз по течению она постепенно расширяется. Местами наблюдаются 2 – 3 речные террасы. Русло реки очень извилистое. Особенно многочисленные излучины описывает река на отрезке от станицы Тверской до устья. В верховьях течение реки быстрое. В русле верховьев и средней части реки наблюдается чередование мелких перекатов и довольно глубоких пле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-457200" y="2773440"/>
            <a:ext cx="10064880" cy="181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alibri"/>
              </a:rPr>
              <a:t>Географические сведен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ина 870 км, площадь бассейна 58 тыс. км². Протекает по территории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Карачаево-Черкес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тавропольского кра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Краснодарского кра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(662 км) и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Адыге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. При впадении в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Азовское мор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река образует крупную заболоченную, но высокопродуктивную 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убанскую дельт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площадью около 4300 км². Общий сток Кубани в Азовское море составляет около 11,0 км³ в го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ка Куба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http://dic.academic.ru/pictures/wiki/files/75/Krasnodar_Kuban.JPG"/>
          <p:cNvPicPr/>
          <p:nvPr/>
        </p:nvPicPr>
        <p:blipFill>
          <a:blip r:embed="rId1"/>
          <a:stretch/>
        </p:blipFill>
        <p:spPr>
          <a:xfrm>
            <a:off x="457200" y="2819520"/>
            <a:ext cx="3246480" cy="3170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э.jpg"/>
          <p:cNvPicPr/>
          <p:nvPr/>
        </p:nvPicPr>
        <p:blipFill>
          <a:blip r:embed="rId2"/>
          <a:stretch/>
        </p:blipFill>
        <p:spPr>
          <a:xfrm>
            <a:off x="4495680" y="2971800"/>
            <a:ext cx="4243680" cy="27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ка Куба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Кубан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берёт своё начало в районе горы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Эльбрус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. Если длину реки Кубань считать вместе с её притоком Уллукамом, то она увеличивается до 906 км, а её падение до 2970 м (от ледникового языка Уллукам). По высоте бассейн реки Кубань можно разделить на 4 основные зо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ека Куба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560" y="160020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Начиная от г.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Усть-Лабинск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река является судоходной. Кубань в 111 км от Азовского моря отделяет правобережный рукав, по которому почти половину своих вод сбрасывает в Азовское море недалеко от рабочего посёлка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Ачуево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. Кубань, не доходя до моря, отделяет влево ещё один рукав — Казачий Ерик, который вливается в Большой Ахтанизовский лиман, а из последнего через Пересыпское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ирло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 поступает в Азовское море. Сама Кубань (Петрушин рукав) впадает в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Темрюкский залив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 Азовского моря около города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Темрюк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 так называемым Вербенским гирлом. </a:t>
            </a:r>
            <a:r>
              <a:rPr b="0" lang="en-US" sz="2200" spc="-1" strike="noStrike" u="sng" baseline="30000">
                <a:solidFill>
                  <a:srgbClr val="e2d700"/>
                </a:solidFill>
                <a:uFillTx/>
                <a:latin typeface="Constantia"/>
                <a:hlinkClick r:id="rId6"/>
              </a:rPr>
              <a:t>[1]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В своих низовьях река образовала большую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дельт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. Таким образом, Кубань принадлежит бассейну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Атлантического океан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 и впадает в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Азовское море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Водные ресурсы, представленные полноводными левобережными притоками среднего течения реки Кубань такими, как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фипс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Псекупс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Белая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Лаб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шиш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 и их притоками и правобережными притоками такими, как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ар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, Джегута и Горькая образуют речную сеть протяжённостью 9482 км, всего же в Кубань впадает более 14000 больших и самых малых притоков. По данным 100-летнего ряда наблюдений средний годовой сток реки Кубань, формируемый за счёт дождевого и снегового питания (65 %), таяния высокогорных снегов и ледников (20 %) и грунтовых вод (15 %), составляет около 13,5 км³.</a:t>
            </a:r>
            <a:r>
              <a:rPr b="0" lang="en-US" sz="2200" spc="-1" strike="noStrike" u="sng" baseline="30000">
                <a:solidFill>
                  <a:srgbClr val="e2d700"/>
                </a:solidFill>
                <a:uFillTx/>
                <a:latin typeface="Constantia"/>
                <a:hlinkClick r:id="rId7"/>
              </a:rPr>
              <a:t>[2]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Сезонные колебания уровня воды в реке различны для различных участков Кубани, например, у Армавира они достигали 2,8 м, у Краснодара 5 м, у Переволокского узла 1,9 м. Ледовый покров Кубани неустойчив. За год Кубань выносит в Азовское море около 4 млн т растворённых сол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b050"/>
                </a:solidFill>
                <a:latin typeface="Calibri"/>
              </a:rPr>
              <a:t>Истор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есятки тысяч лет назад на месте современной дельты Кубани был громадный залив Азовского моря, который простирался от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аманского полуостров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до нынешнего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Приморско-Ахтарск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и вглубь вплоть до Краснодара. Постепенно, в результате деятельности реки и моря образовалась пересыпь, которая отделила море от залива и превратила его в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лагун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, которая со временем заполнилась речными наносами и превратилась в низменную дельту Кубани с многочисленными мелководными лиманами, соединяющими их протоками и обширными болотистыми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плавням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Грязевые вулкан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Таманского полуострова тоже сыграли некоторую роль в формировании южной части древней дельты Куба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25:12Z</dcterms:created>
  <dc:creator>--</dc:creator>
  <dc:description/>
  <dc:language>en-US</dc:language>
  <cp:lastModifiedBy>--</cp:lastModifiedBy>
  <dcterms:modified xsi:type="dcterms:W3CDTF">2011-03-29T10:22:15Z</dcterms:modified>
  <cp:revision>30</cp:revision>
  <dc:subject/>
  <dc:title>Презентация подготовлена учителем  МОУСОШ №6 Антоненко м. в.</dc:title>
</cp:coreProperties>
</file>