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F40-E199-444F-B6D9-3457BDE4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D6F-ED69-489B-9F57-944A5EB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6F1-A1BE-4198-BE20-E22F24DC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1A8-4B37-4929-8FFB-06A68361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0DCB-B6E8-4B63-A3B7-FA64796E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F698-DE27-466F-AA19-3533610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96B1-31E9-411B-8D5B-7CD5B5C1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DA23-80D2-4268-8DF1-DF32F91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7F3-C58C-45D4-B769-C65098D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57E-AB96-48C7-90E0-CB7C6F4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A0D-CC39-475D-B2E5-64F6AB3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A1A-F7E9-467D-BDE7-FA5CC367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8AEE-C8EC-4430-A35C-27B813C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B2F2-CA19-4CBF-B5A9-2D0E526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BF5-FA4F-4A66-AECE-68C32DA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D080-6B7A-4A40-A506-E8501BA6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092-7959-4C5D-A37E-42B2C9D2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89E-A189-478B-B649-6FA05A2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BF1-D02C-4004-99E8-BA7914C4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460-039A-4B49-8FBE-6F9A9B6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F8E-8D7D-4B35-9664-5BE572E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B58-526D-4088-920C-9E4B869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2CB-D05B-4A65-BEB8-7B03480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8C4-F7D1-4A53-B76A-15F4EA6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4D6-4F58-47AB-B82A-2C3487276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65C-C65A-43C8-9200-B8F72C11A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строение и цвет связан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ы проект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яна Ою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лча С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09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лирикой М.Ю.Лермонтова, найти стихотворения об одиночеств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ить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цвета использует автор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реобладающие крас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0560" y="836640"/>
            <a:ext cx="403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ару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omic Sans MS"/>
              </a:rPr>
              <a:t>Белее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парус одино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тумане моря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голубом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!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д ним струя светлей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лазури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д ним луч солнца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золотой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Лист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сох и увял он от холода, зноя и гор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вот, наконец, докатился до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Черн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моря.*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ими же пришельца меж листьев свои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Изумрудных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…***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 небу я ветви раскинула здесь на просторе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корни мои умывает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холодное море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На севере диком…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 севере  диком стоит одинок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  голой  вершине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сос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И дремлет, качаясь, </a:t>
            </a:r>
            <a:r>
              <a:rPr b="1" lang="ru-RU" sz="1000" spc="-1" strike="noStrike">
                <a:solidFill>
                  <a:srgbClr val="ff0000"/>
                </a:solidFill>
                <a:latin typeface="Comic Sans MS"/>
              </a:rPr>
              <a:t>и </a:t>
            </a: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снегом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сыпучи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та, как ризой, он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снится ей все, что в пустыне далекой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том крае, где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Comic Sans MS"/>
              </a:rPr>
              <a:t>солнца восход,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еобладающие цв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739800" y="1220760"/>
          <a:ext cx="750240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220760"/>
                    <a:ext cx="750240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ши 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: преобладающие цвета в лирике М.Ю. Лермонтова - белый, голубой, желтый, сер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цвета не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и говорят о возвышенности автора, о его стремлении к думам о жизни и душ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исок используемых источник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98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Максимов Д.Е.Поэз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.Ю. Лермонтова. -М.;Л. , 196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98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Лермонтовская энциклопедия-М.-198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7:40:44Z</dcterms:created>
  <dc:creator>Якимович Сергей Фёдорович</dc:creator>
  <dc:description/>
  <dc:language>en-US</dc:language>
  <cp:lastModifiedBy>1</cp:lastModifiedBy>
  <dcterms:modified xsi:type="dcterms:W3CDTF">2012-02-10T12:50:38Z</dcterms:modified>
  <cp:revision>8</cp:revision>
  <dc:subject/>
  <dc:title>«Мой дом везде, где есть небесный  свод»</dc:title>
</cp:coreProperties>
</file>