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807F-D09C-4534-ADF0-F580E8014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D209-67EF-4CE2-84B9-905E446B3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1A0-565C-4499-A14A-C7AA20D0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408-A87B-41AA-994F-2DF1D07A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7FD-CF26-46FE-B792-2636C0A4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355-631B-49FE-90E9-0BF8A9AB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FCA1-571B-4A75-84D9-E5CB0302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5F9A-5689-45FF-97D0-1A33B141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37D4-F5A3-4AE4-AF38-DF1392EE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13D3-3AD9-418D-A38A-E7CFEA3A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6F8-E3B4-41EB-9C3B-1C3303D8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97E8-1228-4167-AB92-C1C411B4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A41D-29E1-4E63-AA3E-F6F11D3F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6FC-774E-4AF7-84B4-EDFC9CC9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3A3F-C0EE-4A0E-AF56-AB1D3BC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7213-6357-4EB5-BF24-6D6B92B2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2EE3-F4C9-4CCD-899D-8EFBB24D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A78A-0CE5-42DB-BF76-C068A92F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7EE1-152E-403F-864F-11257E59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855-865A-42B9-B527-ADA4761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0B9-47F2-41E8-B93E-2008AC47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B00-1684-4ECF-95F4-20259D2B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7B8-CCE9-4456-89AD-17F1B267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B53-E110-4CD6-BDE8-6C2BADD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D4F-648B-490B-A9B6-624C89B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9F6-D14D-432F-9814-83C8F4A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prstGeom prst="pie">
            <a:avLst/>
          </a:pr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8734-3BF1-428B-A06F-9BF124C19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prstGeom prst="pie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prstGeom prst="pi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prstGeom prst="pie">
            <a:avLst/>
          </a:pr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FBF7-6E93-45B2-9AA7-AF81B1054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28680" y="5084640"/>
            <a:ext cx="478620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у выполнил: Ивушкин Анатол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Поткина Ольг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26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ЕС ШКОЛЬНОГО ПОРТФЕЛЯ И ЕГО ВЛИЯНИЕ НА ЗДОРОВЬЕ ШКОЛЬНИКА</a:t>
            </a:r>
            <a:br>
              <a:rPr sz="48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Picture 2" descr="C:\Users\Ольга\Pictures\250PX-~1.JPG"/>
          <p:cNvPicPr/>
          <p:nvPr/>
        </p:nvPicPr>
        <p:blipFill>
          <a:blip r:embed="rId1"/>
          <a:stretch/>
        </p:blipFill>
        <p:spPr>
          <a:xfrm>
            <a:off x="285840" y="392904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всё есть нормы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Гигиенические требования к изданиям учебников для общего и начального профессионального образования», в которых регламентирован вес учебного пособия для каждой возрастной группы. Он не должен превышать для учащих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–4-х классов – 300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–6-х классов – 400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–8-х классов – 500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–11-х классов – 60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books07.jpg"/>
          <p:cNvPicPr/>
          <p:nvPr/>
        </p:nvPicPr>
        <p:blipFill>
          <a:blip r:embed="rId1"/>
          <a:stretch/>
        </p:blipFill>
        <p:spPr>
          <a:xfrm>
            <a:off x="7000920" y="3500280"/>
            <a:ext cx="1670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ес ранца с учебным комплектом должен весить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2 классы 1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-4 классы 2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-6 классы 3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-8 классы 3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-11 классы 3,5-4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N:\Фотографии портфель - копия\IMG_2555.JPG"/>
          <p:cNvPicPr/>
          <p:nvPr/>
        </p:nvPicPr>
        <p:blipFill>
          <a:blip r:embed="rId1"/>
          <a:stretch/>
        </p:blipFill>
        <p:spPr>
          <a:xfrm>
            <a:off x="5857920" y="1928880"/>
            <a:ext cx="302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тоги эксперимент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6114960" cy="3508200"/>
        </p:xfrm>
        <a:graphic>
          <a:graphicData uri="http://schemas.openxmlformats.org/drawingml/2006/table">
            <a:tbl>
              <a:tblPr/>
              <a:tblGrid>
                <a:gridCol w="3057480"/>
                <a:gridCol w="30574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df58d"/>
                          </a:solidFill>
                          <a:latin typeface="Times New Roman"/>
                          <a:ea typeface="Times New Roman"/>
                        </a:rPr>
                        <a:t>Самый правильный ранец до 0,6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df58d"/>
                          </a:solidFill>
                          <a:latin typeface="Times New Roman"/>
                          <a:ea typeface="Times New Roman"/>
                        </a:rPr>
                        <a:t>3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легкий порт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кг – 2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порт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кг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портфель с принадлеж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 кг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легкий портфель с принадлеж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учеб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«тяжелый» учеб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«легкий» учеб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3" descr="C:\Documents and Settings\Loner\Мои документы\Мои рисунки\шк откр\25230352.jpg"/>
          <p:cNvPicPr/>
          <p:nvPr/>
        </p:nvPicPr>
        <p:blipFill>
          <a:blip r:embed="rId1"/>
          <a:stretch/>
        </p:blipFill>
        <p:spPr>
          <a:xfrm>
            <a:off x="6643800" y="3929040"/>
            <a:ext cx="2286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а что обращают внимание при покупке портфеля</a:t>
            </a:r>
            <a:br>
              <a:rPr sz="3600"/>
            </a:b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4038480" cy="2496960"/>
        </p:xfrm>
        <a:graphic>
          <a:graphicData uri="http://schemas.openxmlformats.org/drawingml/2006/table">
            <a:tbl>
              <a:tblPr/>
              <a:tblGrid>
                <a:gridCol w="617400"/>
                <a:gridCol w="1668600"/>
                <a:gridCol w="771480"/>
                <a:gridCol w="981000"/>
              </a:tblGrid>
              <a:tr h="371520">
                <a:tc row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row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ОРТФ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1872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grid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1872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b7b7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b7b7"/>
                    </a:solidFill>
                  </a:tcPr>
                </a:tc>
              </a:tr>
              <a:tr h="3715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6397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АРМ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16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2" descr="N:\Фотографии портфель\IMG_0183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IMG_0644.jpg"/>
          <p:cNvPicPr/>
          <p:nvPr/>
        </p:nvPicPr>
        <p:blipFill>
          <a:blip r:embed="rId2"/>
          <a:stretch/>
        </p:blipFill>
        <p:spPr>
          <a:xfrm>
            <a:off x="1000080" y="4286160"/>
            <a:ext cx="29052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ить второй набор учебников для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ть в школе места для хранения личных ве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ить один комплект учебников на па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ставлении школьного расписания необходимо учитывать вес учебных комплектов, так как в один день портфель может быть тяжелый, а в другой – лег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еника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осите лишнего в ран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йте ранец ежедневно и не забывай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тащить из него  ненужные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N:\Фотографии портфель - копия\IMG_0188.JPG"/>
          <p:cNvPicPr/>
          <p:nvPr/>
        </p:nvPicPr>
        <p:blipFill>
          <a:blip r:embed="rId1"/>
          <a:stretch/>
        </p:blipFill>
        <p:spPr>
          <a:xfrm>
            <a:off x="2000160" y="271476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род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им вас: не покупайте тяжелые ранцы! Врачи рекомендуют средний вес пустого ранца для ученика начальной школы – 30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 ваших детей от тяжелых нагрузок портится ос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аши дети быстрее устают, таская за своей спиной тяжелове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жалуйста, позаботьтесь о ваших детях и об их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endParaRPr b="1" lang="en-US" sz="9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1" name="Picture 6" descr="PE03166_"/>
          <p:cNvPicPr/>
          <p:nvPr/>
        </p:nvPicPr>
        <p:blipFill>
          <a:blip r:embed="rId1"/>
          <a:stretch/>
        </p:blipFill>
        <p:spPr>
          <a:xfrm>
            <a:off x="285840" y="4643280"/>
            <a:ext cx="20001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Цель работы: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возможность снижения веса портфеля школьника и разработать  рекомендации по  улучшению сложившейся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ить внимание учеников на необходимость  контроля веса портфеля с целью охраны собственн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Задачи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ить вес школьных портфелей, вес школьных учебников (на примере 2 класса «В» гимназии № 44 г. Новокузнецка), установить соответствие весов санитарным нормам для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причины нарушений санитарных н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 влияние тяжелых портф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здоровье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комиться с опытом зарубежных стран по решению указ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рекомендации по снижению веса портф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едмет исследован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ый портфель ученика 2 класса гимн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 исследован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ник гимназии № 44 г. Новокузнец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Гипотез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редполагаем, что тяжелый ранец вредит здо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8080" y="208080"/>
            <a:ext cx="828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ля того чтобы узнать, как влияет ношение тяжелого ранца на здоровье школьника,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ил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ирал информацию из книг, журналов, газ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ил эксперимен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ировал да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ес ранц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 ранца должен быть меньше 10% веса учени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.е. вес ученика (в килограммах) надо умножить на 10 и разделить  на 10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564000" y="3860640"/>
            <a:ext cx="19447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Ольга\Pictures\31b507392961.jpg"/>
          <p:cNvPicPr/>
          <p:nvPr/>
        </p:nvPicPr>
        <p:blipFill>
          <a:blip r:embed="rId1"/>
          <a:stretch/>
        </p:blipFill>
        <p:spPr>
          <a:xfrm>
            <a:off x="214200" y="3214800"/>
            <a:ext cx="2786040" cy="351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N:\Фотографии портфель - копия\IMG_2552.JPG"/>
          <p:cNvPicPr/>
          <p:nvPr/>
        </p:nvPicPr>
        <p:blipFill>
          <a:blip r:embed="rId2"/>
          <a:stretch/>
        </p:blipFill>
        <p:spPr>
          <a:xfrm>
            <a:off x="6215040" y="3071880"/>
            <a:ext cx="24051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Отчего портится осанка?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4572000" cy="4690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Loner\Мои документы\Мои рисунки\шк откр\25231255.jpg"/>
          <p:cNvPicPr/>
          <p:nvPr/>
        </p:nvPicPr>
        <p:blipFill>
          <a:blip r:embed="rId2"/>
          <a:stretch/>
        </p:blipFill>
        <p:spPr>
          <a:xfrm>
            <a:off x="5572080" y="2000160"/>
            <a:ext cx="3214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6429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Проанализировав личные карточки учеников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с медицинским работником школы, мы увидели,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что проблема с опорно-двигательной системой у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нас в классе стоит очень ост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00080" y="2214720"/>
          <a:ext cx="7000920" cy="3240000"/>
        </p:xfrm>
        <a:graphic>
          <a:graphicData uri="http://schemas.openxmlformats.org/drawingml/2006/table">
            <a:tbl>
              <a:tblPr/>
              <a:tblGrid>
                <a:gridCol w="2540160"/>
                <a:gridCol w="446076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БОЛЕВАНИЯ 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общему числу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0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I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фо-сколеоз 0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фо-сколеоз 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оса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стоп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539640" y="2260440"/>
            <a:ext cx="9921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9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039760" y="2260440"/>
            <a:ext cx="777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540240" y="2260440"/>
            <a:ext cx="7776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897440" y="2260440"/>
            <a:ext cx="8492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254640" y="2332080"/>
            <a:ext cx="1103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7858080" y="2332080"/>
            <a:ext cx="928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57120" y="5143680"/>
            <a:ext cx="1071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1 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1928880" y="5072040"/>
            <a:ext cx="1285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3643200" y="5000760"/>
            <a:ext cx="1500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1 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14960" y="4929120"/>
            <a:ext cx="15717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4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1" descr="BVCASK2D8ZCAHL26D1CAY3V7J4CAJOL5M9CALSQ64MCAIT5541CACMDIMCCAOCT86VCAXAI316CA7IYF49CATLNK72CAXVN301CANADLV0CAW7WXGSCANRW6P2CAQBL40VCA4G7TX3CAJNAI4ZCAJGNW9P.jpg"/>
          <p:cNvPicPr/>
          <p:nvPr/>
        </p:nvPicPr>
        <p:blipFill>
          <a:blip r:embed="rId1"/>
          <a:stretch/>
        </p:blipFill>
        <p:spPr>
          <a:xfrm>
            <a:off x="428760" y="3714840"/>
            <a:ext cx="1063440" cy="13636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2" descr="i.jpg"/>
          <p:cNvPicPr/>
          <p:nvPr/>
        </p:nvPicPr>
        <p:blipFill>
          <a:blip r:embed="rId2"/>
          <a:stretch/>
        </p:blipFill>
        <p:spPr>
          <a:xfrm>
            <a:off x="2000160" y="3500280"/>
            <a:ext cx="1090800" cy="14288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3" descr="p251925.jpg"/>
          <p:cNvPicPr/>
          <p:nvPr/>
        </p:nvPicPr>
        <p:blipFill>
          <a:blip r:embed="rId3"/>
          <a:stretch/>
        </p:blipFill>
        <p:spPr>
          <a:xfrm>
            <a:off x="6215040" y="642960"/>
            <a:ext cx="1138320" cy="1500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4" descr="46706b.jpg"/>
          <p:cNvPicPr/>
          <p:nvPr/>
        </p:nvPicPr>
        <p:blipFill>
          <a:blip r:embed="rId4"/>
          <a:stretch/>
        </p:blipFill>
        <p:spPr>
          <a:xfrm>
            <a:off x="357120" y="571680"/>
            <a:ext cx="1130400" cy="15001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5" descr="biboletova%202%20aktiv.jpg"/>
          <p:cNvPicPr/>
          <p:nvPr/>
        </p:nvPicPr>
        <p:blipFill>
          <a:blip r:embed="rId5"/>
          <a:stretch/>
        </p:blipFill>
        <p:spPr>
          <a:xfrm>
            <a:off x="3714840" y="3357720"/>
            <a:ext cx="1114200" cy="15714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6" descr="793.jpg"/>
          <p:cNvPicPr/>
          <p:nvPr/>
        </p:nvPicPr>
        <p:blipFill>
          <a:blip r:embed="rId6"/>
          <a:stretch/>
        </p:blipFill>
        <p:spPr>
          <a:xfrm>
            <a:off x="4786200" y="593640"/>
            <a:ext cx="1177920" cy="15494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7" descr="12022.jpg"/>
          <p:cNvPicPr/>
          <p:nvPr/>
        </p:nvPicPr>
        <p:blipFill>
          <a:blip r:embed="rId7"/>
          <a:stretch/>
        </p:blipFill>
        <p:spPr>
          <a:xfrm>
            <a:off x="3429000" y="571680"/>
            <a:ext cx="1138320" cy="15001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8" descr="578730.jpg"/>
          <p:cNvPicPr/>
          <p:nvPr/>
        </p:nvPicPr>
        <p:blipFill>
          <a:blip r:embed="rId8"/>
          <a:stretch/>
        </p:blipFill>
        <p:spPr>
          <a:xfrm>
            <a:off x="1785960" y="571680"/>
            <a:ext cx="1168200" cy="15588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9" descr="3027610.jpg"/>
          <p:cNvPicPr/>
          <p:nvPr/>
        </p:nvPicPr>
        <p:blipFill>
          <a:blip r:embed="rId9"/>
          <a:stretch/>
        </p:blipFill>
        <p:spPr>
          <a:xfrm>
            <a:off x="5572080" y="3286080"/>
            <a:ext cx="1066680" cy="14716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1" descr="p1128035.jpg"/>
          <p:cNvPicPr/>
          <p:nvPr/>
        </p:nvPicPr>
        <p:blipFill>
          <a:blip r:embed="rId10"/>
          <a:stretch/>
        </p:blipFill>
        <p:spPr>
          <a:xfrm>
            <a:off x="7786800" y="642960"/>
            <a:ext cx="1063440" cy="14112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32"/>
          <p:cNvSpPr/>
          <p:nvPr/>
        </p:nvSpPr>
        <p:spPr>
          <a:xfrm flipV="1" rot="10800000">
            <a:off x="7072200" y="4773240"/>
            <a:ext cx="15717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36 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ыше но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35" descr="1269225528_82002306_5--2--.jpg"/>
          <p:cNvPicPr/>
          <p:nvPr/>
        </p:nvPicPr>
        <p:blipFill>
          <a:blip r:embed="rId11"/>
          <a:stretch/>
        </p:blipFill>
        <p:spPr>
          <a:xfrm>
            <a:off x="7429680" y="3268800"/>
            <a:ext cx="110484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5:32:31Z</dcterms:created>
  <dc:creator>Admin</dc:creator>
  <dc:description/>
  <dc:language>en-US</dc:language>
  <cp:lastModifiedBy>Ольга</cp:lastModifiedBy>
  <dcterms:modified xsi:type="dcterms:W3CDTF">2011-02-03T14:34:41Z</dcterms:modified>
  <cp:revision>65</cp:revision>
  <dc:subject/>
  <dc:title>Сколько весит здоровье ученика?</dc:title>
</cp:coreProperties>
</file>