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559-BD6B-4B1A-AF85-52BA147F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025-6ABB-47BC-A166-A294335A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F5B-C45F-4657-B549-A857C8D5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C05-70E0-458C-9840-C953D7E6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E745-06A7-4B63-902D-5C817313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D5EB-BC1C-409E-A47F-7BE08E1F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5CBA-6C83-4B14-9049-34E52523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4A76-1D0D-427D-B43D-484FD4F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787C-E227-4573-BB40-2404A0FC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794C-A64E-4C00-BE8F-A777D99C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6A6-88C1-4C89-9ED6-5DC979E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85C-23F4-42FA-9FA4-F4F3F9AC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3682-2E38-4D63-993F-1CE09C4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0899-2083-4A0F-AB49-4DA77EC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FC89-1498-4D8B-8047-477367D3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AF03-CFDF-4A04-8528-624A9427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A4C7-BE1B-4713-AB2A-3379FD25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C27-9EAB-40E1-8E57-5C0C596E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B41-CE9C-41CA-9186-E2EB265D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34B-AA27-4E19-860D-07E918B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923-7E4A-4426-BB47-D377312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5CC-FE0C-49D7-AC57-768938A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C73-B75D-4E5C-8D56-17F63C16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ED9-9EA4-4164-89F0-3B67DDD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307-ADE1-42B8-A5F3-2E26399F6CF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78C-D270-4575-AFE9-68EC6B88AF4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c3aa"/>
                </a:solidFill>
                <a:latin typeface="Arial"/>
              </a:rPr>
              <a:t>Солнечная Энергия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Передача экологически чистой энерг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СВЧ-ЛУЧ"/>
          <p:cNvPicPr/>
          <p:nvPr/>
        </p:nvPicPr>
        <p:blipFill>
          <a:blip r:embed="rId1"/>
          <a:stretch/>
        </p:blipFill>
        <p:spPr>
          <a:xfrm>
            <a:off x="0" y="2060640"/>
            <a:ext cx="493236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Солнечная энерг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ступ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лнечное излуч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ксперименты с солнечной энерги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актическое использование солнц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пользование 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удущ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едлож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878440" cy="573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Солнечное излучени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Солнечная машина - Австралия"/>
          <p:cNvPicPr/>
          <p:nvPr/>
        </p:nvPicPr>
        <p:blipFill>
          <a:blip r:embed="rId1"/>
          <a:stretch/>
        </p:blipFill>
        <p:spPr>
          <a:xfrm>
            <a:off x="395280" y="0"/>
            <a:ext cx="84963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Практическое использование энерг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«Солнечный» мусор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Нью-Йорке солнечную энергию используют даже мусорщики. Здесь в двух районах уже три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одержимое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Солнечная энергия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Гонки на солнечных автомобильчиках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Ассоциация TransOption, объединяющая государ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Солнечные гонки"/>
          <p:cNvPicPr/>
          <p:nvPr/>
        </p:nvPicPr>
        <p:blipFill>
          <a:blip r:embed="rId1"/>
          <a:stretch/>
        </p:blipFill>
        <p:spPr>
          <a:xfrm>
            <a:off x="4427640" y="1773360"/>
            <a:ext cx="471636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олнечный городо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" descr="Солнечный дом - США"/>
          <p:cNvPicPr/>
          <p:nvPr/>
        </p:nvPicPr>
        <p:blipFill>
          <a:blip r:embed="rId1"/>
          <a:stretch/>
        </p:blipFill>
        <p:spPr>
          <a:xfrm>
            <a:off x="4859280" y="1628640"/>
            <a:ext cx="4094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4c3aa"/>
                </a:solidFill>
                <a:uFillTx/>
                <a:latin typeface="Arial"/>
              </a:rPr>
              <a:t>Наши предложения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9:21:09Z</dcterms:created>
  <dc:creator>Владислав</dc:creator>
  <dc:description/>
  <dc:language>en-US</dc:language>
  <cp:lastModifiedBy>Владислав</cp:lastModifiedBy>
  <dcterms:modified xsi:type="dcterms:W3CDTF">2007-02-08T19:44:13Z</dcterms:modified>
  <cp:revision>2</cp:revision>
  <dc:subject/>
  <dc:title>Солнечная Энергия</dc:title>
</cp:coreProperties>
</file>