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6A4-00BE-4060-B930-C29278D0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C92-D163-4DF5-AAD7-61BC194C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4CB-0FEC-4D9D-A353-0A4FA7B9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4AB-F71E-4851-8ECA-80404B0F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32D5-B357-478D-BE5A-4C117972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813A-2F57-415C-9494-3DAD6AE2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87C8-14C0-47A6-A120-9CA19FE8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60A2-AAA9-43E9-822E-5AD46633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F843-B33A-48E8-870F-B59474CF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8251-A02D-4E17-B350-DCD77D6B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0532-C554-4DA6-A1BA-AFA13D06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302-2423-4B01-9C10-2CE06893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FF87-2A1B-415F-9408-2FF2DC4E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24C9-0266-41CA-B768-1C077A54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065A-B4BF-4AC0-B79C-000004D7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A850-5B08-4D70-8EAD-14B6FA55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43C6-1C26-418A-B38B-518BF39B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C1EF-6179-4AB8-A19D-AB176C64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86F-216C-4A74-BE20-4F8E15BD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E0B-DB48-4E98-9E17-7F3E9692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DE8-0179-4DFF-B06D-0F0CE33E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668-9FC8-4673-A29D-11152263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DAB-5994-4627-B0A1-87AD1B6D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0A0-B93D-4492-A6FE-925D196A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618A-3A0B-4C88-9586-7F9B377383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3337-CB02-493F-B7AC-4EC3A8455A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66"/>
                </a:solidFill>
                <a:latin typeface="Arial"/>
              </a:rPr>
              <a:t>Тест «Какие бывают растения?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 Black"/>
              </a:rPr>
              <a:t>Сколько стволов может быть у дерев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) один ствол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б) два ствола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) много ствол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66"/>
                </a:solidFill>
                <a:latin typeface="Arial Black"/>
              </a:rPr>
              <a:t>Какое растение не относится к кустарникам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)  сирень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б) калина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) тысячелистник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66"/>
                </a:solidFill>
                <a:latin typeface="Arial Black"/>
              </a:rPr>
              <a:t>Каким растениям в лесу необходимо меньше всего света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а) деревьям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б) кустарникам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в) трава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Что составляет верхний этаж (ярус) лес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) кустарники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б) деревья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) трав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66"/>
                </a:solidFill>
                <a:latin typeface="Arial Black"/>
              </a:rPr>
              <a:t>Найди группу, в которой перечислены только деревья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) сосна, орешник, дуб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б) берёза, осина, ель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) сирень, рябина, клеве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Найди правильное высказывани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) Надо сажать растения и ухаживать за ним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б) Надо собирать букеты полевых цвет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)  Надо сжигать в лесу сухие раст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26920" y="260280"/>
            <a:ext cx="76327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Жизнь в зелёном мире эт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Хороша зимой и лето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Жизнь летает мотыльком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Шустрым бегает зверько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В облаках кружится птицей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Скачет по ветвям куниц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Жизнь прекрасна, жизнь вокруг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Человек природе друг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2:53:57Z</dcterms:created>
  <dc:creator>Customer</dc:creator>
  <dc:description/>
  <dc:language>en-US</dc:language>
  <cp:lastModifiedBy>Customer</cp:lastModifiedBy>
  <dcterms:modified xsi:type="dcterms:W3CDTF">2009-12-09T21:55:19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