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17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2.jpeg" ContentType="image/jpeg"/>
  <Override PartName="/ppt/media/image18.jpeg" ContentType="image/jpeg"/>
  <Override PartName="/ppt/media/image14.wmf" ContentType="image/x-wmf"/>
  <Override PartName="/ppt/media/image1.jpeg" ContentType="image/jpeg"/>
  <Override PartName="/ppt/media/image6.wmf" ContentType="image/x-wmf"/>
  <Override PartName="/ppt/media/image19.jpeg" ContentType="image/jpeg"/>
  <Override PartName="/ppt/media/image15.png" ContentType="image/png"/>
  <Override PartName="/ppt/media/image3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BA92-7FAF-41E9-A2DB-890AECD10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258D-62E4-4A55-90EA-940384B8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2303-F72E-4596-B3B6-C749D6C11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227F-636A-4F72-AC27-7CFFC48CD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BBD8AC-6E16-4028-9C18-D935A084C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7B8AA7-0DA0-496A-8FB3-FA627829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8542EB-FC25-47CE-B1FB-D8D66E7B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0184F-00C1-4A53-9BC5-8709BF0A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F3ADBD-A232-443E-B77B-57AC34A9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6C6E6-07DD-4048-B6BA-DCCE0206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7DE430-DC86-4428-BB09-C60BB32E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B3D9-8900-449A-A22B-6042EECD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8EDFE6-F0C6-4A6E-859A-DE5D5EA3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7BB643-2167-480A-B598-26804879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75D7AF-E0C2-4AA4-AE3E-7E556009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A7F563-87E4-4859-A3F0-8055EF15C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9F79F1-558A-490A-92C1-0DBA56EF0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9251-00A7-4951-976C-B1190F44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E6D1-38F8-4A27-86F6-761EB3AC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FAB9-71A2-4009-BF85-16E6CCC9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3962-21FE-45ED-8058-57C411C8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3C2F-C6EA-4800-ADE0-3B412A1C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D70F-5177-4E11-BF10-D10D3F57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066D-2293-4A38-9FC7-C3C9141D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1270-345B-47A0-AEC9-8225D55186F9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81B7-4B89-4B33-BD4B-3B0D9D98831B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55640" y="3068640"/>
            <a:ext cx="6229080" cy="18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ff"/>
                </a:solidFill>
                <a:latin typeface="Arial"/>
              </a:rPr>
              <a:t>Торт «Дамские пальчики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11" descr="4"/>
          <p:cNvPicPr/>
          <p:nvPr/>
        </p:nvPicPr>
        <p:blipFill>
          <a:blip r:embed="rId2"/>
          <a:stretch/>
        </p:blipFill>
        <p:spPr>
          <a:xfrm>
            <a:off x="900000" y="1268280"/>
            <a:ext cx="126684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ff"/>
                </a:solidFill>
                <a:latin typeface="Arial"/>
              </a:rPr>
              <a:t>Рецепт тор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05ff6"/>
                </a:solidFill>
                <a:uFillTx/>
                <a:latin typeface="Arial"/>
              </a:rPr>
              <a:t>Нам понадобиться</a:t>
            </a: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Продукты: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1,5 стакана воды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150 г. сливочного масла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1,5 стакана муки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6 яиц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Крем: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2 стакана холодной сметаны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1 стакан сахарного песка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Технологическая последовательность выполнения рабо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Поставить на огонь 1,5 стакана воды, добавить 150 г. сливочного масла. Когда закипит, всыпать, помешивая 1,5стакана муки. Тесто остудить, затем взбить поочередно 6 яиц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Заварное тесто выдавить на противень, смазанный маслом, продолговатыми колбасками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Испеченные пальчики обмакнуть в крем и сложить на блюде. Сверху посыпать тертым шоколадом. Для крема взбить 2 стакана холодной сметаны с сахарным песком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ff"/>
                </a:solidFill>
                <a:latin typeface="Arial"/>
              </a:rPr>
              <a:t>Себестоимо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95280" y="1557360"/>
          <a:ext cx="8229600" cy="3457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Наименование продукта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1368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Цена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1368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Необходимое количество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1368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Цена за необходимое кол-во товара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1368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Сливочное масло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30р./250г.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150г.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6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20р.      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Мука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6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25</a:t>
                      </a: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р./кг.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150-200г.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6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15р.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Яйца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6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30р./10шт.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        </a:t>
                      </a:r>
                      <a:r>
                        <a:rPr b="0" lang="ru-RU" sz="16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6шт.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18р. 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Сметана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35р./250г.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16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250г.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6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35р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Сахар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1368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6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35р./кг.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1368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        </a:t>
                      </a:r>
                      <a:r>
                        <a:rPr b="0" lang="ru-RU" sz="16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100-150г.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1368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6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10р.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13680">
                      <a:solidFill>
                        <a:srgbClr val="205ff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Rectangle 82"/>
          <p:cNvSpPr/>
          <p:nvPr/>
        </p:nvSpPr>
        <p:spPr>
          <a:xfrm>
            <a:off x="23040" y="5248440"/>
            <a:ext cx="928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205ff6"/>
                </a:solidFill>
                <a:uFillTx/>
                <a:latin typeface="Arial"/>
              </a:rPr>
              <a:t>Итог:</a:t>
            </a:r>
            <a:r>
              <a:rPr b="0" lang="ru-RU" sz="1400" spc="-1" strike="noStrike">
                <a:solidFill>
                  <a:srgbClr val="205ff6"/>
                </a:solidFill>
                <a:latin typeface="Arial"/>
              </a:rPr>
              <a:t> В итоге все ингредиенты вышли у нас на 98 рублей.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5ff6"/>
                </a:solidFill>
                <a:latin typeface="Arial"/>
              </a:rPr>
              <a:t>Вывод: Стоимость данного торта в магазине составляет 180 рублей, а мы приготовили в два раза дешевле. 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5ff6"/>
                </a:solidFill>
                <a:latin typeface="Arial"/>
              </a:rPr>
              <a:t>Значит торт приготовленный своими руками выгоднее, чем купленный в магазине.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ff"/>
                </a:solidFill>
                <a:latin typeface="Arial"/>
              </a:rPr>
              <a:t>Эколого-экономическая ча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Торт вышел экологически чистым, все продукты изготовлены из экологически чистых материалов: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1.Мука – высший сорт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2.Яйца – отборные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3.Сметана – высокой жирности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Поэтому продукт не приносит никакого вреда ни жизни человека, ни окружающей среде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ff"/>
                </a:solidFill>
                <a:latin typeface="Arial"/>
              </a:rPr>
              <a:t>Кое-что из истории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Торт празднику голова! Так, перефразировав известное выражение, можно вкратце охарактеризовать наше отношение к торту. Ведь, если задуматься, то и вправду, какое торжество или юбилей обходится без этого кулинарного шедевра? Какой ребенок может представить свой день рождения без задувания свечей на торте?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Сегодня нельзя с уверенностью сказать, где и кто изобрел торт. Некоторые историки в области кулинарии склоняются к выводу, что первый прототип торта зародился в Италии. Лингвисты считают, что само слово торт в переводе с итальянского означает нечто витиеватое и замысловатое, и связывают его с многочисленными украшениями торта из россыпи различных цветов, надписей и орнаментов.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46" name="Picture 5" descr="то"/>
          <p:cNvPicPr/>
          <p:nvPr/>
        </p:nvPicPr>
        <p:blipFill>
          <a:blip r:embed="rId1"/>
          <a:stretch/>
        </p:blipFill>
        <p:spPr>
          <a:xfrm>
            <a:off x="7380360" y="4797360"/>
            <a:ext cx="1305000" cy="15908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1"/>
          <p:cNvPicPr/>
          <p:nvPr/>
        </p:nvPicPr>
        <p:blipFill>
          <a:blip r:embed="rId2"/>
          <a:stretch/>
        </p:blipFill>
        <p:spPr>
          <a:xfrm>
            <a:off x="971640" y="494172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2"/>
          <p:cNvPicPr/>
          <p:nvPr/>
        </p:nvPicPr>
        <p:blipFill>
          <a:blip r:embed="rId3"/>
          <a:stretch/>
        </p:blipFill>
        <p:spPr>
          <a:xfrm>
            <a:off x="4140360" y="494172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768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4" dur="768" fill="hold"/>
                                        <p:tgtEl>
                                          <p:spTgt spid="1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6" dur="768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8" dur="768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ff"/>
                </a:solidFill>
                <a:latin typeface="Arial"/>
              </a:rPr>
              <a:t>Рекла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Торт вышел очень вкусным и крайне не сложен в приготовлении. Рецепт хорош тем, что оставляет свободу для фантазии хозяйки и можно каждый раз придумывать новый вариант, не боясь, что что-то не получится. Тесто можно использовать как для торта, так и для закусок, если в готовые пирожные положить тертый с чесноком сыр или грибную икру, вариантов масса. Сладкий торт можно или сверху помазать кремом или выдавить кондитерским шприцем.</a:t>
            </a: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. </a:t>
            </a:r>
            <a:r>
              <a:rPr b="1" lang="ru-RU" sz="1600" spc="-1" strike="noStrike">
                <a:solidFill>
                  <a:srgbClr val="4920f6"/>
                </a:solidFill>
                <a:latin typeface="Arial"/>
              </a:rPr>
              <a:t>Приготовить торт «Дамские пальчики» очень просто, а главное – быстро. Приятного аппетита, не забывайте добавить рецепт этого торта в свой блокнотик, пополняйте его хорошими рецептами вкусных блюд.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51" name="Picture 4" descr="21"/>
          <p:cNvPicPr/>
          <p:nvPr/>
        </p:nvPicPr>
        <p:blipFill>
          <a:blip r:embed="rId1"/>
          <a:stretch/>
        </p:blipFill>
        <p:spPr>
          <a:xfrm>
            <a:off x="6443640" y="4365720"/>
            <a:ext cx="2617920" cy="1962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11"/>
          <p:cNvPicPr/>
          <p:nvPr/>
        </p:nvPicPr>
        <p:blipFill>
          <a:blip r:embed="rId2"/>
          <a:stretch/>
        </p:blipFill>
        <p:spPr>
          <a:xfrm>
            <a:off x="250920" y="440064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13"/>
          <p:cNvPicPr/>
          <p:nvPr/>
        </p:nvPicPr>
        <p:blipFill>
          <a:blip r:embed="rId3"/>
          <a:stretch/>
        </p:blipFill>
        <p:spPr>
          <a:xfrm>
            <a:off x="250920" y="0"/>
            <a:ext cx="1728720" cy="1297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14"/>
          <p:cNvPicPr/>
          <p:nvPr/>
        </p:nvPicPr>
        <p:blipFill>
          <a:blip r:embed="rId4"/>
          <a:stretch/>
        </p:blipFill>
        <p:spPr>
          <a:xfrm>
            <a:off x="3419640" y="4581360"/>
            <a:ext cx="2303280" cy="1729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8920" y="1628280"/>
            <a:ext cx="8642520" cy="468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ff"/>
                </a:solidFill>
                <a:latin typeface="Arial"/>
              </a:rPr>
              <a:t>Работу выполняли: </a:t>
            </a:r>
            <a:br>
              <a:rPr sz="4000"/>
            </a:br>
            <a:r>
              <a:rPr b="1" lang="ru-RU" sz="4000" spc="-1" strike="noStrike">
                <a:solidFill>
                  <a:srgbClr val="00ccff"/>
                </a:solidFill>
                <a:latin typeface="Arial"/>
              </a:rPr>
              <a:t>Родыгина Марина</a:t>
            </a:r>
            <a:br>
              <a:rPr sz="4000"/>
            </a:br>
            <a:r>
              <a:rPr b="1" lang="ru-RU" sz="4000" spc="-1" strike="noStrike">
                <a:solidFill>
                  <a:srgbClr val="00ccff"/>
                </a:solidFill>
                <a:latin typeface="Arial"/>
              </a:rPr>
              <a:t>Торочкова Татьяна 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ff"/>
                </a:solidFill>
                <a:latin typeface="Arial"/>
              </a:rPr>
              <a:t>Постановка целей проек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Разработать и изготовить кулинарный продукт и проект к концу учебного года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ff"/>
                </a:solidFill>
                <a:latin typeface="Arial"/>
              </a:rPr>
              <a:t>Потребно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Мы решили приготовить торт сами. Торт приготовить своими руками выгоднее, чем купить в магазин. Торт будет индивидуальный, не такой как в магазине, и со своим неповторимым вкусом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Вывод: Чтобы удовлетворить свою потребность, мы решили попробовать свои силы, знания и умения полученные на уроке технологии, для изготовления торта.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826920" y="2708280"/>
          <a:ext cx="6624720" cy="2160720"/>
        </p:xfrm>
        <a:graphic>
          <a:graphicData uri="http://schemas.openxmlformats.org/drawingml/2006/table">
            <a:tbl>
              <a:tblPr/>
              <a:tblGrid>
                <a:gridCol w="3313440"/>
                <a:gridCol w="331128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Магазин </a:t>
                      </a:r>
                      <a:endParaRPr b="0" lang="en-US" sz="2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1368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Сделать самим</a:t>
                      </a:r>
                      <a:endParaRPr b="0" lang="en-US" sz="2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1368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14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+ Минимальные затраты времени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- Все торты похожи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- Слишком большой выбор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- Возможность взять  не тот торт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1368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+ Индивидуальность вкуса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+ Оригинальность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+ Творческая работа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- Затраты времени и усилий 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13680">
                      <a:solidFill>
                        <a:srgbClr val="205ff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heel spokes="8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ff"/>
                </a:solidFill>
                <a:latin typeface="Arial"/>
              </a:rPr>
              <a:t>Краткая формулировка зада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Найти рецепт торта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Создать оригинальный торт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Изготовить торт по доступной цене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Доказать, что изготовить торт гораздо дешевле чем купить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Составить и написать проект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Сдать проект в определённый срок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ff"/>
                </a:solidFill>
                <a:latin typeface="Arial"/>
              </a:rPr>
              <a:t>Социологический опро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05ff6"/>
                </a:solidFill>
                <a:latin typeface="Arial"/>
              </a:rPr>
              <a:t>Какие  кулинарные изделия вы предпочитаете из предложенного списка?</a:t>
            </a: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205ff6"/>
                </a:solidFill>
                <a:latin typeface="Arial"/>
              </a:rPr>
              <a:t>а) печенье</a:t>
            </a: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05ff6"/>
                </a:solidFill>
                <a:latin typeface="Arial"/>
              </a:rPr>
              <a:t>б) торт</a:t>
            </a: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05ff6"/>
                </a:solidFill>
                <a:latin typeface="Arial"/>
              </a:rPr>
              <a:t>в) кекс</a:t>
            </a: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05ff6"/>
                </a:solidFill>
                <a:latin typeface="Arial"/>
              </a:rPr>
              <a:t>г) пирог</a:t>
            </a: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205ff6"/>
                </a:solidFill>
                <a:latin typeface="Arial"/>
              </a:rPr>
              <a:t>Из какого теста должно быть сделано угощение?</a:t>
            </a: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05ff6"/>
                </a:solidFill>
                <a:latin typeface="Arial"/>
              </a:rPr>
              <a:t>а) бисквитное</a:t>
            </a: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05ff6"/>
                </a:solidFill>
                <a:latin typeface="Arial"/>
              </a:rPr>
              <a:t>б) песочное</a:t>
            </a: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05ff6"/>
                </a:solidFill>
                <a:latin typeface="Arial"/>
              </a:rPr>
              <a:t>в) заварное</a:t>
            </a: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05ff6"/>
                </a:solidFill>
                <a:latin typeface="Arial"/>
              </a:rPr>
              <a:t>г) слоёное</a:t>
            </a: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05ff6"/>
                </a:solidFill>
                <a:latin typeface="Arial"/>
              </a:rPr>
              <a:t>           </a:t>
            </a:r>
            <a:r>
              <a:rPr b="0" lang="ru-RU" sz="800" spc="-1" strike="noStrike">
                <a:solidFill>
                  <a:srgbClr val="205ff6"/>
                </a:solidFill>
                <a:latin typeface="Arial"/>
              </a:rPr>
              <a:t>Должна ли быть начинка?</a:t>
            </a: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05ff6"/>
                </a:solidFill>
                <a:latin typeface="Arial"/>
              </a:rPr>
              <a:t>а) Да</a:t>
            </a: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05ff6"/>
                </a:solidFill>
                <a:latin typeface="Arial"/>
              </a:rPr>
              <a:t>б) Нет</a:t>
            </a: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05ff6"/>
                </a:solidFill>
                <a:latin typeface="Arial"/>
              </a:rPr>
              <a:t>в)  Без разницы</a:t>
            </a: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aphicFrame>
        <p:nvGraphicFramePr>
          <p:cNvPr id="95" name="Object 4"/>
          <p:cNvGraphicFramePr/>
          <p:nvPr/>
        </p:nvGraphicFramePr>
        <p:xfrm>
          <a:off x="539640" y="2133720"/>
          <a:ext cx="259236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133720"/>
                    <a:ext cx="259236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aphicFrame>
        <p:nvGraphicFramePr>
          <p:cNvPr id="98" name="Object 6"/>
          <p:cNvGraphicFramePr/>
          <p:nvPr/>
        </p:nvGraphicFramePr>
        <p:xfrm>
          <a:off x="611280" y="3429000"/>
          <a:ext cx="2736720" cy="118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3429000"/>
                    <a:ext cx="273672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aphicFrame>
        <p:nvGraphicFramePr>
          <p:cNvPr id="101" name="Object 8"/>
          <p:cNvGraphicFramePr/>
          <p:nvPr/>
        </p:nvGraphicFramePr>
        <p:xfrm>
          <a:off x="611280" y="4941720"/>
          <a:ext cx="2628720" cy="121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4941720"/>
                    <a:ext cx="2628720" cy="12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ff"/>
                </a:solidFill>
                <a:latin typeface="Arial"/>
              </a:rPr>
              <a:t>Социологический опро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80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ru-RU" sz="900" spc="-1" strike="noStrike">
                <a:solidFill>
                  <a:srgbClr val="205ff6"/>
                </a:solidFill>
                <a:latin typeface="Arial"/>
              </a:rPr>
              <a:t>Должно ли быть украшение на торте?</a:t>
            </a:r>
            <a:endParaRPr b="0" lang="en-US" sz="900" spc="-1" strike="noStrike">
              <a:solidFill>
                <a:srgbClr val="205ff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205ff6"/>
                </a:solidFill>
                <a:latin typeface="Arial"/>
              </a:rPr>
              <a:t>а) Да</a:t>
            </a:r>
            <a:endParaRPr b="0" lang="en-US" sz="900" spc="-1" strike="noStrike">
              <a:solidFill>
                <a:srgbClr val="205ff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205ff6"/>
                </a:solidFill>
                <a:latin typeface="Arial"/>
              </a:rPr>
              <a:t>б) Нет</a:t>
            </a:r>
            <a:endParaRPr b="0" lang="en-US" sz="900" spc="-1" strike="noStrike">
              <a:solidFill>
                <a:srgbClr val="205ff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205ff6"/>
                </a:solidFill>
                <a:latin typeface="Arial"/>
              </a:rPr>
              <a:t>в) Без разницы</a:t>
            </a:r>
            <a:endParaRPr b="0" lang="en-US" sz="900" spc="-1" strike="noStrike">
              <a:solidFill>
                <a:srgbClr val="205ff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205ff6"/>
                </a:solidFill>
                <a:latin typeface="Arial"/>
              </a:rPr>
              <a:t>Чем изделие должно быть украшено?</a:t>
            </a:r>
            <a:endParaRPr b="0" lang="en-US" sz="900" spc="-1" strike="noStrike">
              <a:solidFill>
                <a:srgbClr val="205ff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205ff6"/>
                </a:solidFill>
                <a:latin typeface="Arial"/>
              </a:rPr>
              <a:t>а) Взбитыми сливками</a:t>
            </a:r>
            <a:endParaRPr b="0" lang="en-US" sz="900" spc="-1" strike="noStrike">
              <a:solidFill>
                <a:srgbClr val="205ff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205ff6"/>
                </a:solidFill>
                <a:latin typeface="Arial"/>
              </a:rPr>
              <a:t>б) кремом</a:t>
            </a:r>
            <a:endParaRPr b="0" lang="en-US" sz="900" spc="-1" strike="noStrike">
              <a:solidFill>
                <a:srgbClr val="205ff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205ff6"/>
                </a:solidFill>
                <a:latin typeface="Arial"/>
              </a:rPr>
              <a:t>в) сгущенным молоком</a:t>
            </a:r>
            <a:endParaRPr b="0" lang="en-US" sz="900" spc="-1" strike="noStrike">
              <a:solidFill>
                <a:srgbClr val="205ff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205ff6"/>
                </a:solidFill>
                <a:latin typeface="Arial"/>
              </a:rPr>
              <a:t>г) шоколадной глазурью</a:t>
            </a:r>
            <a:endParaRPr b="0" lang="en-US" sz="900" spc="-1" strike="noStrike">
              <a:solidFill>
                <a:srgbClr val="205ff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205ff6"/>
                </a:solidFill>
                <a:latin typeface="Arial"/>
              </a:rPr>
              <a:t>Вы предпочитаете покупать торт в магазине или готовите сами?</a:t>
            </a:r>
            <a:endParaRPr b="0" lang="en-US" sz="900" spc="-1" strike="noStrike">
              <a:solidFill>
                <a:srgbClr val="205ff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205ff6"/>
                </a:solidFill>
                <a:latin typeface="Arial"/>
              </a:rPr>
              <a:t>а) Готовим сами</a:t>
            </a:r>
            <a:endParaRPr b="0" lang="en-US" sz="900" spc="-1" strike="noStrike">
              <a:solidFill>
                <a:srgbClr val="205ff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205ff6"/>
                </a:solidFill>
                <a:latin typeface="Arial"/>
              </a:rPr>
              <a:t>б) Покупаем в магазине</a:t>
            </a:r>
            <a:endParaRPr b="0" lang="en-US" sz="900" spc="-1" strike="noStrike">
              <a:solidFill>
                <a:srgbClr val="205ff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05ff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05ff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8" name="Rectangle 26"/>
          <p:cNvSpPr/>
          <p:nvPr/>
        </p:nvSpPr>
        <p:spPr>
          <a:xfrm>
            <a:off x="506520" y="-12312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9" name="Rectangle 29"/>
          <p:cNvSpPr/>
          <p:nvPr/>
        </p:nvSpPr>
        <p:spPr>
          <a:xfrm>
            <a:off x="213120" y="7981200"/>
            <a:ext cx="871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  <a:ea typeface="Times New Roman"/>
              </a:rPr>
              <a:t>Вывод: Большинство опрошенных предпочитают готовить торт, а не покупать в магазине.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0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aphicFrame>
        <p:nvGraphicFramePr>
          <p:cNvPr id="111" name="Object 31"/>
          <p:cNvGraphicFramePr/>
          <p:nvPr/>
        </p:nvGraphicFramePr>
        <p:xfrm>
          <a:off x="395280" y="2276640"/>
          <a:ext cx="3024360" cy="10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276640"/>
                    <a:ext cx="302436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aphicFrame>
        <p:nvGraphicFramePr>
          <p:cNvPr id="114" name="Object 33"/>
          <p:cNvGraphicFramePr/>
          <p:nvPr/>
        </p:nvGraphicFramePr>
        <p:xfrm>
          <a:off x="324000" y="4005360"/>
          <a:ext cx="3240000" cy="74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3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4005360"/>
                    <a:ext cx="324000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aphicFrame>
        <p:nvGraphicFramePr>
          <p:cNvPr id="117" name="Object 35"/>
          <p:cNvGraphicFramePr/>
          <p:nvPr/>
        </p:nvGraphicFramePr>
        <p:xfrm>
          <a:off x="468360" y="5373720"/>
          <a:ext cx="2879640" cy="115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Object 3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5373720"/>
                    <a:ext cx="287964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ff"/>
                </a:solidFill>
                <a:latin typeface="Arial"/>
              </a:rPr>
              <a:t>Социологический опро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05ff6"/>
                </a:solidFill>
                <a:latin typeface="Arial"/>
              </a:rPr>
              <a:t>7.С чем вы предпочитаете употреблять торт?</a:t>
            </a: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05ff6"/>
                </a:solidFill>
                <a:latin typeface="Arial"/>
              </a:rPr>
              <a:t>а) чай</a:t>
            </a: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05ff6"/>
                </a:solidFill>
                <a:latin typeface="Arial"/>
              </a:rPr>
              <a:t>б) сок</a:t>
            </a: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05ff6"/>
                </a:solidFill>
                <a:latin typeface="Arial"/>
              </a:rPr>
              <a:t>в) молоко</a:t>
            </a: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05ff6"/>
                </a:solidFill>
                <a:latin typeface="Arial"/>
              </a:rPr>
              <a:t>Что может быть добавлено в тесто изделия?</a:t>
            </a: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05ff6"/>
                </a:solidFill>
                <a:latin typeface="Arial"/>
              </a:rPr>
              <a:t>а) орехи</a:t>
            </a: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05ff6"/>
                </a:solidFill>
                <a:latin typeface="Arial"/>
              </a:rPr>
              <a:t>б) изюм</a:t>
            </a: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05ff6"/>
                </a:solidFill>
                <a:latin typeface="Arial"/>
              </a:rPr>
              <a:t>в) мак</a:t>
            </a: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05ff6"/>
                </a:solidFill>
                <a:latin typeface="Arial"/>
              </a:rPr>
              <a:t>г) ничего</a:t>
            </a: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05ff6"/>
                </a:solidFill>
                <a:latin typeface="Arial"/>
              </a:rPr>
              <a:t>По каким поводам вы употребляете торт?</a:t>
            </a: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05ff6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205ff6"/>
                </a:solidFill>
                <a:latin typeface="Arial"/>
              </a:rPr>
              <a:t>а) по праздникам</a:t>
            </a: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05ff6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205ff6"/>
                </a:solidFill>
                <a:latin typeface="Arial"/>
              </a:rPr>
              <a:t>б) по выходным</a:t>
            </a: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05ff6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205ff6"/>
                </a:solidFill>
                <a:latin typeface="Arial"/>
              </a:rPr>
              <a:t>с) просто так</a:t>
            </a: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05ff6"/>
                </a:solidFill>
                <a:latin typeface="Arial"/>
              </a:rPr>
              <a:t>10.Зависит ли для вас цена изделия от вашего выбора?</a:t>
            </a: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05ff6"/>
                </a:solidFill>
                <a:latin typeface="Arial"/>
              </a:rPr>
              <a:t>а) Да</a:t>
            </a: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05ff6"/>
                </a:solidFill>
                <a:latin typeface="Arial"/>
              </a:rPr>
              <a:t>б) Нет</a:t>
            </a: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aphicFrame>
        <p:nvGraphicFramePr>
          <p:cNvPr id="122" name="Object 4"/>
          <p:cNvGraphicFramePr/>
          <p:nvPr/>
        </p:nvGraphicFramePr>
        <p:xfrm>
          <a:off x="539640" y="1989000"/>
          <a:ext cx="2449800" cy="77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89000"/>
                    <a:ext cx="2449800" cy="7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aphicFrame>
        <p:nvGraphicFramePr>
          <p:cNvPr id="125" name="Object 6"/>
          <p:cNvGraphicFramePr/>
          <p:nvPr/>
        </p:nvGraphicFramePr>
        <p:xfrm>
          <a:off x="684360" y="3284640"/>
          <a:ext cx="2735280" cy="79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3284640"/>
                    <a:ext cx="2735280" cy="79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aphicFrame>
        <p:nvGraphicFramePr>
          <p:cNvPr id="128" name="Object 8"/>
          <p:cNvGraphicFramePr/>
          <p:nvPr/>
        </p:nvGraphicFramePr>
        <p:xfrm>
          <a:off x="539640" y="4508640"/>
          <a:ext cx="2592360" cy="86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4508640"/>
                    <a:ext cx="25923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aphicFrame>
        <p:nvGraphicFramePr>
          <p:cNvPr id="131" name="Object 10"/>
          <p:cNvGraphicFramePr/>
          <p:nvPr/>
        </p:nvGraphicFramePr>
        <p:xfrm>
          <a:off x="755640" y="5589720"/>
          <a:ext cx="2087640" cy="86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2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5640" y="5589720"/>
                    <a:ext cx="20876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ff"/>
                </a:solidFill>
                <a:latin typeface="Arial"/>
              </a:rPr>
              <a:t>Анализ социологического опрос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Вывод: В социологическом  опросе приняли участие 17 человек. Мы выяснили, что большинство опрошенных из кулинарных изделий предпочитают торт. Также, мы узнали  любимые начинки и добавки в торте  опрошенных.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14:16:05Z</dcterms:created>
  <dc:creator>user</dc:creator>
  <dc:description/>
  <cp:keywords>"PowerLexis" - Презентационное агентство</cp:keywords>
  <dc:language>en-US</dc:language>
  <cp:lastModifiedBy>Елена Ивановна</cp:lastModifiedBy>
  <dcterms:modified xsi:type="dcterms:W3CDTF">2012-02-10T09:34:34Z</dcterms:modified>
  <cp:revision>9</cp:revision>
  <dc:subject/>
  <dc:title>Торт «Дамские пальчики»</dc:title>
</cp:coreProperties>
</file>