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CD43C-AB23-46AE-96A1-AAB92EBE9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81CA5-1CDF-4CC2-A75C-25969DF82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FB49A-4016-45C2-AF02-15D254AEC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C8F8D-2E1F-44D3-8660-891314085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4D3E8-7390-4374-B6B0-5F149FEE6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5C98F-797E-480F-890A-FF30BF2BC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E2EA3-5EBD-4756-8EEE-48C2C5465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70296-A9AD-4694-8535-B2B9973CB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48258-2325-48A9-BE7F-4090B912E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205FF-0E46-42DA-B614-E6ECFEC41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57286-B245-4E49-991F-A48AD5954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A9719-927A-413F-AFC7-D3FF36527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2FD53-B506-42A9-9108-DDA772D23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C3E04-64D9-439B-9047-55990124B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F9C53-7AE8-41F9-B8D4-140FBCFA0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7C903-1F47-4167-983F-53D034181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5BB11-79AB-4C6D-8240-4EB283344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BF7D5-D7FD-4D37-98A4-3F0672FCA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D019F-A39B-4C8C-A5AE-3DF74E9A4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803E7-1373-45DD-9BAB-A36317835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46E9A-BEBB-441A-9735-7107E8FF7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E35CD-D0BF-4EE7-B1AC-3621FEF96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CA28B-9811-49D2-8699-3CCFD9C4F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30C15-89B9-46D8-A7D7-EC80E7E33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A9120-68CF-4AD3-A850-36E8B3BC8AB2}" type="slidenum">
              <a:rPr b="0" lang="en-US" sz="10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2308A-B44D-4FBB-BBFC-DFD6CFB808E9}" type="slidenum">
              <a:rPr b="0" lang="en-US" sz="10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31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Monotype Corsiva"/>
              </a:rPr>
              <a:t>УЧЕНИЧЕСКИЙ СОВЕТ</a:t>
            </a:r>
            <a:br>
              <a:rPr sz="5400"/>
            </a:br>
            <a:r>
              <a:rPr b="1" lang="en-US" sz="5400" spc="-1" strike="noStrike">
                <a:solidFill>
                  <a:srgbClr val="ffff00"/>
                </a:solidFill>
                <a:latin typeface="Monotype Corsiva"/>
              </a:rPr>
              <a:t>ГОУ СОШ №647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041480" y="2841120"/>
            <a:ext cx="692136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ctr">
              <a:lnSpc>
                <a:spcPct val="100000"/>
              </a:lnSpc>
              <a:spcBef>
                <a:spcPts val="15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99cc"/>
                </a:solidFill>
                <a:latin typeface="Monotype Corsiva"/>
              </a:rPr>
              <a:t>Школа – наш дом!</a:t>
            </a:r>
            <a:endParaRPr b="0" lang="en-US" sz="6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5219640" y="4002120"/>
            <a:ext cx="3737160" cy="28018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66"/>
                </a:solidFill>
                <a:latin typeface="Monotype Corsiva"/>
              </a:rPr>
              <a:t>Министерство СМИ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2276280"/>
            <a:ext cx="7861320" cy="38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00"/>
                </a:solidFill>
                <a:latin typeface="Arial"/>
              </a:rPr>
              <a:t>Осуществлять контроль за своевременным выпуском школьной газеты.</a:t>
            </a:r>
            <a:endParaRPr b="0" lang="en-US" sz="25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00"/>
                </a:solidFill>
                <a:latin typeface="Arial"/>
              </a:rPr>
              <a:t>Осуществление фото и видео съемки  общешкольных мероприятий</a:t>
            </a:r>
            <a:endParaRPr b="0" lang="en-US" sz="25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00"/>
                </a:solidFill>
                <a:latin typeface="Arial"/>
              </a:rPr>
              <a:t>Контроль за содержанием и периодичностью смены информации на школьных стендах.</a:t>
            </a:r>
            <a:endParaRPr b="0" lang="en-US" sz="25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00"/>
                </a:solidFill>
                <a:latin typeface="Arial"/>
              </a:rPr>
              <a:t>Своевременная подача информации о жизни школы на школьный сайт.</a:t>
            </a:r>
            <a:endParaRPr b="0" lang="en-US" sz="25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00"/>
                </a:solidFill>
                <a:latin typeface="Arial"/>
              </a:rPr>
              <a:t>Ведение радио-газеты</a:t>
            </a:r>
            <a:endParaRPr b="0" lang="en-US" sz="25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1243080" y="1525680"/>
            <a:ext cx="177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ЗАДАЧИ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66"/>
                </a:solidFill>
                <a:latin typeface="Monotype Corsiva"/>
              </a:rPr>
              <a:t>Министерство спорта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5760" y="2205000"/>
            <a:ext cx="8076960" cy="38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Помощь в организации и проведении спортивных мероприятий, массовых праздников и соревнований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Организация участия в районном ежегодном турслёте «Будущее Соколинки»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Привлечение учащихся начальных классов к занятиям спортом</a:t>
            </a: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70000" y="1308240"/>
            <a:ext cx="179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ЗАДАЧИ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66"/>
                </a:solidFill>
                <a:latin typeface="Monotype Corsiva"/>
              </a:rPr>
              <a:t>Министерство труда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5760" y="2492280"/>
            <a:ext cx="778824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00"/>
                </a:solidFill>
                <a:latin typeface="Arial"/>
              </a:rPr>
              <a:t>Контроль за своевременной уборкой и чистотой школьных кабинетов.</a:t>
            </a:r>
            <a:endParaRPr b="0" lang="en-US" sz="29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00"/>
                </a:solidFill>
                <a:latin typeface="Arial"/>
              </a:rPr>
              <a:t>Организация и помощь при снабжении учащихся школьными учебниками.</a:t>
            </a:r>
            <a:endParaRPr b="0" lang="en-US" sz="29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00"/>
                </a:solidFill>
                <a:latin typeface="Arial"/>
              </a:rPr>
              <a:t>Разработка мероприятий по уборке и озеленении территории.</a:t>
            </a:r>
            <a:endParaRPr b="0" lang="en-US" sz="29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00"/>
                </a:solidFill>
                <a:latin typeface="Arial"/>
              </a:rPr>
              <a:t>Осуществление контроля питьевого режима.</a:t>
            </a:r>
            <a:endParaRPr b="0" lang="en-US" sz="29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335240" y="1557360"/>
            <a:ext cx="177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ЗАДАЧИ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66"/>
                </a:solidFill>
                <a:latin typeface="Monotype Corsiva"/>
              </a:rPr>
              <a:t>Президент школы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5400" y="2276280"/>
            <a:ext cx="8219880" cy="38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Планировать работу Совета;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Организовывать своевременное информирование членов Совета о предстоящих мероприятиях Совета;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Периодически отчитываться перед Советом о своей работе;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Взаимодействовать с директором школы, его заместителями, с органами самоуправления школы, педагогами и родительской общественностью по вопросам жизнедеятельности ученического коллектива школы.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Принимать ответственные решения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315800" y="1382760"/>
            <a:ext cx="310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ОБЯЗАННОСТИ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68000" y="4759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Monotype Corsiva"/>
              </a:rPr>
              <a:t>Законы Руководящего Совета ученического самоуправления 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Monotype Corsiva"/>
              </a:rPr>
              <a:t>ГОУ СОШ №647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684360" y="2349360"/>
            <a:ext cx="3527280" cy="144000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ЗАКОН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ОТВЕТСТВЕННОСТИ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50920" y="4437000"/>
            <a:ext cx="3384360" cy="13669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ЗАКОН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ТОЧНОСТИ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5580000" y="4508640"/>
            <a:ext cx="3384720" cy="136656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ЗАКОН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ДИСЦИПЛИНЫ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003640" y="2349360"/>
            <a:ext cx="3457800" cy="13669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ЗАКОН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ВНИМАТЕЛЬНОСТИ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Monotype Corsiva"/>
              </a:rPr>
              <a:t>Закон ответственности: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Arial"/>
              </a:rPr>
              <a:t>«Есть дело до всего!»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Arial"/>
              </a:rPr>
              <a:t>«Самим принимать ответственное решение и организовывать дело»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Arial"/>
              </a:rPr>
              <a:t>«Каждое дело доводить до конца»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Arial"/>
              </a:rPr>
              <a:t>«Уметь отчитаться о проделанной работе»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Monotype Corsiva"/>
              </a:rPr>
              <a:t>Закон внимательности: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Arial"/>
              </a:rPr>
              <a:t>«Внимательность к людям, к их мнениям и пожеланиям, ко всему, что делается в школе»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Arial"/>
              </a:rPr>
              <a:t>«Внимательно читать объявления о собраниях Совета»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wedg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Monotype Corsiva"/>
              </a:rPr>
              <a:t>Закон точности: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Arial"/>
              </a:rPr>
              <a:t>« Мы точны во времени и в делах, держим свое слово»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Monotype Corsiva"/>
              </a:rPr>
              <a:t>Закон дисциплины: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Arial"/>
              </a:rPr>
              <a:t>«Безусловное выполнение Устава школы, всех законов, правил и решений»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Arial"/>
              </a:rPr>
              <a:t>«Поступать только в соответствии с Положением о Руководящем Совете ученического самоуправления школы»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wedg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66"/>
                </a:solidFill>
                <a:latin typeface="Monotype Corsiva"/>
              </a:rPr>
              <a:t>НАШЕ КРЕДО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Школьное самоуправление –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Это самоутверждение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Умение принять нестандартное решение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Горячего сердца веление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Мир переделать, работу так наладить,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Чтобы суметь с коллективом сладить;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Не командовать,  не кричать,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А умело управлять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Не злиться, а высказывать свои мысли смело,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И вместе всем делать одно общее дело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Monotype Corsiva"/>
              </a:rPr>
              <a:t>УЧЕНИЧЕСКИЙ СОВЕТ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Monotype Corsiva"/>
              </a:rPr>
              <a:t>ГОУ СОШ №647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68000" y="1988640"/>
            <a:ext cx="822636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ПРИНЦИПЫ РАБОТЫ УЧЕНИЧЕСКОГО СОВЕТА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Открытость и доступность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Добровольность и творчество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Равенство и сотрудничество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Непрерывность и перспективность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98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98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898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898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898" fill="hold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898" fill="hold"/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/>
          </p:nvPr>
        </p:nvSpPr>
        <p:spPr>
          <a:xfrm>
            <a:off x="455760" y="476280"/>
            <a:ext cx="8292960" cy="56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Научиться сопереживать, друга плечом поддержать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Потому что мы в своей работе за принципы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Думать коллективно, работать оперативно,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Спорить доказательно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ОБЯЗАТЕЛЬНО!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66"/>
                </a:solidFill>
                <a:latin typeface="Monotype Corsiva"/>
              </a:rPr>
              <a:t>Структура ученического совета ГОУ СОШ №647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sp>
        <p:nvSpPr>
          <p:cNvPr id="218" name=""/>
          <p:cNvSpPr/>
          <p:nvPr/>
        </p:nvSpPr>
        <p:spPr>
          <a:xfrm>
            <a:off x="6156360" y="2421000"/>
            <a:ext cx="2809800" cy="1079280"/>
          </a:xfrm>
          <a:prstGeom prst="ellipse">
            <a:avLst/>
          </a:prstGeom>
          <a:solidFill>
            <a:srgbClr val="00cc66"/>
          </a:solidFill>
          <a:ln w="76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Times New Roman"/>
              </a:rPr>
              <a:t>ПРЕМЬЕР-МИНИСТР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79280" y="2421000"/>
            <a:ext cx="2810160" cy="1079280"/>
          </a:xfrm>
          <a:prstGeom prst="ellipse">
            <a:avLst/>
          </a:prstGeom>
          <a:solidFill>
            <a:srgbClr val="00cc66"/>
          </a:solidFill>
          <a:ln w="76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ПРЕЗИДЕНТ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556000" y="1484280"/>
            <a:ext cx="4176720" cy="1295280"/>
          </a:xfrm>
          <a:prstGeom prst="ellipse">
            <a:avLst/>
          </a:prstGeom>
          <a:solidFill>
            <a:srgbClr val="00cc66"/>
          </a:solidFill>
          <a:ln w="76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ШКОЛЬНАЯ ДУМА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050920" y="3573360"/>
            <a:ext cx="2305080" cy="865440"/>
          </a:xfrm>
          <a:prstGeom prst="rect">
            <a:avLst/>
          </a:prstGeom>
          <a:solidFill>
            <a:srgbClr val="00cc66"/>
          </a:solidFill>
          <a:ln w="76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2843280" y="2565360"/>
            <a:ext cx="216000" cy="144360"/>
          </a:xfrm>
          <a:prstGeom prst="line">
            <a:avLst/>
          </a:prstGeom>
          <a:ln w="381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084720" y="2637000"/>
            <a:ext cx="142920" cy="144360"/>
          </a:xfrm>
          <a:prstGeom prst="line">
            <a:avLst/>
          </a:prstGeom>
          <a:ln w="381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987640" y="2997360"/>
            <a:ext cx="3168720" cy="0"/>
          </a:xfrm>
          <a:prstGeom prst="line">
            <a:avLst/>
          </a:prstGeom>
          <a:ln w="38160">
            <a:solidFill>
              <a:srgbClr val="eaeaea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859280" y="3573360"/>
            <a:ext cx="2305080" cy="865440"/>
          </a:xfrm>
          <a:prstGeom prst="rect">
            <a:avLst/>
          </a:prstGeom>
          <a:solidFill>
            <a:srgbClr val="00cc66"/>
          </a:solidFill>
          <a:ln w="76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Times New Roman"/>
              </a:rPr>
              <a:t>ВЕРХНЯЯ ПАЛАТА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052000" y="379584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Times New Roman"/>
              </a:rPr>
              <a:t>НИЖНЯЯ ПАЛАТА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219640" y="2781360"/>
            <a:ext cx="289080" cy="792000"/>
          </a:xfrm>
          <a:prstGeom prst="line">
            <a:avLst/>
          </a:prstGeom>
          <a:ln w="381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flipH="1">
            <a:off x="3634920" y="2781360"/>
            <a:ext cx="360360" cy="792000"/>
          </a:xfrm>
          <a:prstGeom prst="line">
            <a:avLst/>
          </a:prstGeom>
          <a:ln w="381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68360" y="4797360"/>
            <a:ext cx="2771640" cy="792360"/>
          </a:xfrm>
          <a:prstGeom prst="rect">
            <a:avLst/>
          </a:prstGeom>
          <a:solidFill>
            <a:srgbClr val="00cc66"/>
          </a:solidFill>
          <a:ln w="76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Министерство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Гражданской позиции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0" y="5805360"/>
            <a:ext cx="2124000" cy="792360"/>
          </a:xfrm>
          <a:prstGeom prst="rect">
            <a:avLst/>
          </a:prstGeom>
          <a:solidFill>
            <a:srgbClr val="00cc66"/>
          </a:solidFill>
          <a:ln w="76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Министерство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правопорядка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340000" y="5805360"/>
            <a:ext cx="2124000" cy="792360"/>
          </a:xfrm>
          <a:prstGeom prst="rect">
            <a:avLst/>
          </a:prstGeom>
          <a:solidFill>
            <a:srgbClr val="00cc66"/>
          </a:solidFill>
          <a:ln w="76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Министерство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спорта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716360" y="5805360"/>
            <a:ext cx="2124000" cy="792360"/>
          </a:xfrm>
          <a:prstGeom prst="rect">
            <a:avLst/>
          </a:prstGeom>
          <a:solidFill>
            <a:srgbClr val="00cc66"/>
          </a:solidFill>
          <a:ln w="76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Министерство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труда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708360" y="4797360"/>
            <a:ext cx="2124000" cy="792360"/>
          </a:xfrm>
          <a:prstGeom prst="rect">
            <a:avLst/>
          </a:prstGeom>
          <a:solidFill>
            <a:srgbClr val="00cc66"/>
          </a:solidFill>
          <a:ln w="76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Министерство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образования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7020000" y="5805360"/>
            <a:ext cx="2124000" cy="792360"/>
          </a:xfrm>
          <a:prstGeom prst="rect">
            <a:avLst/>
          </a:prstGeom>
          <a:solidFill>
            <a:srgbClr val="00cc66"/>
          </a:solidFill>
          <a:ln w="76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Министерство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СМИ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372360" y="4797360"/>
            <a:ext cx="2124000" cy="792360"/>
          </a:xfrm>
          <a:prstGeom prst="rect">
            <a:avLst/>
          </a:prstGeom>
          <a:solidFill>
            <a:srgbClr val="00cc66"/>
          </a:solidFill>
          <a:ln w="76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Министерство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культуры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2987280" y="4437000"/>
            <a:ext cx="1871640" cy="287280"/>
          </a:xfrm>
          <a:prstGeom prst="line">
            <a:avLst/>
          </a:prstGeom>
          <a:ln w="381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5435280" y="4437000"/>
            <a:ext cx="360360" cy="287280"/>
          </a:xfrm>
          <a:prstGeom prst="line">
            <a:avLst/>
          </a:prstGeom>
          <a:ln w="381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300720" y="4437000"/>
            <a:ext cx="432000" cy="287280"/>
          </a:xfrm>
          <a:prstGeom prst="line">
            <a:avLst/>
          </a:prstGeom>
          <a:ln w="381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012000" y="4437000"/>
            <a:ext cx="144360" cy="1297080"/>
          </a:xfrm>
          <a:prstGeom prst="line">
            <a:avLst/>
          </a:prstGeom>
          <a:ln w="381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877080" y="4437000"/>
            <a:ext cx="431640" cy="36036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8101080" y="5589720"/>
            <a:ext cx="142920" cy="144360"/>
          </a:xfrm>
          <a:prstGeom prst="line">
            <a:avLst/>
          </a:prstGeom>
          <a:ln w="381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>
            <a:off x="3924360" y="4437000"/>
            <a:ext cx="1079280" cy="36036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3276360" y="4869000"/>
            <a:ext cx="431640" cy="21564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H="1">
            <a:off x="1979640" y="5589720"/>
            <a:ext cx="504720" cy="144360"/>
          </a:xfrm>
          <a:prstGeom prst="line">
            <a:avLst/>
          </a:prstGeom>
          <a:ln w="381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flipH="1">
            <a:off x="4716360" y="4437000"/>
            <a:ext cx="503280" cy="36036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3779640" y="5589720"/>
            <a:ext cx="215640" cy="144360"/>
          </a:xfrm>
          <a:prstGeom prst="line">
            <a:avLst/>
          </a:prstGeom>
          <a:ln w="381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94920" y="272520"/>
            <a:ext cx="8286840" cy="14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Monotype Corsiva"/>
              </a:rPr>
              <a:t>НИЖНЯЯ ПАЛАТА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>
            <a:off x="1547280" y="1268280"/>
            <a:ext cx="1295640" cy="1297080"/>
          </a:xfrm>
          <a:prstGeom prst="line">
            <a:avLst/>
          </a:prstGeom>
          <a:ln w="5724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43280" y="1268280"/>
            <a:ext cx="0" cy="1513080"/>
          </a:xfrm>
          <a:prstGeom prst="line">
            <a:avLst/>
          </a:prstGeom>
          <a:ln w="5724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6227640" y="1268280"/>
            <a:ext cx="1152720" cy="1297080"/>
          </a:xfrm>
          <a:prstGeom prst="line">
            <a:avLst/>
          </a:prstGeom>
          <a:ln w="5724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68360" y="2565360"/>
            <a:ext cx="2232000" cy="792360"/>
          </a:xfrm>
          <a:prstGeom prst="rect">
            <a:avLst/>
          </a:prstGeom>
          <a:solidFill>
            <a:srgbClr val="00cc66"/>
          </a:solidFill>
          <a:ln w="76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ДЕЛЕГАТЫ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5-ых КЛАССОВ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492360" y="2781360"/>
            <a:ext cx="2232000" cy="792000"/>
          </a:xfrm>
          <a:prstGeom prst="rect">
            <a:avLst/>
          </a:prstGeom>
          <a:solidFill>
            <a:srgbClr val="00cc66"/>
          </a:solidFill>
          <a:ln w="76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ДЕЛЕГАТЫ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6-ых КЛАССОВ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372360" y="2565360"/>
            <a:ext cx="2232000" cy="792360"/>
          </a:xfrm>
          <a:prstGeom prst="rect">
            <a:avLst/>
          </a:prstGeom>
          <a:solidFill>
            <a:srgbClr val="00cc66"/>
          </a:solidFill>
          <a:ln w="76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ДЕЛЕГАТЫ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7-ых КЛАССОВ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042920" y="4581360"/>
            <a:ext cx="698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311120" y="4960800"/>
            <a:ext cx="6861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743120" y="46735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Monotype Corsiva"/>
              </a:rPr>
              <a:t>ВЕРХНЯЯ ПАЛАТА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5400" y="3357360"/>
            <a:ext cx="7645320" cy="31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Министр образования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Министр правопорядка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Министр гражданской позиции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Министр культуры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Министр труда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Министр спорта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Министр СМИ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4572000" y="1125360"/>
            <a:ext cx="0" cy="935280"/>
          </a:xfrm>
          <a:prstGeom prst="line">
            <a:avLst/>
          </a:prstGeom>
          <a:ln w="5724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700360" y="2060640"/>
            <a:ext cx="3959280" cy="863640"/>
          </a:xfrm>
          <a:prstGeom prst="rect">
            <a:avLst/>
          </a:prstGeom>
          <a:solidFill>
            <a:srgbClr val="00cc66"/>
          </a:solidFill>
          <a:ln w="76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ДЕЛЕГАТЫ 8-11 КЛАССОВ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66"/>
                </a:solidFill>
                <a:latin typeface="Monotype Corsiva"/>
              </a:rPr>
              <a:t>Министерство образования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822636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26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00"/>
                </a:solidFill>
                <a:latin typeface="Arial"/>
              </a:rPr>
              <a:t>Помощь учащимся в преодолении затруднений в учебе.</a:t>
            </a:r>
            <a:endParaRPr b="0" lang="en-US" sz="2900" spc="-1" strike="noStrike">
              <a:solidFill>
                <a:srgbClr val="eaeaea"/>
              </a:solidFill>
              <a:latin typeface="Arial"/>
            </a:endParaRPr>
          </a:p>
          <a:p>
            <a:pPr marL="312120" indent="-312120">
              <a:spcBef>
                <a:spcPts val="726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00"/>
                </a:solidFill>
                <a:latin typeface="Arial"/>
              </a:rPr>
              <a:t>Помощь в устранении пропусков и прогулов уроков.</a:t>
            </a:r>
            <a:endParaRPr b="0" lang="en-US" sz="2900" spc="-1" strike="noStrike">
              <a:solidFill>
                <a:srgbClr val="eaeaea"/>
              </a:solidFill>
              <a:latin typeface="Arial"/>
            </a:endParaRPr>
          </a:p>
          <a:p>
            <a:pPr marL="312120" indent="-312120">
              <a:spcBef>
                <a:spcPts val="726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00"/>
                </a:solidFill>
                <a:latin typeface="Arial"/>
              </a:rPr>
              <a:t>Помощь в подготовке к интеллектуальным марафонам, конкурсам, олимпиадам.</a:t>
            </a:r>
            <a:endParaRPr b="0" lang="en-US" sz="2900" spc="-1" strike="noStrike">
              <a:solidFill>
                <a:srgbClr val="eaeaea"/>
              </a:solidFill>
              <a:latin typeface="Arial"/>
            </a:endParaRPr>
          </a:p>
          <a:p>
            <a:pPr marL="312120" indent="-312120">
              <a:spcBef>
                <a:spcPts val="726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00"/>
                </a:solidFill>
                <a:latin typeface="Arial"/>
              </a:rPr>
              <a:t>Помощь в организации и проведении уроков в День Самоуправления.</a:t>
            </a:r>
            <a:endParaRPr b="0" lang="en-US" sz="2900" spc="-1" strike="noStrike">
              <a:solidFill>
                <a:srgbClr val="eaeaea"/>
              </a:solidFill>
              <a:latin typeface="Arial"/>
            </a:endParaRPr>
          </a:p>
          <a:p>
            <a:pPr marL="312120" indent="-312120">
              <a:spcBef>
                <a:spcPts val="726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00"/>
                </a:solidFill>
                <a:latin typeface="Arial"/>
              </a:rPr>
              <a:t>Помощь в подготовке и проведении предметных недель.</a:t>
            </a:r>
            <a:endParaRPr b="0" lang="en-US" sz="29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314360" y="1454040"/>
            <a:ext cx="177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ЗАДАЧИ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66"/>
                </a:solidFill>
                <a:latin typeface="Monotype Corsiva"/>
              </a:rPr>
              <a:t>Министерство правопорядка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94920" y="2421000"/>
            <a:ext cx="8064360" cy="36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26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00"/>
                </a:solidFill>
                <a:latin typeface="Arial"/>
              </a:rPr>
              <a:t>Проведение работ с нарушителями дисциплины и порядка.</a:t>
            </a:r>
            <a:endParaRPr b="0" lang="en-US" sz="2900" spc="-1" strike="noStrike">
              <a:solidFill>
                <a:srgbClr val="eaeaea"/>
              </a:solidFill>
              <a:latin typeface="Arial"/>
            </a:endParaRPr>
          </a:p>
          <a:p>
            <a:pPr marL="312120" indent="-312120">
              <a:spcBef>
                <a:spcPts val="726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00"/>
                </a:solidFill>
                <a:latin typeface="Arial"/>
              </a:rPr>
              <a:t>Осуществление организации дежурств.</a:t>
            </a:r>
            <a:endParaRPr b="0" lang="en-US" sz="2900" spc="-1" strike="noStrike">
              <a:solidFill>
                <a:srgbClr val="eaeaea"/>
              </a:solidFill>
              <a:latin typeface="Arial"/>
            </a:endParaRPr>
          </a:p>
          <a:p>
            <a:pPr marL="312120" indent="-312120">
              <a:spcBef>
                <a:spcPts val="726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00"/>
                </a:solidFill>
                <a:latin typeface="Arial"/>
              </a:rPr>
              <a:t>Решение конфликтных ситуаций. </a:t>
            </a:r>
            <a:endParaRPr b="0" lang="en-US" sz="2900" spc="-1" strike="noStrike">
              <a:solidFill>
                <a:srgbClr val="eaeaea"/>
              </a:solidFill>
              <a:latin typeface="Arial"/>
            </a:endParaRPr>
          </a:p>
          <a:p>
            <a:pPr marL="312120" indent="-312120">
              <a:spcBef>
                <a:spcPts val="726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00"/>
                </a:solidFill>
                <a:latin typeface="Arial"/>
              </a:rPr>
              <a:t>Следит за соблюдением правил и законов Руководящего Совета ученического самоуправления.</a:t>
            </a:r>
            <a:endParaRPr b="0" lang="en-US" sz="2900" spc="-1" strike="noStrike">
              <a:solidFill>
                <a:srgbClr val="eaeaea"/>
              </a:solidFill>
              <a:latin typeface="Arial"/>
            </a:endParaRPr>
          </a:p>
          <a:p>
            <a:pPr marL="312120" indent="-312120">
              <a:spcBef>
                <a:spcPts val="726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00"/>
                </a:solidFill>
                <a:latin typeface="Arial"/>
              </a:rPr>
              <a:t>Защищает права учащихся.</a:t>
            </a:r>
            <a:r>
              <a:rPr b="0" lang="en-US" sz="29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29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098720" y="1598760"/>
            <a:ext cx="177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ЗАДАЧИ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66"/>
                </a:solidFill>
                <a:latin typeface="Monotype Corsiva"/>
              </a:rPr>
              <a:t>Министерство гражданской позиции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68000" y="2565360"/>
            <a:ext cx="822636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00"/>
                </a:solidFill>
                <a:latin typeface="Arial"/>
              </a:rPr>
              <a:t>Организация и проведение мероприятий по военно-патриотической тематике.</a:t>
            </a:r>
            <a:endParaRPr b="0" lang="en-US" sz="29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00"/>
                </a:solidFill>
                <a:latin typeface="Arial"/>
              </a:rPr>
              <a:t>Работа по дальнейшему развитию Школьного музея.</a:t>
            </a:r>
            <a:endParaRPr b="0" lang="en-US" sz="29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00"/>
                </a:solidFill>
                <a:latin typeface="Arial"/>
              </a:rPr>
              <a:t>Организация посещения учащимися Школьного музея.</a:t>
            </a:r>
            <a:endParaRPr b="0" lang="en-US" sz="29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406520" y="1793880"/>
            <a:ext cx="177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ЗАДАЧИ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66"/>
                </a:solidFill>
                <a:latin typeface="Monotype Corsiva"/>
              </a:rPr>
              <a:t>Министерство культуры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68000" y="2565000"/>
            <a:ext cx="748836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26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00"/>
                </a:solidFill>
                <a:latin typeface="Arial"/>
              </a:rPr>
              <a:t>Способствовать культурному и содержательному проведению досуга.</a:t>
            </a:r>
            <a:endParaRPr b="0" lang="en-US" sz="29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26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00"/>
                </a:solidFill>
                <a:latin typeface="Arial"/>
              </a:rPr>
              <a:t>Организация культурно-массовых мероприятий в классах и школе.</a:t>
            </a:r>
            <a:endParaRPr b="0" lang="en-US" sz="29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26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00"/>
                </a:solidFill>
                <a:latin typeface="Arial"/>
              </a:rPr>
              <a:t>Творческий подход к оформлению школы в праздничные дни.</a:t>
            </a:r>
            <a:endParaRPr b="0" lang="en-US" sz="29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26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00"/>
                </a:solidFill>
                <a:latin typeface="Arial"/>
              </a:rPr>
              <a:t>Организация и проведение вечеров отдыха и дискотек.</a:t>
            </a:r>
            <a:endParaRPr b="0" lang="en-US" sz="29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170000" y="1743120"/>
            <a:ext cx="177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ЗАДАЧИ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9T06:52:06Z</dcterms:created>
  <dc:creator>Nadya</dc:creator>
  <dc:description/>
  <dc:language>en-US</dc:language>
  <cp:lastModifiedBy>Nadya</cp:lastModifiedBy>
  <dcterms:modified xsi:type="dcterms:W3CDTF">2011-10-21T06:18:43Z</dcterms:modified>
  <cp:revision>4</cp:revision>
  <dc:subject/>
  <dc:title>УЧЕНИЧЕСКИЙ СОВЕТ ГОУ СОШ №647</dc:title>
</cp:coreProperties>
</file>