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D47-B027-4A43-9A91-8D4B8CB5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880-B311-49C3-85E3-4F92E833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B75-EE64-48BD-9969-58B745B7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4D3-AEAD-4150-BC97-AAC678AA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E64D8-42B5-4892-87E2-E3CE7EB0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5C325-6CD6-4287-8EBF-0D1DDBBF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CE28C-18DB-462D-8648-7DE75060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E3454-AACD-4D63-A496-BD6DC808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2E896-9179-42F2-A79F-B6D99A1F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6BA2A-BF7B-4037-81F8-0BAA87BE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C062E-B612-443A-AE91-46AF4CD9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9E2-5C61-4C8C-8E2B-A3895608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4E7B4-60D1-4CF7-873D-A8BDE6CA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516CB-96E1-4853-94CD-D47DF59F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91661-B8FF-41A3-9A6C-6FD671D4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1DB23-FF0B-4546-A0C0-5E7DEE96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EF308-E55F-4C95-BBFA-754B53A8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255-3FE1-423F-B2DA-DC8B28B3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9A5-7C7F-48D9-9425-D07ED561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3499-C460-4AD2-A8D5-9CC2ECF5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C33-194D-4C2F-8878-4648D93E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0F1-CBE4-41D2-8E04-4CDC41C7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159-E77B-4369-92E8-E1CBFBC8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994-92E3-44CB-A739-0BC9EAED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699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699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5684-3A64-4A88-B5CC-8D5B69FBC5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699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699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9426-3329-46B1-9C51-042265B415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699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470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ff"/>
                </a:solidFill>
                <a:latin typeface="Tahoma"/>
              </a:rPr>
              <a:t>Конкурс научно-исследовательских и прикладных проектов учащихся старших классов по теме охраны и восстановления водных ресурсов - 200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0199"/>
                </a:solidFill>
                <a:latin typeface="Tahoma"/>
              </a:rPr>
              <a:t>Где используют воду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4000" y="1483920"/>
            <a:ext cx="7777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ff"/>
                </a:solidFill>
                <a:latin typeface="Tahoma"/>
              </a:rPr>
              <a:t>Вода используется человеком как непосредственно (для питья, полива, охлаждения, в химических процессах, как теплоноситель и т.п.), так и косвенно - как резервуар для отходов и средство их транспорта из зон производства и жизни насе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Загрязнение водоём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IMG_3861"/>
          <p:cNvPicPr/>
          <p:nvPr/>
        </p:nvPicPr>
        <p:blipFill>
          <a:blip r:embed="rId1"/>
          <a:stretch/>
        </p:blipFill>
        <p:spPr>
          <a:xfrm>
            <a:off x="108000" y="378936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Изображение 019"/>
          <p:cNvPicPr/>
          <p:nvPr/>
        </p:nvPicPr>
        <p:blipFill>
          <a:blip r:embed="rId2"/>
          <a:stretch/>
        </p:blipFill>
        <p:spPr>
          <a:xfrm>
            <a:off x="5076720" y="3772080"/>
            <a:ext cx="3598920" cy="269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P1231695"/>
          <p:cNvPicPr/>
          <p:nvPr/>
        </p:nvPicPr>
        <p:blipFill>
          <a:blip r:embed="rId3"/>
          <a:stretch/>
        </p:blipFill>
        <p:spPr>
          <a:xfrm>
            <a:off x="2987640" y="1413000"/>
            <a:ext cx="3046320" cy="22842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8"/>
          <p:cNvSpPr txBox="1"/>
          <p:nvPr/>
        </p:nvSpPr>
        <p:spPr>
          <a:xfrm>
            <a:off x="250920" y="3933720"/>
            <a:ext cx="324144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грязнение береговой линии</a:t>
            </a:r>
            <a:endParaRPr b="1" i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9"/>
          <p:cNvSpPr txBox="1"/>
          <p:nvPr/>
        </p:nvSpPr>
        <p:spPr>
          <a:xfrm>
            <a:off x="6443640" y="3933720"/>
            <a:ext cx="20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лав леса </a:t>
            </a:r>
            <a:endParaRPr b="1" i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10"/>
          <p:cNvSpPr txBox="1"/>
          <p:nvPr/>
        </p:nvSpPr>
        <p:spPr>
          <a:xfrm>
            <a:off x="3851280" y="1484280"/>
            <a:ext cx="1368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доходство</a:t>
            </a:r>
            <a:endParaRPr b="1" i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Экология и здоровье насел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6699ff"/>
                </a:solidFill>
                <a:latin typeface="Tahoma"/>
              </a:rPr>
              <a:t>В состоянии здоровья населения продолжают нарастать негативные явления. Тревогу вызывает критическое состояние хозяйственно-питьевого водоснабжения населения: отсутствие установок по обеззараживанию и очистке воды, невыполнение необходимых мероприятий в зонах санитарной охраны водоисточников, неудовлетворительная эксплуатация водопроводов. Ухудшение здоровья населения, в первую очередь коренных малочисленных народов, снижение качества и продолжительности жизни являются следствием использования при освоении ресурсов округа устаревших технологий. Особую тревогу вызывает рост заболеваний, связанных с влиянием неблагоприятных факторов окружающей сре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" descr=""/>
          <p:cNvPicPr/>
          <p:nvPr/>
        </p:nvPicPr>
        <p:blipFill>
          <a:blip r:embed="rId1"/>
          <a:srcRect l="0" t="0" r="0" b="24137"/>
          <a:stretch/>
        </p:blipFill>
        <p:spPr>
          <a:xfrm>
            <a:off x="0" y="549360"/>
            <a:ext cx="91440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" descr=""/>
          <p:cNvPicPr/>
          <p:nvPr/>
        </p:nvPicPr>
        <p:blipFill>
          <a:blip r:embed="rId1"/>
          <a:srcRect l="0" t="10812" r="0" b="18922"/>
          <a:stretch/>
        </p:blipFill>
        <p:spPr>
          <a:xfrm>
            <a:off x="0" y="47628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68360" y="998640"/>
            <a:ext cx="82296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"/>
          <p:cNvPicPr/>
          <p:nvPr/>
        </p:nvPicPr>
        <p:blipFill>
          <a:blip r:embed="rId1"/>
          <a:srcRect l="21570" t="3450" r="0" b="10344"/>
          <a:stretch/>
        </p:blipFill>
        <p:spPr>
          <a:xfrm>
            <a:off x="457200" y="955800"/>
            <a:ext cx="82296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57200" y="1014480"/>
            <a:ext cx="8229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457200" y="1014480"/>
            <a:ext cx="8229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6868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755640" y="476280"/>
            <a:ext cx="813744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699ff"/>
              </a:solidFill>
              <a:latin typeface="Tahoma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883040" y="264240"/>
            <a:ext cx="426096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ahoma"/>
              </a:rPr>
              <a:t>«Следует знать о водах, какие воды вредны и какие очень здоровы, какие неудобства и какое благо происходит от употребления вод, так как они имеют большое влияние на здоровье человека».</a:t>
            </a:r>
            <a:endParaRPr b="1" i="1" lang="en-US" sz="2800" spc="-1" strike="noStrike">
              <a:solidFill>
                <a:srgbClr val="6699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ahoma"/>
              </a:rPr>
              <a:t>Гиппократ</a:t>
            </a:r>
            <a:endParaRPr b="1" i="1" lang="en-US" sz="2800" spc="-1" strike="noStrike">
              <a:solidFill>
                <a:srgbClr val="6699ff"/>
              </a:solidFill>
              <a:latin typeface="Tahoma"/>
            </a:endParaRPr>
          </a:p>
        </p:txBody>
      </p:sp>
      <p:pic>
        <p:nvPicPr>
          <p:cNvPr id="86" name="Picture 7" descr="P5172233"/>
          <p:cNvPicPr/>
          <p:nvPr/>
        </p:nvPicPr>
        <p:blipFill>
          <a:blip r:embed="rId1"/>
          <a:stretch/>
        </p:blipFill>
        <p:spPr>
          <a:xfrm>
            <a:off x="324000" y="404640"/>
            <a:ext cx="3960720" cy="297360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pic>
        <p:nvPicPr>
          <p:cNvPr id="87" name="Picture 9" descr="Изображение 037"/>
          <p:cNvPicPr/>
          <p:nvPr/>
        </p:nvPicPr>
        <p:blipFill>
          <a:blip r:embed="rId2"/>
          <a:stretch/>
        </p:blipFill>
        <p:spPr>
          <a:xfrm>
            <a:off x="1042920" y="3933720"/>
            <a:ext cx="4032360" cy="270684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457200" y="919080"/>
            <a:ext cx="8229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457200" y="1014480"/>
            <a:ext cx="8229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2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анализировав данные осмотра детей в поселке Горки мы выявили заболевания, связанные с загрязнением окружающей среды. На 2006 год в поселки Горки было осмотрено 517 детей из них 187 – ханты. Из числа осмотренных 15,4 % имеют заболевания ВСД, из них ханты 12,3%, заболевания органов пищеварения 7,2%, ханты-4,8%, заболевания мочевыделительной системы -4,8%, из них ханты -2,7%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7 году было осмотрено 496 детей, из них 171 ханты. 17,5% имеют заболевания ВСД, из них ханты-15,8 %. Заболевания органов пищеварения -6,7%, ханты-6,4%. Заболевания мочевыделительной системы 2,4%, ханты-4%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делав анализ полученных данных можно проследить увеличение заболеваемости ВСД в общем количестве обследованных, и среди народов ханты. Количество заболеваний пищеварительной системы значительно снизилось в 2007 году, но возросло среди народов ханты. Уровень заболеваемости заболеваний мочевыделительной системы значительно снизился в общем, но возрос среди народов ханты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к же был проведен анализ данных по МОУГСОШ и МОУ МДОУ «Северяночка», чтобы выявить возраст  заболевших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анализировав данные по МОУГСОШ и МОУ МДОУ «Северяночка» мы получили следующие данные. Наибольший процент заболеваний ВСД наблюдается в детском саду, причем у коренных народов наибольший показатель.  Количество заболеваний мочевыделительной системы в МОУГСОШ возросло с 2006 по 2007 год, больше всего у народов ханты. Количество заболеваний органов пищеварения увеличилось и наибольший процент заболевших наблюдается в МОУ МДОУ«Северяночка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полученных данных можно сделать вывод, что качество воды влияет на повышение уровня заболеваемости и наиболее ярко это выражается в детском возрасте. Чтобы избежать дальнейшего роста заболеваний  среди детей, нужно бережнее относиться к природным ресурсам, беречь и охранять и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435880" cy="616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010199"/>
                </a:solidFill>
                <a:latin typeface="Tahoma"/>
              </a:rPr>
              <a:t>Автор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4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99ff"/>
                </a:solidFill>
                <a:latin typeface="Tahoma"/>
              </a:rPr>
              <a:t>Зиновьев Максим; 8 класс; МОУ Горковская СОШ., ЯНАО.</a:t>
            </a: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010199"/>
                </a:solidFill>
                <a:latin typeface="Tahoma"/>
              </a:rPr>
              <a:t>Руководитель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4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99ff"/>
                </a:solidFill>
                <a:latin typeface="Tahoma"/>
              </a:rPr>
              <a:t>учитель географии Макеева С.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ffff"/>
                </a:solidFill>
                <a:uFillTx/>
                <a:latin typeface="Times New Roman"/>
              </a:rPr>
              <a:t>Тема проекта: «Влияние качества воды на здоровье населения ЯНАО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0199"/>
                </a:solidFill>
                <a:latin typeface="Tahoma"/>
              </a:rPr>
              <a:t>Актуальность темы исследований</a:t>
            </a:r>
            <a:r>
              <a:rPr b="0" lang="ru-RU" sz="3600" spc="-1" strike="noStrike">
                <a:solidFill>
                  <a:srgbClr val="6699ff"/>
                </a:solidFill>
                <a:latin typeface="Tahoma"/>
              </a:rPr>
              <a:t> в необходимости постоянного контроля и поиска путей улучшения экологической обстановки, влияющей на качество питьевой воды, а так же выявление зависимости заболеваний, среди населения, связанных с загрязнением водных ресурсов, совершенствование отношения человека с окружающей средо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7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Научная новизна исследований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  улучшение качественных показателей воды, используемой для населения, выявления заболеваний, связанных с качеством питьевой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P5142213"/>
          <p:cNvPicPr/>
          <p:nvPr/>
        </p:nvPicPr>
        <p:blipFill>
          <a:blip r:embed="rId1"/>
          <a:stretch/>
        </p:blipFill>
        <p:spPr>
          <a:xfrm>
            <a:off x="1979640" y="2637000"/>
            <a:ext cx="5038560" cy="3781440"/>
          </a:xfrm>
          <a:prstGeom prst="rect">
            <a:avLst/>
          </a:prstGeom>
          <a:ln w="9360">
            <a:solidFill>
              <a:srgbClr val="00c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Проблема:</a:t>
            </a:r>
            <a:br>
              <a:rPr sz="2800"/>
            </a:b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Обеспечение населения питьевой водой, рост заболеваемости среди местного населения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Решение этой проблемы необходимо для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Сохранения здоровья населения.</a:t>
            </a:r>
            <a:br>
              <a:rPr sz="2800"/>
            </a:b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Улучшения условий деятельности.</a:t>
            </a:r>
            <a:br>
              <a:rPr sz="2800"/>
            </a:b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вышения уровня жизни населения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0199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Tahoma"/>
              </a:rPr>
              <a:t>Выяснить каким образом качество воды влияет на здоровье насе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Tahoma"/>
              </a:rPr>
              <a:t>Провести анализ заболеваемости, среди детского населения села Гор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Tahoma"/>
              </a:rPr>
              <a:t>Охрана и рациональное использование источников питьевого водоснаб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Tahoma"/>
              </a:rPr>
              <a:t>Состав и качество воды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.</a:t>
            </a:r>
            <a:br>
              <a:rPr sz="3200"/>
            </a:b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Качество воды, потребляемой человеком, должно соответствовать определенным требования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2924280"/>
            <a:ext cx="7704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Tahoma"/>
              </a:rPr>
              <a:t>во-первых, вода должна быть безопасной для здоровья человек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Tahoma"/>
              </a:rPr>
              <a:t>во-вторых, иметь оптимальный химический состав (т.е. содержать основные микроэлементы - йод, фтор, калий и кальций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07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10199"/>
                </a:solidFill>
                <a:uFillTx/>
                <a:latin typeface="Times New Roman"/>
              </a:rPr>
              <a:t>Использование воды человек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3"/>
          <p:cNvSpPr/>
          <p:nvPr/>
        </p:nvSpPr>
        <p:spPr>
          <a:xfrm flipH="1">
            <a:off x="1331640" y="2060640"/>
            <a:ext cx="1871640" cy="129708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699ff"/>
              </a:solidFill>
              <a:latin typeface="Tahoma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716360" y="2565360"/>
            <a:ext cx="0" cy="223200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699ff"/>
              </a:solidFill>
              <a:latin typeface="Tahoma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6156360" y="2060640"/>
            <a:ext cx="1512720" cy="129528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699ff"/>
              </a:solidFill>
              <a:latin typeface="Tahoma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70520" y="3860640"/>
            <a:ext cx="180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imes New Roman"/>
              </a:rPr>
              <a:t>Сельское </a:t>
            </a:r>
            <a:endParaRPr b="1" i="1" lang="en-US" sz="2400" spc="-1" strike="noStrike">
              <a:solidFill>
                <a:srgbClr val="6699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imes New Roman"/>
              </a:rPr>
              <a:t>хозяйство - </a:t>
            </a:r>
            <a:endParaRPr b="1" i="1" lang="en-US" sz="2400" spc="-1" strike="noStrike">
              <a:solidFill>
                <a:srgbClr val="6699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imes New Roman"/>
              </a:rPr>
              <a:t>58%</a:t>
            </a:r>
            <a:endParaRPr b="1" i="1" lang="en-US" sz="2400" spc="-1" strike="noStrike">
              <a:solidFill>
                <a:srgbClr val="6699ff"/>
              </a:solidFill>
              <a:latin typeface="Tahoma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350880" y="5084640"/>
            <a:ext cx="29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imes New Roman"/>
              </a:rPr>
              <a:t>Промышленность и</a:t>
            </a:r>
            <a:endParaRPr b="1" i="1" lang="en-US" sz="2400" spc="-1" strike="noStrike">
              <a:solidFill>
                <a:srgbClr val="6699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imes New Roman"/>
              </a:rPr>
              <a:t>энергетика - 35%</a:t>
            </a:r>
            <a:endParaRPr b="1" i="1" lang="en-US" sz="2400" spc="-1" strike="noStrike">
              <a:solidFill>
                <a:srgbClr val="6699ff"/>
              </a:solidFill>
              <a:latin typeface="Tahom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6588000" y="3645000"/>
            <a:ext cx="227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imes New Roman"/>
              </a:rPr>
              <a:t>Коммунально-бытовое хозяйство - 7%</a:t>
            </a:r>
            <a:endParaRPr b="1" i="1" lang="en-US" sz="2400" spc="-1" strike="noStrike">
              <a:solidFill>
                <a:srgbClr val="6699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8:11:22Z</dcterms:created>
  <dc:creator>Учитель</dc:creator>
  <dc:description/>
  <dc:language>en-US</dc:language>
  <cp:lastModifiedBy>57</cp:lastModifiedBy>
  <dcterms:modified xsi:type="dcterms:W3CDTF">2012-02-10T08:01:52Z</dcterms:modified>
  <cp:revision>20</cp:revision>
  <dc:subject/>
  <dc:title>Вода! У тебя нет ни вкуса, ни цвета, ни запаха, тебя невозможно описать, тобой наслаждаются, не ведая что ты такое! Нельзя сказать, что ты необходима для жизни: ты сама жизнь. Ты наполняешь нас радостью, которую не объяснишь нашими чувствами… Ты – самое большое богатство на свете!</dc:title>
</cp:coreProperties>
</file>