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832-87B7-4EE5-91CF-FB564029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A52-F5D2-4000-8059-66182622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7389D-C251-4E66-80E5-ADA75AF3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D88F8-8C46-49F7-9E45-F9D49D4D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EBD3D-877D-4C15-A838-B78FECF0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59CFE-F36B-4C62-844A-F8FE6EC1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988EB-3277-4232-ADD5-3F9F00A7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9005A-F833-499C-8D93-8066C0F1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5EB17-CBB3-4B21-9AE9-4D0B3F01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AB0CE-813B-4EDF-B0C3-E7FBEC02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3D1D8-737B-4502-BF34-ED036EF7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FDEF6-50AC-4510-9916-3636088B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11AC-56D3-4190-B53A-3F5FC012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54742-C185-47B2-A2AE-ACA89263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D77CE-66B9-4E9F-B2C2-CD02AB1D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FB26B-F520-4A7C-87CF-F6C265E1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C62A3-557B-4E45-8F57-DCBC6346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1539F-06B2-449B-84A2-95E438C8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FA593-7B91-4B88-9BD5-3D89F163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629C0-7FF4-46F1-9290-F818C644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27A62-690C-4057-86DA-77E356D6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D52DB-D3BC-4C59-8AA0-36EE47A4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050D7-E524-4DE8-8E70-A3AC3AA6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385D-8432-4ADB-8B4C-FB9F79AA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208A0-1B93-461F-82D9-5379AFCD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1708D-0D9A-4C70-AD6D-6EA5742A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B6729-B6CE-445D-B893-8307CFED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E5C6E-006C-4C1B-A620-88F5CCCD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0B1D4-1079-49AD-850D-152F14A7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B08F5-FFA1-46B7-96BC-2AF0FF89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E54DA-91A6-4546-AC13-E4C75900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7873A-3045-43C0-B163-4AABC62B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4B968-A825-4960-9974-14C4AF32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97A10-3BE2-454B-8032-5A2CA394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F501-04B9-40CE-8CFF-53B79F04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6C3AB-1BFE-4EE4-BB33-E6C2A1BB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3A0B4-E735-4F60-85F2-2F5DA596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9F44F-7961-4037-9256-184F0C72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8C1E9-22FE-489D-8344-A4491077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40058-16F5-4B11-BA60-56A80418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18897-0C2D-4039-9B92-8DC54B7D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5619A-1ED2-42B9-AC2D-971F0E33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65253-AC84-4685-AFEE-D350CF66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60B67-30B4-49FD-9C1B-475A5982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0986D-59E9-40D0-BE0D-2E1D1641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863C-0344-4C8C-856C-9DD71B9E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FFB36-DE54-49D4-9B70-C44970C5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54E62-5323-40AC-9CCA-9BDE52D4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32E0A-6515-4197-9E92-5B550537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C74F6-9E73-47A9-9D96-7EEEE20E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5D31C-2ABA-4205-A818-72529337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5A86-9485-4368-A473-74498B5D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6C37-F295-4781-8AD2-B78C67EC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6C76-FE25-433B-960A-D8012FBC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4D2C-1EEE-4602-89F6-1FD387CF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863A-1E25-4FC2-8A4C-CCB44969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DB2F-4ECC-4448-B81D-194FDCD9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7E19-14E0-4430-93F8-16FBF949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ABAD-43C8-47B2-A17E-5D17C1FB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0243-26DE-4E7A-886D-98861C77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C6B9-E904-4126-9D03-20947D09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7EA3-432C-4DC8-B50E-29B6F1CB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1E869-6712-421F-B145-9F214D78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3AEAC-26EF-41B8-901B-44470243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0D7BA-A066-4452-B1F1-A403F114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61F75-DE94-4A5A-9977-1F019EAF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85FCF-74CC-40A9-A423-8AA8E0FD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904-DB7A-4B2D-BE17-7D075BE7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36B6C-23B7-446D-95B4-82BBFCCB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F8AA4-04D1-4227-A091-C5FF62B3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3AF20-A01A-4E70-ACDC-F5B11216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C3F4D-3340-4C13-BC35-625BD032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57B2B-7047-48A8-BB6B-3F89912F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7E5D8-0857-40FA-9829-69000B01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0B18-2D0A-4434-8F07-8917AF97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ECE8A-5447-4AD8-9DC4-D5D80829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93D56-F1EB-4B70-BABB-6E85FD79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1044A-0928-499A-8EE2-A665B2B2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EAC4-F924-4911-B461-18F34282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BFFD6-01F4-4EA4-BE02-CCB80F11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10D20-9088-404A-A596-4F5AFCAE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47012-8933-4B34-BC2A-503DF3FC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2E4D9-5C48-444A-9F38-4D313CAF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26034-94DC-4FB0-97A8-53EA6761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20D0D-C66B-4E3D-A8E0-2BB3FBB3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4A958-6FE5-44AD-BF58-C7C8436A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89C8A-1733-4959-BA49-6DA7E9A7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E8160-2FC7-4FE9-8F66-427B5A64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20CF0-D883-4D65-AF5C-27CE4121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B5BC-2EFC-4946-B850-6C6BDA2B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68EC0-0325-479A-8EA4-A07858DB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8F220-C487-47D5-AC4F-A3BA305F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C3DEA-7B86-4DF2-A4AB-E8A42B4F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B6BFA-285C-47E3-BBED-5F029DE5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4ED25-02C3-4690-9041-F80CC7EA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B213F-1E7E-45E9-A7C9-008459EE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D628A-D086-4D24-843F-49056D2C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503A7-7AFB-4877-BA68-CA0D994A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83D5A-4259-4B16-93EF-5903ADF5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E3BF7-DA1D-4744-B894-2C0D979A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4CA-CE61-4F39-9A42-F367AB88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D3591-230D-47A8-9BCA-0CE2458F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851BB-0B2A-49B1-8A64-A8394394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D7009-3E7F-42E2-88DE-DB44F4A8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BDCF6-03F0-44C6-AD60-C961123D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86385-94DA-4158-A9FA-28D64F1D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00BFE-284B-467A-B9B6-71446412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DA43D-FA29-4FED-A541-ED09CFB3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B0513-D194-442C-95A3-DFE7B14B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5B4D9-4BAF-4B5E-95D0-F91F8FBD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D6551-083A-4CA8-872D-127ABD2E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24C-0C3C-4CCA-9729-8E3A51D0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1DC6A-52E1-4A94-9548-41EB16D3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BACE5-E6F6-40BC-B8BF-FAEB1A2C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0C6CF-FC12-47F4-BB4D-0C3A401F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E49CC-A079-4FFC-9F41-08A89D5B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CAB02-19AE-4C63-974B-0B11CAA0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5DAE6-59C6-4257-A8F5-C37EB319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388AA-DA1C-4583-9F4D-DE5CECBD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FB123-1B0F-40B6-9119-FE9F1E1D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23058-6613-413C-8A98-F922D04E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F23C0-B742-451D-8384-6AEBCE25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593-730E-47AB-B190-4B9772A4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DF87C-9C54-4E93-A582-702EDE43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8D874-CE64-4496-84FF-2E3F8482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45CA0-5FA9-47FB-A6AD-416D27CE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ECDBF-B853-49BC-87DB-4D774331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96AF7-8BFF-4CD7-A8F4-56EB4FDF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75595-3C57-46FF-AA44-3661A370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071AB-D9A1-4684-8121-48FFB242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B1717-9FFB-4DA3-AC13-844F85AC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2025A-C3DE-4D8D-BCE8-F323B200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3DD85-FE84-4D14-A896-44AA7115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637-726B-4FDE-9F73-1DC9EAF2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116A6-3C2F-404B-85A7-879CD25D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165BF-2BF3-4341-B2FC-03EA583E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75711-0DA8-4932-B9CF-7B8A7ED4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283F2-BE00-4F93-B256-13A358AD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05287-1D49-4AD7-BDC7-9660D3A1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0D457-23C7-4430-B465-1673C8E1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74AF1-6919-44B2-A833-E9B854D0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5D43C-2240-486F-A511-BE9931EE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E7564-6CA8-4D97-8F4C-7F241558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4EE0F-448E-481F-A0CB-F50F7723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591B-42AA-454C-8920-2FD915AC95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6E18-C4BE-487E-B74A-B1C1DC1D70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DF0C-58B1-49E2-B702-36CB512A54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7282-90FA-4EEF-B885-E9A8060B61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1B3D-375F-4D01-A69A-5F871477E5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7143-E986-425E-B3A0-EA4E5140B4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514A-5A6B-48BE-B6C9-0DA86444ED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E60A-1713-4136-AEDD-83AB6FBB32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9C43-F658-45E7-8526-BB924C1DB0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5174-0F85-4F75-9E8B-6628AAD8F1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5C93-232A-4DDF-BEA2-E7D75CA176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2C2D-5D95-4BF0-A1C0-1024A507AF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16080" y="1916280"/>
            <a:ext cx="678168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Жизненный сценарий в судьбе человека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899640" y="3068640"/>
            <a:ext cx="62485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0066"/>
                </a:solidFill>
                <a:uFillTx/>
                <a:latin typeface="Arial"/>
              </a:rPr>
              <a:t>Автор Антонова Анна ученица 9А класса ГОУ ЦО№1453 г.Мос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0066"/>
                </a:solidFill>
                <a:uFillTx/>
                <a:latin typeface="Arial"/>
              </a:rPr>
              <a:t>Руководитель Ерогина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32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36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61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ранзакционный анализ Э.Берн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002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огласно концепции трансакционного анализа Э.Берна, сценарий предполага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1) родительские указ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2) подходящее личностное развит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3) решение в детском возрас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4) действительную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ключенность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в какой-то особенный метод, несущий успех или неуда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Известно четыре жизненных сценар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2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12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8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36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44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56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Я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”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– хороший,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се </a:t>
            </a: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ОНИ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– хорошие, жизнь – хороша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” – 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ценарий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ru-RU" sz="3500" spc="-1" strike="noStrike" u="sng">
                <a:solidFill>
                  <a:srgbClr val="330066"/>
                </a:solidFill>
                <a:uFillTx/>
                <a:latin typeface="Arial"/>
              </a:rPr>
              <a:t>победителя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”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;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894" name="Picture 4" descr=""/>
          <p:cNvPicPr/>
          <p:nvPr/>
        </p:nvPicPr>
        <p:blipFill>
          <a:blip r:embed="rId1"/>
          <a:stretch/>
        </p:blipFill>
        <p:spPr>
          <a:xfrm>
            <a:off x="2268360" y="3429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26560" y="1052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Я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”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– плохой,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ОНИ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– плохие, жизнь плоха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”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– сценарий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ru-RU" sz="3500" spc="-1" strike="noStrike" u="sng">
                <a:solidFill>
                  <a:srgbClr val="330066"/>
                </a:solidFill>
                <a:uFillTx/>
                <a:latin typeface="Arial"/>
              </a:rPr>
              <a:t>побежденного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”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;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896" name="Picture 4" descr=""/>
          <p:cNvPicPr/>
          <p:nvPr/>
        </p:nvPicPr>
        <p:blipFill>
          <a:blip r:embed="rId1"/>
          <a:stretch/>
        </p:blipFill>
        <p:spPr>
          <a:xfrm>
            <a:off x="1619280" y="3500280"/>
            <a:ext cx="4681440" cy="18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8000" y="21337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Я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”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– хороший, но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ОНИ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– плохие, жизнь – хороша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” – 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ценарий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ru-RU" sz="3500" spc="-1" strike="noStrike" u="sng">
                <a:solidFill>
                  <a:srgbClr val="330066"/>
                </a:solidFill>
                <a:uFillTx/>
                <a:latin typeface="Arial"/>
              </a:rPr>
              <a:t>самовлюбленного эгоиста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”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898" name="Picture 4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52563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Я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”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– плохой, а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ОНИ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”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– хорошие – сценарий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ru-RU" sz="3500" spc="-1" strike="noStrike" u="sng">
                <a:solidFill>
                  <a:srgbClr val="330066"/>
                </a:solidFill>
                <a:uFillTx/>
                <a:latin typeface="Arial"/>
              </a:rPr>
              <a:t>комплекса неполноценности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”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900" name="Picture 4" descr=""/>
          <p:cNvPicPr/>
          <p:nvPr/>
        </p:nvPicPr>
        <p:blipFill>
          <a:blip r:embed="rId1"/>
          <a:stretch/>
        </p:blipFill>
        <p:spPr>
          <a:xfrm>
            <a:off x="2700360" y="2852640"/>
            <a:ext cx="259236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Жизненные позици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137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Жизненный сценарий оказывает свое влияние на те же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жизненные позиции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, которые проявляет человек в карьере, работе, в браке. В сфере человеческих отношений. Жизненные позиции, или отношения человека к определенной своей жизни, могут быть позитивны, негативны, можно выделить семь вариантов жизненных позиций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1) идеализация действи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2) круш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3) вызов всему (неповиновение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4) уход от де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5) осозна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6) решительнос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7) убежденнос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4" descr=""/>
          <p:cNvPicPr/>
          <p:nvPr/>
        </p:nvPicPr>
        <p:blipFill>
          <a:blip r:embed="rId1"/>
          <a:stretch/>
        </p:blipFill>
        <p:spPr>
          <a:xfrm>
            <a:off x="5867280" y="4941720"/>
            <a:ext cx="2448000" cy="16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9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8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68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92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40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56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9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9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9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8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9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9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60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9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9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9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28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9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9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920"/>
                            </p:stCondLst>
                            <p:childTnLst>
                              <p:par>
                                <p:cTn id="1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8:09:20Z</dcterms:created>
  <dc:creator>Start</dc:creator>
  <dc:description/>
  <dc:language>en-US</dc:language>
  <cp:lastModifiedBy>вова</cp:lastModifiedBy>
  <dcterms:modified xsi:type="dcterms:W3CDTF">2012-02-11T18:27:57Z</dcterms:modified>
  <cp:revision>17</cp:revision>
  <dc:subject/>
  <dc:title>Жизненный сценарий</dc:title>
</cp:coreProperties>
</file>