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779-EA05-483D-A6E6-6F0B1728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537-4EC0-4508-83C6-CCE0CAF4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A45-6E34-49D5-B778-EE947F1C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AC0-6F41-4597-9CC7-EC66A66A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DBB-AEC7-4B81-B503-F5359722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C6A-DB59-4EF9-8AEA-0AF6522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DE3-BD21-405F-88A3-89066403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06E-05E7-45A3-B541-6D2F426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E04-79DA-44CB-8C86-E507028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B0A-3ADD-4457-A560-D3904A0F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10A-E9F8-4073-8004-FEE13867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90F-018B-417A-80C6-6A9E6A03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1F32-C7AC-4C29-81AD-466901607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tigrulki.ru/wp-content/uploads/2010/03/golub.jpg"/>
          <p:cNvPicPr/>
          <p:nvPr/>
        </p:nvPicPr>
        <p:blipFill>
          <a:blip r:embed="rId1"/>
          <a:stretch/>
        </p:blipFill>
        <p:spPr>
          <a:xfrm>
            <a:off x="1000080" y="142920"/>
            <a:ext cx="6929640" cy="482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мажный голуб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286160" y="3786120"/>
            <a:ext cx="3343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уроку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зунов 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, 11 клас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2, г. Миллер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56760" y="142560"/>
            <a:ext cx="5257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аботы было сдела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214200" y="928800"/>
            <a:ext cx="7286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Печ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ля заключения договоров с наемными работниками и партне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Открыт счет в бан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ля расчета с наемными работниками и партнерами (необходимо подать сообщение в налоговый орган об открытии счета в течение 5 рабочих дней, во избежание наложения административного штраф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Приобретена контрольно-кассовая машина (ККМ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ля наличных расчетов. Его тоже я зарегистрировал в налоговой инсп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57120" y="64296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я компания зарегистрирована по месту моей регистрации, т.к. я являюсь ИП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Миллерово ул. Тухачевского, 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моей компании расположено в арендуемых помещениях по адрес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Миллерово ул. Промышленная,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лизация товаров производиться со склада по месту производства и через торговую точку, расположенную на центральном рынке г. Миллер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тактные телефоны: (8-86385)-2-12-34,  8-906-678-87-4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Глазуновы\Desktop\Brown-Paper-Bag-PB-12-.jpg"/>
          <p:cNvPicPr/>
          <p:nvPr/>
        </p:nvPicPr>
        <p:blipFill>
          <a:blip r:embed="rId1"/>
          <a:stretch/>
        </p:blipFill>
        <p:spPr>
          <a:xfrm>
            <a:off x="5643720" y="3571920"/>
            <a:ext cx="2970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57120" y="213840"/>
            <a:ext cx="8786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компания предлагает вам вариан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C:\Users\Глазуновы\Desktop\ECO_Bag.gif"/>
          <p:cNvPicPr/>
          <p:nvPr/>
        </p:nvPicPr>
        <p:blipFill>
          <a:blip r:embed="rId1"/>
          <a:stretch/>
        </p:blipFill>
        <p:spPr>
          <a:xfrm>
            <a:off x="2962440" y="676440"/>
            <a:ext cx="3030480" cy="303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Users\Глазуновы\Desktop\pict0091.jpg"/>
          <p:cNvPicPr/>
          <p:nvPr/>
        </p:nvPicPr>
        <p:blipFill>
          <a:blip r:embed="rId2"/>
          <a:stretch/>
        </p:blipFill>
        <p:spPr>
          <a:xfrm>
            <a:off x="133200" y="3121200"/>
            <a:ext cx="4896000" cy="38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Users\Глазуновы\Desktop\jakkard.png"/>
          <p:cNvPicPr/>
          <p:nvPr/>
        </p:nvPicPr>
        <p:blipFill>
          <a:blip r:embed="rId3"/>
          <a:stretch/>
        </p:blipFill>
        <p:spPr>
          <a:xfrm>
            <a:off x="4846680" y="3375000"/>
            <a:ext cx="42973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ь внимание производителей к соблюдению экологической культуры и производству экологически чистой продук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свою модель предприятия по выпуску экологически чистых упаковочных материа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 КОМПАН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1143000" y="18572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я ИП Николая Глазунова "Бумажный голубь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1143000" y="2214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 создания компании - заполнение потребностей рынка в экологически чистой бумажной упак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1214280" y="31431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ация компании - производство крафт-пакетов для использования в различных областях жизнедеятельност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же мы можем нанести Ваш логотип на пакет с помощью нашего обору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C:\Users\Глазуновы\Desktop\paket1.png"/>
          <p:cNvPicPr/>
          <p:nvPr/>
        </p:nvPicPr>
        <p:blipFill>
          <a:blip r:embed="rId1"/>
          <a:stretch/>
        </p:blipFill>
        <p:spPr>
          <a:xfrm>
            <a:off x="428760" y="1071720"/>
            <a:ext cx="4410000" cy="3105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1226160" y="42861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кеты для рентген-пл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C:\Users\Глазуновы\Desktop\Рисунок1.png"/>
          <p:cNvPicPr/>
          <p:nvPr/>
        </p:nvPicPr>
        <p:blipFill>
          <a:blip r:embed="rId2"/>
          <a:stretch/>
        </p:blipFill>
        <p:spPr>
          <a:xfrm>
            <a:off x="5643720" y="1571760"/>
            <a:ext cx="2400120" cy="26287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4449240" y="4286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кеты из картона и дизайнерские па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Глазуновы\Desktop\paket5.png"/>
          <p:cNvPicPr/>
          <p:nvPr/>
        </p:nvPicPr>
        <p:blipFill>
          <a:blip r:embed="rId1"/>
          <a:stretch/>
        </p:blipFill>
        <p:spPr>
          <a:xfrm>
            <a:off x="873000" y="853920"/>
            <a:ext cx="2770200" cy="3036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642960" y="4214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фт-пакет для пищевой и непищевой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Глазуновы\Desktop\037865.jpg"/>
          <p:cNvPicPr/>
          <p:nvPr/>
        </p:nvPicPr>
        <p:blipFill>
          <a:blip r:embed="rId2"/>
          <a:stretch/>
        </p:blipFill>
        <p:spPr>
          <a:xfrm>
            <a:off x="5143680" y="8571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6004800" y="41432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зка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857160" y="1643040"/>
            <a:ext cx="60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крафт-пакетов осуществляется квалифицированным штатом сотруд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ырьем для производства крафт-пакетов является бумага "Сенежского" бумажно-целлюлозного комбин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убаются крафт-пакеты с помощью битовально-режущей машины и собираются на линии скл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C:\Users\Глазуновы\Desktop\file22114.jpg"/>
          <p:cNvPicPr/>
          <p:nvPr/>
        </p:nvPicPr>
        <p:blipFill>
          <a:blip r:embed="rId1"/>
          <a:stretch/>
        </p:blipFill>
        <p:spPr>
          <a:xfrm>
            <a:off x="3780000" y="3121200"/>
            <a:ext cx="48704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4"/>
          <p:cNvSpPr/>
          <p:nvPr/>
        </p:nvSpPr>
        <p:spPr>
          <a:xfrm>
            <a:off x="214200" y="21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рудование, используемое при производ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Глазуновы\Desktop\oboryd.png"/>
          <p:cNvPicPr/>
          <p:nvPr/>
        </p:nvPicPr>
        <p:blipFill>
          <a:blip r:embed="rId1"/>
          <a:stretch/>
        </p:blipFill>
        <p:spPr>
          <a:xfrm>
            <a:off x="228600" y="1185840"/>
            <a:ext cx="2209680" cy="1486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Глазуновы\Desktop\oboryd2.png"/>
          <p:cNvPicPr/>
          <p:nvPr/>
        </p:nvPicPr>
        <p:blipFill>
          <a:blip r:embed="rId2"/>
          <a:stretch/>
        </p:blipFill>
        <p:spPr>
          <a:xfrm>
            <a:off x="2857680" y="1714680"/>
            <a:ext cx="2946240" cy="2031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Глазуновы\Desktop\farsh.png"/>
          <p:cNvPicPr/>
          <p:nvPr/>
        </p:nvPicPr>
        <p:blipFill>
          <a:blip r:embed="rId3"/>
          <a:stretch/>
        </p:blipFill>
        <p:spPr>
          <a:xfrm>
            <a:off x="214200" y="2786040"/>
            <a:ext cx="2210040" cy="148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Глазуновы\Desktop\rez.png"/>
          <p:cNvPicPr/>
          <p:nvPr/>
        </p:nvPicPr>
        <p:blipFill>
          <a:blip r:embed="rId4"/>
          <a:stretch/>
        </p:blipFill>
        <p:spPr>
          <a:xfrm>
            <a:off x="2786040" y="4071960"/>
            <a:ext cx="294660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Глазуновы\Desktop\ofset.png"/>
          <p:cNvPicPr/>
          <p:nvPr/>
        </p:nvPicPr>
        <p:blipFill>
          <a:blip r:embed="rId5"/>
          <a:stretch/>
        </p:blipFill>
        <p:spPr>
          <a:xfrm>
            <a:off x="6000840" y="4357800"/>
            <a:ext cx="2209680" cy="148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Глазуновы\Desktop\byc.png"/>
          <p:cNvPicPr/>
          <p:nvPr/>
        </p:nvPicPr>
        <p:blipFill>
          <a:blip r:embed="rId6"/>
          <a:stretch/>
        </p:blipFill>
        <p:spPr>
          <a:xfrm>
            <a:off x="6000840" y="2786040"/>
            <a:ext cx="2209680" cy="148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Глазуновы\Desktop\stan_9.png"/>
          <p:cNvPicPr/>
          <p:nvPr/>
        </p:nvPicPr>
        <p:blipFill>
          <a:blip r:embed="rId7"/>
          <a:stretch/>
        </p:blipFill>
        <p:spPr>
          <a:xfrm>
            <a:off x="214200" y="4357800"/>
            <a:ext cx="2210040" cy="1485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Users\Глазуновы\Desktop\pgp7_press.png"/>
          <p:cNvPicPr/>
          <p:nvPr/>
        </p:nvPicPr>
        <p:blipFill>
          <a:blip r:embed="rId8"/>
          <a:stretch/>
        </p:blipFill>
        <p:spPr>
          <a:xfrm>
            <a:off x="6000840" y="1214280"/>
            <a:ext cx="22096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57120" y="213840"/>
            <a:ext cx="6858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формлении индивидуального предпринимательства (далее – ИП) было сделан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357120" y="714240"/>
            <a:ext cx="628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Заявление (подпись на заявлении нотариально завере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Копия па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Квитанция об уплате государственной пошлины 4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Пакет документов нотариально завер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428760" y="2357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ал документы самостоятельно: обратился в налоговую инспекцию по месту жительства. Регистрация была готова через пять рабочих дней со дня представления документов. Были выданы: Свидетельство о государственной регистрации в качестве ИП, выписка из Единого государственного реестра индивидуальных предпринимателей (ЕГРИП) в их получении с указанием перечня и д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428760" y="535788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ожительное реш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Я получил свидетельство о государственной регистрации ИП. С этого момента я имею право заниматься предпринимательской дея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выбрал упрощенную систему налогооб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11430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накомившись с действующими системами налогообложения в России я предпочел сразу перейти на «упрощенную систему налогообложения» с видом «доходы минус расходы». Данная систему налогообложения позволит мне упростить систему ведения учета моей предпринимательской деятельности. Доход – денежные средства поступившие на мой расчетный счет в банковском учреждении и принятые деньги через контрольно-кассовую машину (ККМ). Расходы – денежный средства перечисленные мной с расчетного счета поставщикам, работникам и во внебюджетные фонды (пенсионный фонд, фонда соц. страха). С разницы я буду оплачивать налог по ставке – 15%. На этом мои обязательства перед государством по уплате налогов будут исполн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 на данную систему налогообложения возможен при подаче соответствующего заявления в налоговый орган не позднее 5 дней с момента государственной регистрации в качестве И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ведется «книга доходов и расходов» и лицевые карточки учета заработной платы работников. 2) отпадает необходимость ведения журналов учета счетов фактур, книг покупок и продаж. 3) налоговая отчетность состоит из декларации по упрощенной системе налогообложения, сведений о среднесписочном составе работников и подачи сведений по форме 2-НДФЛ (налог на доходы физических лиц) о доходах работников, выплаченных за прошедший г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7:39:18Z</dcterms:created>
  <dc:creator>Глазуновы</dc:creator>
  <dc:description/>
  <dc:language>en-US</dc:language>
  <cp:lastModifiedBy>Admin</cp:lastModifiedBy>
  <dcterms:modified xsi:type="dcterms:W3CDTF">2012-02-11T19:31:45Z</dcterms:modified>
  <cp:revision>20</cp:revision>
  <dc:subject/>
  <dc:title>Слайд 1</dc:title>
</cp:coreProperties>
</file>