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A89-45B9-4C95-A46A-BA2ABA5A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391-8711-4CA9-97A5-AF34005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208-A191-4D2D-9C34-058D4E7F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EFA-F06F-411F-851D-C23CF839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D539-6E18-4628-8999-2AC02571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DBC7-EF13-44CB-92EF-1CF2568D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45A-90F2-4B8A-9FF5-4D1659B8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CABF-0613-48BE-BC3C-A1ED894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7D5D-BE6C-469A-B11F-0DA7316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CF3-2F37-4B40-91AB-4C8B50C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331D-BD77-4B66-98DC-A0FB7F2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6B5-6B5B-4701-8F0E-DF6BD23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B5C7-E261-4487-A979-A1E639B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345-25B2-426A-A1A9-40265D82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C229-552F-4A86-9EF0-3763DC03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712-1C08-4B23-9F9D-ACB11A5D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3F3C-4CBE-4C4D-A7B8-719CFDE9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11B-D108-4703-9A5F-0C1EDD8B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60B-8431-4322-B0E5-1FF9BFB4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64D-E19F-4EEC-A643-5A807FC4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C4B-9669-4287-9A05-AFFC98B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2EB-60B2-4BCD-91F8-F3EDC16F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3C1-604C-42C6-9194-275A22D6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8DB-E68C-47F8-9794-2155F75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D82B-6351-4B02-99DF-B03D1D353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56D-05A2-425E-BA9B-B929166A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576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Блиц – опрос по тем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«Отмена крепостного прав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6400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56360" y="472428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ставитель дворянства, который следил за проведением реформы на местах – мировой 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 rot="20191200">
            <a:off x="1019160" y="1882440"/>
            <a:ext cx="7469280" cy="29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дравляем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576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Плата за землю по реформе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11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9640" y="192240"/>
            <a:ext cx="2448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576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189000"/>
            <a:ext cx="738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ь земли, которую добавляли крестьянину по рефор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11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Договор между помещиком и крестьянином о передаче земли – </a:t>
            </a:r>
            <a:br>
              <a:rPr sz="1600"/>
            </a:b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…….    грамота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907920"/>
          <a:ext cx="8209080" cy="569772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крестьянина на помещика в качестве оплаты за временное пользование зем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ки земли, которые отрезали в пользу помещ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естьяне, выполняющие определенные повинности пока не выплатят долг помещику за зем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 из повинностей временнообязанного крестья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документа, подписанного императо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907920"/>
          <a:ext cx="8209080" cy="5693040"/>
        </p:xfrm>
        <a:graphic>
          <a:graphicData uri="http://schemas.openxmlformats.org/drawingml/2006/table">
            <a:tbl>
              <a:tblPr/>
              <a:tblGrid>
                <a:gridCol w="544680"/>
                <a:gridCol w="477720"/>
                <a:gridCol w="479520"/>
                <a:gridCol w="480960"/>
                <a:gridCol w="476280"/>
                <a:gridCol w="479520"/>
                <a:gridCol w="477720"/>
                <a:gridCol w="480960"/>
                <a:gridCol w="479520"/>
                <a:gridCol w="479520"/>
                <a:gridCol w="477720"/>
                <a:gridCol w="480960"/>
                <a:gridCol w="476280"/>
                <a:gridCol w="479520"/>
                <a:gridCol w="479520"/>
                <a:gridCol w="4539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0:46:11Z</dcterms:created>
  <dc:creator>Зоя Павловна</dc:creator>
  <dc:description/>
  <dc:language>en-US</dc:language>
  <cp:lastModifiedBy>Зоя Павловна</cp:lastModifiedBy>
  <dcterms:modified xsi:type="dcterms:W3CDTF">2012-02-11T08:21:5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