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applause.wav" ContentType="audio/x-wav"/>
  <Override PartName="/ppt/media/image2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carbrake.wav" ContentType="audio/x-wav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A2FE-A963-4BF5-AB58-7ADEFBD1769B}" type="slidenum"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0074-9AD5-4BDA-9470-A7AD6C57F547}" type="slidenum"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630-A7EC-4DA2-84FF-17AFC0DE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4A6-7A66-4DF1-BCFB-A90DF1A1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8DA-CAD1-4A1B-A0DE-F16B966B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F31-02D5-41AA-B650-FCA20C1D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3933-E872-4227-91C4-56F895E7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AD7A-A527-40D8-8BF1-6E255ACD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1CFB-D6C0-4016-AC15-C3A39CC3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FD03-082B-4274-936E-90D61E7D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029B-0843-4CF6-8C12-E00B3CCE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2510-142C-4289-B091-5FDC1A90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BF10-5659-4EFE-8EAE-7DD19E3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806-BBB9-425D-A6C4-D4124EEE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208E-FF89-4D0E-80B8-D487952A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55AD-0075-47A6-9C28-46E81053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5E67-0AA1-4B48-959F-EB996980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C601-3AEE-47DD-8A97-2C301BE6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D699-3A14-4F2E-838F-880E9EBA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466-9B14-4610-935E-60951663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ECE-EF04-4076-909F-0EE98047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BE1-3DB0-4026-83F9-99210A17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8DA-3C11-4B94-ABDE-34D55E76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226-6BF7-4F0C-8688-276C20A0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603-4231-4BB3-A74B-5F1039A3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D87-195A-4D95-9466-437FA97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EBB6-A9AC-49FE-9AB9-26C60ABE1C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2DC1-C77B-497B-AF4B-A8190FCCB6D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8"/>
          <p:cNvSpPr txBox="1"/>
          <p:nvPr/>
        </p:nvSpPr>
        <p:spPr>
          <a:xfrm>
            <a:off x="1266840" y="533520"/>
            <a:ext cx="661032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ёгкая  атлетика 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19640" y="3946320"/>
            <a:ext cx="784872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Презентацию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подготовила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ученица 11-А класса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школы № 382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Фарзалиева Анастасия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WordArt 16"/>
          <p:cNvSpPr txBox="1"/>
          <p:nvPr/>
        </p:nvSpPr>
        <p:spPr>
          <a:xfrm rot="5400000">
            <a:off x="1143000" y="-1143000"/>
            <a:ext cx="6858000" cy="914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00" name="WordArt 17"/>
          <p:cNvSpPr txBox="1"/>
          <p:nvPr/>
        </p:nvSpPr>
        <p:spPr>
          <a:xfrm rot="5400000">
            <a:off x="2580840" y="3276360"/>
            <a:ext cx="3610080" cy="177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101" name="Picture 18" descr="BD00017_"/>
          <p:cNvPicPr/>
          <p:nvPr/>
        </p:nvPicPr>
        <p:blipFill>
          <a:blip r:embed="rId1"/>
          <a:stretch/>
        </p:blipFill>
        <p:spPr>
          <a:xfrm>
            <a:off x="3906720" y="1550880"/>
            <a:ext cx="1330560" cy="3756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BD00017_"/>
          <p:cNvPicPr/>
          <p:nvPr/>
        </p:nvPicPr>
        <p:blipFill>
          <a:blip r:embed="rId2"/>
          <a:stretch/>
        </p:blipFill>
        <p:spPr>
          <a:xfrm>
            <a:off x="3906720" y="1550880"/>
            <a:ext cx="1330560" cy="3756240"/>
          </a:xfrm>
          <a:prstGeom prst="rect">
            <a:avLst/>
          </a:prstGeom>
          <a:ln w="0">
            <a:noFill/>
          </a:ln>
        </p:spPr>
      </p:pic>
      <p:sp>
        <p:nvSpPr>
          <p:cNvPr id="103" name="Freeform 24"/>
          <p:cNvSpPr/>
          <p:nvPr/>
        </p:nvSpPr>
        <p:spPr>
          <a:xfrm>
            <a:off x="3921120" y="1560600"/>
            <a:ext cx="1301760" cy="3738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Freeform 25"/>
          <p:cNvSpPr/>
          <p:nvPr/>
        </p:nvSpPr>
        <p:spPr>
          <a:xfrm>
            <a:off x="4429080" y="1633680"/>
            <a:ext cx="1922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Freeform 26"/>
          <p:cNvSpPr/>
          <p:nvPr/>
        </p:nvSpPr>
        <p:spPr>
          <a:xfrm>
            <a:off x="4451400" y="1743120"/>
            <a:ext cx="106200" cy="13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Freeform 27"/>
          <p:cNvSpPr/>
          <p:nvPr/>
        </p:nvSpPr>
        <p:spPr>
          <a:xfrm>
            <a:off x="4565520" y="1698480"/>
            <a:ext cx="411120" cy="76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Freeform 28"/>
          <p:cNvSpPr/>
          <p:nvPr/>
        </p:nvSpPr>
        <p:spPr>
          <a:xfrm>
            <a:off x="4735440" y="1835280"/>
            <a:ext cx="92160" cy="3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Freeform 29"/>
          <p:cNvSpPr/>
          <p:nvPr/>
        </p:nvSpPr>
        <p:spPr>
          <a:xfrm>
            <a:off x="4886280" y="1839960"/>
            <a:ext cx="90360" cy="3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Freeform 30"/>
          <p:cNvSpPr/>
          <p:nvPr/>
        </p:nvSpPr>
        <p:spPr>
          <a:xfrm>
            <a:off x="4726080" y="1798560"/>
            <a:ext cx="102960" cy="25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Freeform 31"/>
          <p:cNvSpPr/>
          <p:nvPr/>
        </p:nvSpPr>
        <p:spPr>
          <a:xfrm>
            <a:off x="4889520" y="1800360"/>
            <a:ext cx="93600" cy="21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Freeform 32"/>
          <p:cNvSpPr/>
          <p:nvPr/>
        </p:nvSpPr>
        <p:spPr>
          <a:xfrm>
            <a:off x="3935520" y="2139840"/>
            <a:ext cx="507960" cy="989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Freeform 33"/>
          <p:cNvSpPr/>
          <p:nvPr/>
        </p:nvSpPr>
        <p:spPr>
          <a:xfrm>
            <a:off x="4886280" y="2282760"/>
            <a:ext cx="301680" cy="73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Freeform 34"/>
          <p:cNvSpPr/>
          <p:nvPr/>
        </p:nvSpPr>
        <p:spPr>
          <a:xfrm>
            <a:off x="4875120" y="2755800"/>
            <a:ext cx="136440" cy="5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Freeform 35"/>
          <p:cNvSpPr/>
          <p:nvPr/>
        </p:nvSpPr>
        <p:spPr>
          <a:xfrm>
            <a:off x="4884840" y="2714760"/>
            <a:ext cx="11412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Freeform 36"/>
          <p:cNvSpPr/>
          <p:nvPr/>
        </p:nvSpPr>
        <p:spPr>
          <a:xfrm>
            <a:off x="4910040" y="2689200"/>
            <a:ext cx="777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Freeform 37"/>
          <p:cNvSpPr/>
          <p:nvPr/>
        </p:nvSpPr>
        <p:spPr>
          <a:xfrm>
            <a:off x="4835520" y="2733840"/>
            <a:ext cx="396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Freeform 38"/>
          <p:cNvSpPr/>
          <p:nvPr/>
        </p:nvSpPr>
        <p:spPr>
          <a:xfrm>
            <a:off x="4300560" y="2120760"/>
            <a:ext cx="712800" cy="1049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Freeform 39"/>
          <p:cNvSpPr/>
          <p:nvPr/>
        </p:nvSpPr>
        <p:spPr>
          <a:xfrm>
            <a:off x="4416480" y="2651040"/>
            <a:ext cx="299880" cy="33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Freeform 40"/>
          <p:cNvSpPr/>
          <p:nvPr/>
        </p:nvSpPr>
        <p:spPr>
          <a:xfrm>
            <a:off x="4575240" y="3357720"/>
            <a:ext cx="196920" cy="11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Freeform 41"/>
          <p:cNvSpPr/>
          <p:nvPr/>
        </p:nvSpPr>
        <p:spPr>
          <a:xfrm>
            <a:off x="4398840" y="3348000"/>
            <a:ext cx="15876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Freeform 42"/>
          <p:cNvSpPr/>
          <p:nvPr/>
        </p:nvSpPr>
        <p:spPr>
          <a:xfrm>
            <a:off x="4218120" y="3484440"/>
            <a:ext cx="330120" cy="68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Freeform 43"/>
          <p:cNvSpPr/>
          <p:nvPr/>
        </p:nvSpPr>
        <p:spPr>
          <a:xfrm>
            <a:off x="4086360" y="4013280"/>
            <a:ext cx="12060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Freeform 44"/>
          <p:cNvSpPr/>
          <p:nvPr/>
        </p:nvSpPr>
        <p:spPr>
          <a:xfrm>
            <a:off x="4065480" y="4286160"/>
            <a:ext cx="6048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Freeform 45"/>
          <p:cNvSpPr/>
          <p:nvPr/>
        </p:nvSpPr>
        <p:spPr>
          <a:xfrm>
            <a:off x="4046400" y="4327560"/>
            <a:ext cx="160560" cy="19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Freeform 46"/>
          <p:cNvSpPr/>
          <p:nvPr/>
        </p:nvSpPr>
        <p:spPr>
          <a:xfrm>
            <a:off x="4143240" y="4189320"/>
            <a:ext cx="9540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Freeform 47"/>
          <p:cNvSpPr/>
          <p:nvPr/>
        </p:nvSpPr>
        <p:spPr>
          <a:xfrm>
            <a:off x="4100400" y="4267080"/>
            <a:ext cx="6372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Freeform 48"/>
          <p:cNvSpPr/>
          <p:nvPr/>
        </p:nvSpPr>
        <p:spPr>
          <a:xfrm>
            <a:off x="4173480" y="4268880"/>
            <a:ext cx="19080" cy="1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Freeform 49"/>
          <p:cNvSpPr/>
          <p:nvPr/>
        </p:nvSpPr>
        <p:spPr>
          <a:xfrm>
            <a:off x="4159080" y="4286160"/>
            <a:ext cx="3492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Freeform 50"/>
          <p:cNvSpPr/>
          <p:nvPr/>
        </p:nvSpPr>
        <p:spPr>
          <a:xfrm>
            <a:off x="4121280" y="4297320"/>
            <a:ext cx="363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Freeform 51"/>
          <p:cNvSpPr/>
          <p:nvPr/>
        </p:nvSpPr>
        <p:spPr>
          <a:xfrm>
            <a:off x="4132440" y="4321080"/>
            <a:ext cx="4284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Freeform 52"/>
          <p:cNvSpPr/>
          <p:nvPr/>
        </p:nvSpPr>
        <p:spPr>
          <a:xfrm>
            <a:off x="4178160" y="4317840"/>
            <a:ext cx="1908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Freeform 53"/>
          <p:cNvSpPr/>
          <p:nvPr/>
        </p:nvSpPr>
        <p:spPr>
          <a:xfrm>
            <a:off x="4156200" y="4352760"/>
            <a:ext cx="28440" cy="3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Freeform 54"/>
          <p:cNvSpPr/>
          <p:nvPr/>
        </p:nvSpPr>
        <p:spPr>
          <a:xfrm>
            <a:off x="4106880" y="4327560"/>
            <a:ext cx="2844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Freeform 55"/>
          <p:cNvSpPr/>
          <p:nvPr/>
        </p:nvSpPr>
        <p:spPr>
          <a:xfrm>
            <a:off x="4113360" y="4368960"/>
            <a:ext cx="48960" cy="37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Freeform 56"/>
          <p:cNvSpPr/>
          <p:nvPr/>
        </p:nvSpPr>
        <p:spPr>
          <a:xfrm>
            <a:off x="4137120" y="4408560"/>
            <a:ext cx="2196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Freeform 57"/>
          <p:cNvSpPr/>
          <p:nvPr/>
        </p:nvSpPr>
        <p:spPr>
          <a:xfrm>
            <a:off x="4095720" y="4387680"/>
            <a:ext cx="19080" cy="2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Freeform 58"/>
          <p:cNvSpPr/>
          <p:nvPr/>
        </p:nvSpPr>
        <p:spPr>
          <a:xfrm>
            <a:off x="4102200" y="4414680"/>
            <a:ext cx="3492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Freeform 59"/>
          <p:cNvSpPr/>
          <p:nvPr/>
        </p:nvSpPr>
        <p:spPr>
          <a:xfrm>
            <a:off x="4202280" y="4295880"/>
            <a:ext cx="1872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Freeform 60"/>
          <p:cNvSpPr/>
          <p:nvPr/>
        </p:nvSpPr>
        <p:spPr>
          <a:xfrm>
            <a:off x="4179960" y="4052880"/>
            <a:ext cx="7596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Freeform 61"/>
          <p:cNvSpPr/>
          <p:nvPr/>
        </p:nvSpPr>
        <p:spPr>
          <a:xfrm>
            <a:off x="4156200" y="3587760"/>
            <a:ext cx="618840" cy="1338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Freeform 62"/>
          <p:cNvSpPr/>
          <p:nvPr/>
        </p:nvSpPr>
        <p:spPr>
          <a:xfrm>
            <a:off x="4089240" y="4883040"/>
            <a:ext cx="6516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Freeform 63"/>
          <p:cNvSpPr/>
          <p:nvPr/>
        </p:nvSpPr>
        <p:spPr>
          <a:xfrm>
            <a:off x="4146480" y="4954680"/>
            <a:ext cx="9072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Freeform 64"/>
          <p:cNvSpPr/>
          <p:nvPr/>
        </p:nvSpPr>
        <p:spPr>
          <a:xfrm>
            <a:off x="4148280" y="5102280"/>
            <a:ext cx="19044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Freeform 65"/>
          <p:cNvSpPr/>
          <p:nvPr/>
        </p:nvSpPr>
        <p:spPr>
          <a:xfrm>
            <a:off x="4102200" y="5046840"/>
            <a:ext cx="58680" cy="5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Freeform 66"/>
          <p:cNvSpPr/>
          <p:nvPr/>
        </p:nvSpPr>
        <p:spPr>
          <a:xfrm>
            <a:off x="4162320" y="5051520"/>
            <a:ext cx="3672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Freeform 67"/>
          <p:cNvSpPr/>
          <p:nvPr/>
        </p:nvSpPr>
        <p:spPr>
          <a:xfrm>
            <a:off x="4211640" y="5148360"/>
            <a:ext cx="363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Freeform 68"/>
          <p:cNvSpPr/>
          <p:nvPr/>
        </p:nvSpPr>
        <p:spPr>
          <a:xfrm>
            <a:off x="4245120" y="5160960"/>
            <a:ext cx="44280" cy="2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Freeform 69"/>
          <p:cNvSpPr/>
          <p:nvPr/>
        </p:nvSpPr>
        <p:spPr>
          <a:xfrm>
            <a:off x="4227480" y="5124600"/>
            <a:ext cx="4608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Freeform 70"/>
          <p:cNvSpPr/>
          <p:nvPr/>
        </p:nvSpPr>
        <p:spPr>
          <a:xfrm>
            <a:off x="4202280" y="5118120"/>
            <a:ext cx="2700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Freeform 71"/>
          <p:cNvSpPr/>
          <p:nvPr/>
        </p:nvSpPr>
        <p:spPr>
          <a:xfrm>
            <a:off x="4222800" y="5094360"/>
            <a:ext cx="3492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Freeform 72"/>
          <p:cNvSpPr/>
          <p:nvPr/>
        </p:nvSpPr>
        <p:spPr>
          <a:xfrm>
            <a:off x="4197240" y="5087880"/>
            <a:ext cx="2376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Freeform 73"/>
          <p:cNvSpPr/>
          <p:nvPr/>
        </p:nvSpPr>
        <p:spPr>
          <a:xfrm>
            <a:off x="4214880" y="5059440"/>
            <a:ext cx="3024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Freeform 74"/>
          <p:cNvSpPr/>
          <p:nvPr/>
        </p:nvSpPr>
        <p:spPr>
          <a:xfrm>
            <a:off x="4206960" y="5022720"/>
            <a:ext cx="1584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Freeform 75"/>
          <p:cNvSpPr/>
          <p:nvPr/>
        </p:nvSpPr>
        <p:spPr>
          <a:xfrm>
            <a:off x="4819680" y="1825560"/>
            <a:ext cx="93600" cy="147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Freeform 76"/>
          <p:cNvSpPr/>
          <p:nvPr/>
        </p:nvSpPr>
        <p:spPr>
          <a:xfrm>
            <a:off x="4603680" y="1873080"/>
            <a:ext cx="36720" cy="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Freeform 77"/>
          <p:cNvSpPr/>
          <p:nvPr/>
        </p:nvSpPr>
        <p:spPr>
          <a:xfrm>
            <a:off x="4568760" y="1573200"/>
            <a:ext cx="3636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Freeform 78"/>
          <p:cNvSpPr/>
          <p:nvPr/>
        </p:nvSpPr>
        <p:spPr>
          <a:xfrm>
            <a:off x="4800600" y="1994040"/>
            <a:ext cx="11448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Freeform 79"/>
          <p:cNvSpPr/>
          <p:nvPr/>
        </p:nvSpPr>
        <p:spPr>
          <a:xfrm>
            <a:off x="4819680" y="2014560"/>
            <a:ext cx="8424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Freeform 80"/>
          <p:cNvSpPr/>
          <p:nvPr/>
        </p:nvSpPr>
        <p:spPr>
          <a:xfrm>
            <a:off x="4951440" y="1638360"/>
            <a:ext cx="2232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Freeform 81"/>
          <p:cNvSpPr/>
          <p:nvPr/>
        </p:nvSpPr>
        <p:spPr>
          <a:xfrm>
            <a:off x="4964040" y="1687680"/>
            <a:ext cx="2232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Rectangle 84"/>
          <p:cNvSpPr/>
          <p:nvPr/>
        </p:nvSpPr>
        <p:spPr>
          <a:xfrm>
            <a:off x="4024440" y="3048120"/>
            <a:ext cx="109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Бе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Содержимое 4" descr="image012.gif"/>
          <p:cNvPicPr/>
          <p:nvPr/>
        </p:nvPicPr>
        <p:blipFill>
          <a:blip r:embed="rId1"/>
          <a:stretch/>
        </p:blipFill>
        <p:spPr>
          <a:xfrm>
            <a:off x="1430280" y="2143080"/>
            <a:ext cx="723744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Бе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Содержимое 4" descr="image013.gif"/>
          <p:cNvPicPr/>
          <p:nvPr/>
        </p:nvPicPr>
        <p:blipFill>
          <a:blip r:embed="rId1"/>
          <a:stretch/>
        </p:blipFill>
        <p:spPr>
          <a:xfrm>
            <a:off x="2143080" y="2400480"/>
            <a:ext cx="5924520" cy="28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Бе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Содержимое 4" descr="image014.gif"/>
          <p:cNvPicPr/>
          <p:nvPr/>
        </p:nvPicPr>
        <p:blipFill>
          <a:blip r:embed="rId1"/>
          <a:stretch/>
        </p:blipFill>
        <p:spPr>
          <a:xfrm>
            <a:off x="1285920" y="1785960"/>
            <a:ext cx="7566120" cy="38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Бе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Содержимое 4" descr="image015.gif"/>
          <p:cNvPicPr/>
          <p:nvPr/>
        </p:nvPicPr>
        <p:blipFill>
          <a:blip r:embed="rId1"/>
          <a:stretch/>
        </p:blipFill>
        <p:spPr>
          <a:xfrm>
            <a:off x="2309760" y="1857240"/>
            <a:ext cx="5591160" cy="398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30040" y="295200"/>
            <a:ext cx="387036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Эстафетный Бег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Содержимое 4" descr="xin_f8603f326fcf4740b13d51d92bc0f4db.jpg"/>
          <p:cNvPicPr/>
          <p:nvPr/>
        </p:nvPicPr>
        <p:blipFill>
          <a:blip r:embed="rId1"/>
          <a:stretch/>
        </p:blipFill>
        <p:spPr>
          <a:xfrm>
            <a:off x="4954680" y="500040"/>
            <a:ext cx="4189320" cy="58532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2640" y="1000080"/>
            <a:ext cx="4071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Эстафетный бег представляет собой особую форму бега на короткие дистанци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наиболее распространенных видах эстафетного бега, проводимых на круговой беговой дорожке, длина отдельных этапов 100, 200 или 400 м. В конце этапа эстафетная палочка передается другому бегун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аиболее распространены как для мужчин, так и для женщин дистанции 4 × 100 и 4 × 400 м, включенные в олимпийскую программу. Эстафеты проводятся также на ярдовые дистанци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71440" y="-360"/>
            <a:ext cx="28940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Спринт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Содержимое 4" descr="800px-Start_Jeremy_Wariner_2007.jpg"/>
          <p:cNvPicPr/>
          <p:nvPr/>
        </p:nvPicPr>
        <p:blipFill>
          <a:blip r:embed="rId1"/>
          <a:stretch/>
        </p:blipFill>
        <p:spPr>
          <a:xfrm>
            <a:off x="4143240" y="1571760"/>
            <a:ext cx="5000760" cy="33321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14280" y="785520"/>
            <a:ext cx="3143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принт — совокупность легкоатлетических дисциплин, где спортсмены соревнуются в беге на короткие дистанции («бег на скорость») по стадион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Длина дистанции в спринте составляет от 30 до 600 метров. В программу Олимпийских игр включен гладкий бег на 100, 200 и 400 метров у мужчин и женщин, эстафетный бег 4x100 и 4x400 метров у мужчин и женщи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99800" y="0"/>
            <a:ext cx="30085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Марафон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Содержимое 4" descr="800px-USMC_Marathon.jpg"/>
          <p:cNvPicPr/>
          <p:nvPr/>
        </p:nvPicPr>
        <p:blipFill>
          <a:blip r:embed="rId1"/>
          <a:stretch/>
        </p:blipFill>
        <p:spPr>
          <a:xfrm>
            <a:off x="4116240" y="3286080"/>
            <a:ext cx="4891320" cy="33512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4280" y="928440"/>
            <a:ext cx="3571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арафон — дисциплина лёгкой атлетики — представляет собой забег на дистанцию 42 км 195 метров (26 миль 385 ярдов). Крупнейшие и наиболее авторитетные соревнования проводятся на шоссе, но также известны марафонские старты на пересечённой местности и в экстремальных условиях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37148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Вертикальные     </a:t>
            </a:r>
            <a:br>
              <a:rPr sz="2800"/>
            </a:b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          Прыжки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Содержимое 6" descr="object_0.1230654557.jpg"/>
          <p:cNvPicPr/>
          <p:nvPr/>
        </p:nvPicPr>
        <p:blipFill>
          <a:blip r:embed="rId1"/>
          <a:stretch/>
        </p:blipFill>
        <p:spPr>
          <a:xfrm>
            <a:off x="5214960" y="785880"/>
            <a:ext cx="3267000" cy="47624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5920" y="1213920"/>
            <a:ext cx="3643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ыжок в высоту с разбега — дисциплина лёгкой атлетики, относящаяся к вертикальным прыжкам технических видов. Составляющие прыжка — разбег, подготовка к отталкиванию, отталкивание, переход через планку и приземлени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Требует от спортсменов прыгучести и координации движений. Проводится в летнем и зимнем сезоне. Является олимпийской дисциплиной лёгкой атлетики для мужчин с 1896 года и для женщин с 1928 год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5600" y="215640"/>
            <a:ext cx="39880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ерешагивание (ножницы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Содержимое 4" descr="729px-High_jump_cissors.svg.png"/>
          <p:cNvPicPr/>
          <p:nvPr/>
        </p:nvPicPr>
        <p:blipFill>
          <a:blip r:embed="rId1"/>
          <a:stretch/>
        </p:blipFill>
        <p:spPr>
          <a:xfrm>
            <a:off x="4410000" y="2071800"/>
            <a:ext cx="4734000" cy="2357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999720"/>
            <a:ext cx="40006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Является наиболее простым и доступным из всех способов прыжка в высоту. Он не требует дорогого инвентаря, специальных поролоновых матов, так как прыгун осуществляет приземление на обе ноги и может прыгать в яму с песко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Этим способом, известным еще с середины XIX века и знакомым современному школьнику, атлеты пользовались примерно до 1937 года и довели мировой рекорд до 2,09 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32860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Перекидно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Содержимое 4" descr="ValeriyBrumel.jpg"/>
          <p:cNvPicPr/>
          <p:nvPr/>
        </p:nvPicPr>
        <p:blipFill>
          <a:blip r:embed="rId1"/>
          <a:stretch/>
        </p:blipFill>
        <p:spPr>
          <a:xfrm>
            <a:off x="5143680" y="2357280"/>
            <a:ext cx="3800160" cy="16765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2640" y="785880"/>
            <a:ext cx="35002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Этот способ, чем то похожий на запрыгивание на лошадь, позволял приблизить центр масс прыгуна ближе к планке и давал преимущество по сравнению с перешагиванием примерно 15 сантиметров. Автор его неизвестен. В 1941 году этим стилем американец Лео Стирс покорил новый мировой рекорд 2,11 м. Этим же стилем прыгал первый советский рекордсмен мира в прыжках в высоту Юрий Степанов взявший в 1957 году 2,16 м. Звездой прыжков и мирового спорта стал Валерий Брумель, шесть раз бивший мировые рекорды вплоть до 2,28 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Последним мировым рекордсменом уже в эпоху следующего стиля (1978) стал Владимир Ященко (СССР), прыгнув на 2,35 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8697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643040"/>
            <a:ext cx="4209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Легкая атлетика - один из самых древних видов спорта. Зародилась она в Древней Греции и составляла основу античных Олимпийских игр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Легкоатлетические упражнения проводились с целью физической подготовки, а также для проведения состязаний ещё в глубокой древност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838080" y="533520"/>
            <a:ext cx="666756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СТОРИЯ  ВОЗНИКНОВЕН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5" name="Freeform 14"/>
          <p:cNvSpPr/>
          <p:nvPr/>
        </p:nvSpPr>
        <p:spPr>
          <a:xfrm>
            <a:off x="1303200" y="2635200"/>
            <a:ext cx="3560760" cy="3651480"/>
          </a:xfrm>
          <a:prstGeom prst="pie">
            <a:avLst/>
          </a:prstGeom>
          <a:solidFill>
            <a:srgbClr val="33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Freeform 15"/>
          <p:cNvSpPr/>
          <p:nvPr/>
        </p:nvSpPr>
        <p:spPr>
          <a:xfrm>
            <a:off x="1822320" y="3591000"/>
            <a:ext cx="349560" cy="806400"/>
          </a:xfrm>
          <a:prstGeom prst="pie">
            <a:avLst/>
          </a:prstGeom>
          <a:solidFill>
            <a:srgbClr val="33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Freeform 16"/>
          <p:cNvSpPr/>
          <p:nvPr/>
        </p:nvSpPr>
        <p:spPr>
          <a:xfrm>
            <a:off x="1625760" y="2708280"/>
            <a:ext cx="3025440" cy="324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Freeform 17"/>
          <p:cNvSpPr/>
          <p:nvPr/>
        </p:nvSpPr>
        <p:spPr>
          <a:xfrm>
            <a:off x="2870280" y="2736720"/>
            <a:ext cx="1371600" cy="1793880"/>
          </a:xfrm>
          <a:prstGeom prst="pie">
            <a:avLst/>
          </a:pr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Freeform 18"/>
          <p:cNvSpPr/>
          <p:nvPr/>
        </p:nvSpPr>
        <p:spPr>
          <a:xfrm>
            <a:off x="2639880" y="2784600"/>
            <a:ext cx="1554120" cy="2084400"/>
          </a:xfrm>
          <a:prstGeom prst="pie">
            <a:avLst/>
          </a:pr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Freeform 19"/>
          <p:cNvSpPr/>
          <p:nvPr/>
        </p:nvSpPr>
        <p:spPr>
          <a:xfrm>
            <a:off x="2044800" y="2855880"/>
            <a:ext cx="1052280" cy="1585800"/>
          </a:xfrm>
          <a:prstGeom prst="pie">
            <a:avLst/>
          </a:pr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Freeform 20"/>
          <p:cNvSpPr/>
          <p:nvPr/>
        </p:nvSpPr>
        <p:spPr>
          <a:xfrm>
            <a:off x="2957400" y="3030480"/>
            <a:ext cx="32868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Freeform 21"/>
          <p:cNvSpPr/>
          <p:nvPr/>
        </p:nvSpPr>
        <p:spPr>
          <a:xfrm>
            <a:off x="2208240" y="3071880"/>
            <a:ext cx="182520" cy="239760"/>
          </a:xfrm>
          <a:prstGeom prst="pie">
            <a:avLst/>
          </a:pr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Freeform 22"/>
          <p:cNvSpPr/>
          <p:nvPr/>
        </p:nvSpPr>
        <p:spPr>
          <a:xfrm>
            <a:off x="2987640" y="3071880"/>
            <a:ext cx="265320" cy="530280"/>
          </a:xfrm>
          <a:prstGeom prst="pie">
            <a:avLst/>
          </a:pr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Freeform 23"/>
          <p:cNvSpPr/>
          <p:nvPr/>
        </p:nvSpPr>
        <p:spPr>
          <a:xfrm>
            <a:off x="4319640" y="3247920"/>
            <a:ext cx="288720" cy="347760"/>
          </a:xfrm>
          <a:prstGeom prst="pie">
            <a:avLst/>
          </a:pr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Freeform 24"/>
          <p:cNvSpPr/>
          <p:nvPr/>
        </p:nvSpPr>
        <p:spPr>
          <a:xfrm>
            <a:off x="3678120" y="3262320"/>
            <a:ext cx="120600" cy="281160"/>
          </a:xfrm>
          <a:prstGeom prst="pie">
            <a:avLst/>
          </a:pr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Freeform 25"/>
          <p:cNvSpPr/>
          <p:nvPr/>
        </p:nvSpPr>
        <p:spPr>
          <a:xfrm>
            <a:off x="3317760" y="3284640"/>
            <a:ext cx="10332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Freeform 26"/>
          <p:cNvSpPr/>
          <p:nvPr/>
        </p:nvSpPr>
        <p:spPr>
          <a:xfrm>
            <a:off x="3340080" y="3328920"/>
            <a:ext cx="57240" cy="69840"/>
          </a:xfrm>
          <a:prstGeom prst="pie">
            <a:avLst/>
          </a:pr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Freeform 27"/>
          <p:cNvSpPr/>
          <p:nvPr/>
        </p:nvSpPr>
        <p:spPr>
          <a:xfrm>
            <a:off x="2095560" y="3371760"/>
            <a:ext cx="81000" cy="206640"/>
          </a:xfrm>
          <a:prstGeom prst="pie">
            <a:avLst/>
          </a:pr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Freeform 28"/>
          <p:cNvSpPr/>
          <p:nvPr/>
        </p:nvSpPr>
        <p:spPr>
          <a:xfrm>
            <a:off x="4478400" y="3386160"/>
            <a:ext cx="55440" cy="4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Freeform 29"/>
          <p:cNvSpPr/>
          <p:nvPr/>
        </p:nvSpPr>
        <p:spPr>
          <a:xfrm>
            <a:off x="4367160" y="3441600"/>
            <a:ext cx="36720" cy="57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Freeform 30"/>
          <p:cNvSpPr/>
          <p:nvPr/>
        </p:nvSpPr>
        <p:spPr>
          <a:xfrm>
            <a:off x="4173480" y="3498840"/>
            <a:ext cx="409680" cy="77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Freeform 31"/>
          <p:cNvSpPr/>
          <p:nvPr/>
        </p:nvSpPr>
        <p:spPr>
          <a:xfrm>
            <a:off x="1890720" y="3720960"/>
            <a:ext cx="131760" cy="228600"/>
          </a:xfrm>
          <a:prstGeom prst="pie">
            <a:avLst/>
          </a:pr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Freeform 32"/>
          <p:cNvSpPr/>
          <p:nvPr/>
        </p:nvSpPr>
        <p:spPr>
          <a:xfrm>
            <a:off x="1925640" y="3765600"/>
            <a:ext cx="46080" cy="44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Freeform 33"/>
          <p:cNvSpPr/>
          <p:nvPr/>
        </p:nvSpPr>
        <p:spPr>
          <a:xfrm>
            <a:off x="2027160" y="3843360"/>
            <a:ext cx="378000" cy="846000"/>
          </a:xfrm>
          <a:prstGeom prst="pie">
            <a:avLst/>
          </a:pr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Freeform 34"/>
          <p:cNvSpPr/>
          <p:nvPr/>
        </p:nvSpPr>
        <p:spPr>
          <a:xfrm>
            <a:off x="1936800" y="3881520"/>
            <a:ext cx="42840" cy="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Freeform 35"/>
          <p:cNvSpPr/>
          <p:nvPr/>
        </p:nvSpPr>
        <p:spPr>
          <a:xfrm>
            <a:off x="1660680" y="3921120"/>
            <a:ext cx="471240" cy="74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Freeform 36"/>
          <p:cNvSpPr/>
          <p:nvPr/>
        </p:nvSpPr>
        <p:spPr>
          <a:xfrm>
            <a:off x="2254320" y="4062240"/>
            <a:ext cx="244440" cy="285840"/>
          </a:xfrm>
          <a:prstGeom prst="pie">
            <a:avLst/>
          </a:pr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Freeform 37"/>
          <p:cNvSpPr/>
          <p:nvPr/>
        </p:nvSpPr>
        <p:spPr>
          <a:xfrm>
            <a:off x="4243320" y="4149720"/>
            <a:ext cx="281160" cy="64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Freeform 38"/>
          <p:cNvSpPr/>
          <p:nvPr/>
        </p:nvSpPr>
        <p:spPr>
          <a:xfrm>
            <a:off x="2340000" y="4233960"/>
            <a:ext cx="355680" cy="32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Freeform 39"/>
          <p:cNvSpPr/>
          <p:nvPr/>
        </p:nvSpPr>
        <p:spPr>
          <a:xfrm>
            <a:off x="3549600" y="4229280"/>
            <a:ext cx="235080" cy="469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Freeform 40"/>
          <p:cNvSpPr/>
          <p:nvPr/>
        </p:nvSpPr>
        <p:spPr>
          <a:xfrm>
            <a:off x="4073400" y="4254480"/>
            <a:ext cx="149400" cy="200160"/>
          </a:xfrm>
          <a:prstGeom prst="pie">
            <a:avLst/>
          </a:pr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Freeform 41"/>
          <p:cNvSpPr/>
          <p:nvPr/>
        </p:nvSpPr>
        <p:spPr>
          <a:xfrm>
            <a:off x="3432240" y="4305240"/>
            <a:ext cx="245880" cy="311040"/>
          </a:xfrm>
          <a:prstGeom prst="pie">
            <a:avLst/>
          </a:pr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Freeform 42"/>
          <p:cNvSpPr/>
          <p:nvPr/>
        </p:nvSpPr>
        <p:spPr>
          <a:xfrm>
            <a:off x="3457440" y="4375080"/>
            <a:ext cx="33480" cy="4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Freeform 43"/>
          <p:cNvSpPr/>
          <p:nvPr/>
        </p:nvSpPr>
        <p:spPr>
          <a:xfrm>
            <a:off x="2489040" y="4398840"/>
            <a:ext cx="200160" cy="273240"/>
          </a:xfrm>
          <a:prstGeom prst="pie">
            <a:avLst/>
          </a:prstGeom>
          <a:solidFill>
            <a:srgbClr val="cca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Freeform 44"/>
          <p:cNvSpPr/>
          <p:nvPr/>
        </p:nvSpPr>
        <p:spPr>
          <a:xfrm>
            <a:off x="3575160" y="4433760"/>
            <a:ext cx="133200" cy="12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Freeform 45"/>
          <p:cNvSpPr/>
          <p:nvPr/>
        </p:nvSpPr>
        <p:spPr>
          <a:xfrm>
            <a:off x="3952800" y="4433760"/>
            <a:ext cx="233280" cy="435240"/>
          </a:xfrm>
          <a:prstGeom prst="pie">
            <a:avLst/>
          </a:pr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Freeform 46"/>
          <p:cNvSpPr/>
          <p:nvPr/>
        </p:nvSpPr>
        <p:spPr>
          <a:xfrm>
            <a:off x="2606760" y="4443480"/>
            <a:ext cx="36360" cy="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Freeform 47"/>
          <p:cNvSpPr/>
          <p:nvPr/>
        </p:nvSpPr>
        <p:spPr>
          <a:xfrm>
            <a:off x="3822840" y="4446720"/>
            <a:ext cx="26820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Freeform 48"/>
          <p:cNvSpPr/>
          <p:nvPr/>
        </p:nvSpPr>
        <p:spPr>
          <a:xfrm>
            <a:off x="2708280" y="4589640"/>
            <a:ext cx="131760" cy="209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Freeform 49"/>
          <p:cNvSpPr/>
          <p:nvPr/>
        </p:nvSpPr>
        <p:spPr>
          <a:xfrm>
            <a:off x="2414520" y="4592520"/>
            <a:ext cx="55800" cy="61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Freeform 50"/>
          <p:cNvSpPr/>
          <p:nvPr/>
        </p:nvSpPr>
        <p:spPr>
          <a:xfrm>
            <a:off x="1947960" y="4635360"/>
            <a:ext cx="68040" cy="87480"/>
          </a:xfrm>
          <a:prstGeom prst="pie">
            <a:avLst/>
          </a:pr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Freeform 51"/>
          <p:cNvSpPr/>
          <p:nvPr/>
        </p:nvSpPr>
        <p:spPr>
          <a:xfrm>
            <a:off x="2736720" y="4624560"/>
            <a:ext cx="85680" cy="134640"/>
          </a:xfrm>
          <a:prstGeom prst="pie">
            <a:avLst/>
          </a:pr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Freeform 52"/>
          <p:cNvSpPr/>
          <p:nvPr/>
        </p:nvSpPr>
        <p:spPr>
          <a:xfrm>
            <a:off x="1754280" y="4641840"/>
            <a:ext cx="490320" cy="347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Freeform 53"/>
          <p:cNvSpPr/>
          <p:nvPr/>
        </p:nvSpPr>
        <p:spPr>
          <a:xfrm>
            <a:off x="3106800" y="4640400"/>
            <a:ext cx="55872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Freeform 54"/>
          <p:cNvSpPr/>
          <p:nvPr/>
        </p:nvSpPr>
        <p:spPr>
          <a:xfrm>
            <a:off x="3448080" y="4672080"/>
            <a:ext cx="576360" cy="10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Freeform 55"/>
          <p:cNvSpPr/>
          <p:nvPr/>
        </p:nvSpPr>
        <p:spPr>
          <a:xfrm>
            <a:off x="2043000" y="4686480"/>
            <a:ext cx="874800" cy="67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Freeform 56"/>
          <p:cNvSpPr/>
          <p:nvPr/>
        </p:nvSpPr>
        <p:spPr>
          <a:xfrm>
            <a:off x="2960640" y="4782960"/>
            <a:ext cx="42840" cy="63720"/>
          </a:xfrm>
          <a:prstGeom prst="pie">
            <a:avLst/>
          </a:prstGeom>
          <a:solidFill>
            <a:srgbClr val="cca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Freeform 57"/>
          <p:cNvSpPr/>
          <p:nvPr/>
        </p:nvSpPr>
        <p:spPr>
          <a:xfrm>
            <a:off x="2994120" y="4827600"/>
            <a:ext cx="93600" cy="58680"/>
          </a:xfrm>
          <a:prstGeom prst="pie">
            <a:avLst/>
          </a:pr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Freeform 58"/>
          <p:cNvSpPr/>
          <p:nvPr/>
        </p:nvSpPr>
        <p:spPr>
          <a:xfrm>
            <a:off x="3774960" y="482760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Freeform 59"/>
          <p:cNvSpPr/>
          <p:nvPr/>
        </p:nvSpPr>
        <p:spPr>
          <a:xfrm>
            <a:off x="3916440" y="4827600"/>
            <a:ext cx="47520" cy="100080"/>
          </a:xfrm>
          <a:prstGeom prst="pie">
            <a:avLst/>
          </a:pr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Freeform 60"/>
          <p:cNvSpPr/>
          <p:nvPr/>
        </p:nvSpPr>
        <p:spPr>
          <a:xfrm>
            <a:off x="4467240" y="4835520"/>
            <a:ext cx="4140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Freeform 61"/>
          <p:cNvSpPr/>
          <p:nvPr/>
        </p:nvSpPr>
        <p:spPr>
          <a:xfrm>
            <a:off x="2930400" y="4905360"/>
            <a:ext cx="522360" cy="392040"/>
          </a:xfrm>
          <a:prstGeom prst="pie">
            <a:avLst/>
          </a:pr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Freeform 62"/>
          <p:cNvSpPr/>
          <p:nvPr/>
        </p:nvSpPr>
        <p:spPr>
          <a:xfrm>
            <a:off x="2779560" y="4973760"/>
            <a:ext cx="578160" cy="360360"/>
          </a:xfrm>
          <a:prstGeom prst="pie">
            <a:avLst/>
          </a:pr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Freeform 63"/>
          <p:cNvSpPr/>
          <p:nvPr/>
        </p:nvSpPr>
        <p:spPr>
          <a:xfrm>
            <a:off x="2119320" y="4986360"/>
            <a:ext cx="112680" cy="200160"/>
          </a:xfrm>
          <a:prstGeom prst="pie">
            <a:avLst/>
          </a:pr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Freeform 64"/>
          <p:cNvSpPr/>
          <p:nvPr/>
        </p:nvSpPr>
        <p:spPr>
          <a:xfrm>
            <a:off x="1833480" y="4995720"/>
            <a:ext cx="165240" cy="465120"/>
          </a:xfrm>
          <a:prstGeom prst="pie">
            <a:avLst/>
          </a:pr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3792600" y="5003640"/>
            <a:ext cx="23760" cy="8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Freeform 66"/>
          <p:cNvSpPr/>
          <p:nvPr/>
        </p:nvSpPr>
        <p:spPr>
          <a:xfrm>
            <a:off x="3800520" y="5141880"/>
            <a:ext cx="158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Freeform 67"/>
          <p:cNvSpPr/>
          <p:nvPr/>
        </p:nvSpPr>
        <p:spPr>
          <a:xfrm>
            <a:off x="2279520" y="5343480"/>
            <a:ext cx="554040" cy="49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Freeform 68"/>
          <p:cNvSpPr/>
          <p:nvPr/>
        </p:nvSpPr>
        <p:spPr>
          <a:xfrm>
            <a:off x="3521160" y="5497560"/>
            <a:ext cx="4492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Freeform 69"/>
          <p:cNvSpPr/>
          <p:nvPr/>
        </p:nvSpPr>
        <p:spPr>
          <a:xfrm>
            <a:off x="3865680" y="5678640"/>
            <a:ext cx="136440" cy="110880"/>
          </a:xfrm>
          <a:prstGeom prst="pie">
            <a:avLst/>
          </a:pr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Freeform 70"/>
          <p:cNvSpPr/>
          <p:nvPr/>
        </p:nvSpPr>
        <p:spPr>
          <a:xfrm>
            <a:off x="3573360" y="5783400"/>
            <a:ext cx="92160" cy="126720"/>
          </a:xfrm>
          <a:prstGeom prst="pie">
            <a:avLst/>
          </a:pr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Freeform 71"/>
          <p:cNvSpPr/>
          <p:nvPr/>
        </p:nvSpPr>
        <p:spPr>
          <a:xfrm>
            <a:off x="2289240" y="5808600"/>
            <a:ext cx="7596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Freeform 72"/>
          <p:cNvSpPr/>
          <p:nvPr/>
        </p:nvSpPr>
        <p:spPr>
          <a:xfrm>
            <a:off x="2844720" y="5848200"/>
            <a:ext cx="8892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Freeform 73"/>
          <p:cNvSpPr/>
          <p:nvPr/>
        </p:nvSpPr>
        <p:spPr>
          <a:xfrm>
            <a:off x="2844720" y="3522600"/>
            <a:ext cx="903240" cy="1120680"/>
          </a:xfrm>
          <a:prstGeom prst="pie">
            <a:avLst/>
          </a:prstGeom>
          <a:solidFill>
            <a:srgbClr val="33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Freeform 74"/>
          <p:cNvSpPr/>
          <p:nvPr/>
        </p:nvSpPr>
        <p:spPr>
          <a:xfrm>
            <a:off x="3056040" y="4211640"/>
            <a:ext cx="1440" cy="1440"/>
          </a:xfrm>
          <a:prstGeom prst="pie">
            <a:avLst/>
          </a:prstGeom>
          <a:solidFill>
            <a:srgbClr val="33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3786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Фосбери-флоп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Содержимое 4" descr="Fosbury.jpg"/>
          <p:cNvPicPr/>
          <p:nvPr/>
        </p:nvPicPr>
        <p:blipFill>
          <a:blip r:embed="rId1"/>
          <a:stretch/>
        </p:blipFill>
        <p:spPr>
          <a:xfrm>
            <a:off x="1285920" y="928800"/>
            <a:ext cx="7858080" cy="5367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428800" y="928800"/>
            <a:ext cx="37148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062e"/>
                </a:solidFill>
                <a:latin typeface="Times New Roman"/>
              </a:rPr>
              <a:t>Этот способ был изобретен американским атлетом по имени Дик Фосбери, когда ему было 16 лет. В 1968 году на Летних Олимпийских играх в Мексике Дик Фосбери с помощью нового способа выиграл золотую олимпийскую награду, установив новый олимпийский рекорд (2,24 метра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85920" y="272520"/>
            <a:ext cx="3214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Горизонтальные </a:t>
            </a:r>
            <a:br>
              <a:rPr sz="2800"/>
            </a:b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      Прыжки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Содержимое 4" descr="222-37.jpg"/>
          <p:cNvPicPr/>
          <p:nvPr/>
        </p:nvPicPr>
        <p:blipFill>
          <a:blip r:embed="rId1"/>
          <a:stretch/>
        </p:blipFill>
        <p:spPr>
          <a:xfrm>
            <a:off x="4983120" y="547560"/>
            <a:ext cx="3732120" cy="55278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3000" y="1214280"/>
            <a:ext cx="3857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ыжок в длину был распространённой дисциплиной античных олимпийских игр. По дошедшим свидетельствам техника прыжка принципиально отличалась от современной. При прыжке атлеты держали в руках специальный груз напоминающий гантели, который перед приземлением отбрасывали назад. Вероятно, считалось, что таким образом они увеличивают длину прыжк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2520"/>
            <a:ext cx="4357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Дальние прыжки с попутным 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                   ветром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Содержимое 4" descr="08032008.jpg"/>
          <p:cNvPicPr/>
          <p:nvPr/>
        </p:nvPicPr>
        <p:blipFill>
          <a:blip r:embed="rId1"/>
          <a:stretch/>
        </p:blipFill>
        <p:spPr>
          <a:xfrm>
            <a:off x="4500720" y="3357720"/>
            <a:ext cx="4410000" cy="31716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2640" y="1214280"/>
            <a:ext cx="4357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оскольку попутный ветер может значительно увеличить дальность прыжка, по правилам ИААФ не регистрируются в качестве рекордов результаты, показанные при скорости попутного ветра более 2 м/с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оэтому лучшие результаты, показанные на соревнованиях, могут превышать официальный мировой рекорд.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272520"/>
            <a:ext cx="378612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МНОГОБОРЬЕ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Содержимое 4" descr="sport4.jpg"/>
          <p:cNvPicPr/>
          <p:nvPr/>
        </p:nvPicPr>
        <p:blipFill>
          <a:blip r:embed="rId1"/>
          <a:stretch/>
        </p:blipFill>
        <p:spPr>
          <a:xfrm>
            <a:off x="4686480" y="2286000"/>
            <a:ext cx="4457520" cy="18572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3920" y="1071720"/>
            <a:ext cx="36435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нтатлон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рвое достоверно известное спортивное многоборье — пентатлон, соревнования по которому проводились в рамках античных Олимпийских игр, начиная с 18-й Олимпиады (708 год до н. э.). Пентатлон (греч. пятиборье) включал бег на 1 стадий, метание диска, метание копья, прыжок и борьбу. Формула соревнований достоверно не известн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272880"/>
            <a:ext cx="371484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Триатлон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Содержимое 6" descr="triathlon.jpg"/>
          <p:cNvPicPr/>
          <p:nvPr/>
        </p:nvPicPr>
        <p:blipFill>
          <a:blip r:embed="rId1"/>
          <a:stretch/>
        </p:blipFill>
        <p:spPr>
          <a:xfrm>
            <a:off x="3089160" y="2500200"/>
            <a:ext cx="5554800" cy="43084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2640" y="999720"/>
            <a:ext cx="37861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ид спорта, включающий в себя три вида спортивных состязаний: плавание, велогонку и бег по шосс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43578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Плавание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7" name="Содержимое 4" descr="triathlon0014.jpg"/>
          <p:cNvPicPr/>
          <p:nvPr/>
        </p:nvPicPr>
        <p:blipFill>
          <a:blip r:embed="rId1"/>
          <a:stretch/>
        </p:blipFill>
        <p:spPr>
          <a:xfrm>
            <a:off x="5143680" y="171468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13920" y="1214280"/>
            <a:ext cx="40006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оревнования начинаются с плавания. Производится массовый старт всех участников с понтона или прямо из воды в длинном триатлоне. В случае пониженной температуры воды допускается использование гидрокостюмов толщиной до 5 мм. Обычно заплыв идет по треугольному маршруту, обозначенному буями и тросами. За каждое произвольное сокращение длины маршрута начисляются штрафные очки или возможна дисквалификация. Спортсмены могут использовать любой стиль плавания, который они предпочитают, но наиболее быстрый кроль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300816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Велогонка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0" name="Содержимое 4" descr="triathlon0009.jpg"/>
          <p:cNvPicPr/>
          <p:nvPr/>
        </p:nvPicPr>
        <p:blipFill>
          <a:blip r:embed="rId1"/>
          <a:stretch/>
        </p:blipFill>
        <p:spPr>
          <a:xfrm>
            <a:off x="4032360" y="185724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786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Олимпийском триатлоне на велоэтапе разрешено лидирование, т.е. спортсмены могут ехать в группе. В триатлоне Ironman лидирование запрещено, спортсмен должен ехать на определенном (примерно 10-15 метров) расстоянии от впереди идущего велосипеда или судейской машины, таким образом аэродинамика велосипеда становится достаточно важно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30081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Бег по шоссе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3" name="Содержимое 4" descr="1172832246_2233.jpg"/>
          <p:cNvPicPr/>
          <p:nvPr/>
        </p:nvPicPr>
        <p:blipFill>
          <a:blip r:embed="rId1"/>
          <a:stretch/>
        </p:blipFill>
        <p:spPr>
          <a:xfrm>
            <a:off x="5000760" y="1428840"/>
            <a:ext cx="3644640" cy="485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4280" y="1214280"/>
            <a:ext cx="35719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Главное правило состоит в том, что спортсмен должен передвигаться на ногах. С одной стороны это очевидно, но с другой стороны, обессиленные бегуны иногда фактически ползком пересекают финишную черт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етя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219320" y="1600200"/>
          <a:ext cx="7772400" cy="4518000"/>
        </p:xfrm>
        <a:graphic>
          <a:graphicData uri="http://schemas.openxmlformats.org/drawingml/2006/table">
            <a:tbl>
              <a:tblPr/>
              <a:tblGrid>
                <a:gridCol w="1554120"/>
                <a:gridCol w="1512720"/>
                <a:gridCol w="1596960"/>
                <a:gridCol w="1554480"/>
                <a:gridCol w="1554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наряд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Женщин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вушк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Юниорк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Юнош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Юниор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Ядр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4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5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6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7.26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Дис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1.5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1.7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2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Копьё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7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Моло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4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5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6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7.26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31435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Мятание Диска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8" name="Содержимое 4" descr="481px-Gerd_Kanter.jpg"/>
          <p:cNvPicPr/>
          <p:nvPr/>
        </p:nvPicPr>
        <p:blipFill>
          <a:blip r:embed="rId1"/>
          <a:stretch/>
        </p:blipFill>
        <p:spPr>
          <a:xfrm>
            <a:off x="4562640" y="428760"/>
            <a:ext cx="4581360" cy="57052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13920" y="785520"/>
            <a:ext cx="3357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етание диска это одна из древнейших спортивных дисциплин связывающая физические упражнения древних и современный спорт. Как показывают исследования историков и археологические раскопки метание диска было популярно в Древней Греции и эти состязания проходили на античных олимпийских играх. Снаряды изготавливались из камня и бронзы, массой 2-6 кг, диаметром от 21 до 34 см. Насколько можно судить по историческим свидетельствам того времени метали атлеты с возвышения, боковым движением когда плоскость диска находилась перпендикулярно земле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России лёгкая атлетика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чалась развиваться с конца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9 век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889 было основано «Общество любителей бега»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908 состоялся чемпиона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сс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913 в Киеве состоялась первая Олимпиад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ервый чемпионат СССР по лёгкой атлетике был проведё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Москве в 1922 году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7" name="Picture 9" descr="____1"/>
          <p:cNvPicPr/>
          <p:nvPr/>
        </p:nvPicPr>
        <p:blipFill>
          <a:blip r:embed="rId1"/>
          <a:stretch/>
        </p:blipFill>
        <p:spPr>
          <a:xfrm>
            <a:off x="6143760" y="2700360"/>
            <a:ext cx="1885680" cy="2295360"/>
          </a:xfrm>
          <a:prstGeom prst="rect">
            <a:avLst/>
          </a:prstGeom>
          <a:ln w="0">
            <a:noFill/>
          </a:ln>
        </p:spPr>
      </p:pic>
      <p:sp>
        <p:nvSpPr>
          <p:cNvPr id="228" name="WordArt 5"/>
          <p:cNvSpPr txBox="1"/>
          <p:nvPr/>
        </p:nvSpPr>
        <p:spPr>
          <a:xfrm>
            <a:off x="1981080" y="609480"/>
            <a:ext cx="6397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РАЗВИТИЕ ЛЁГКОЙ АТЛЕТИКИ В РОССИИ</a:t>
            </a:r>
            <a:endParaRPr b="0" lang="en-US" sz="44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71840" y="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Метание Копья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1" name="Содержимое 4" descr="626px-Bregje_crolla_Europacup_2007.jpg"/>
          <p:cNvPicPr/>
          <p:nvPr/>
        </p:nvPicPr>
        <p:blipFill>
          <a:blip r:embed="rId1"/>
          <a:stretch/>
        </p:blipFill>
        <p:spPr>
          <a:xfrm>
            <a:off x="4032360" y="1643040"/>
            <a:ext cx="5111640" cy="48988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2640" y="1428840"/>
            <a:ext cx="2786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метании копья большую роль играет скорость спортсмена, которую тот приобретает при разгоне. Поэтому, копьеметатели обычно имеют телосложение, сходное со спринтерами, а не плотное и коренастое, характерное для представителей других метательных дисципли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71400" y="-360"/>
            <a:ext cx="343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Толкание ядра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4" name="Содержимое 4" descr="450px-Bundesarchiv_Bild_183-K0215-0025-001,_Hartmut_Briesenick.jpg"/>
          <p:cNvPicPr/>
          <p:nvPr/>
        </p:nvPicPr>
        <p:blipFill>
          <a:blip r:embed="rId1"/>
          <a:stretch/>
        </p:blipFill>
        <p:spPr>
          <a:xfrm>
            <a:off x="4500720" y="428760"/>
            <a:ext cx="4397040" cy="58528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3920" y="1357200"/>
            <a:ext cx="32864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С самого появления толкания ядра как отдельной дисциплины и по наши дни у мужчин в ней доминируют американские атлеты. В разное время вызов им бросали спортсмены СССР, ГДР, а затем Украины и Беларус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 женщин толкание ядра стало популярным видом на послевоенных олимпиадах, начиная с 1948 года. Долгие годы доминировали в этой дисциплине спортсменки СССР, ГДР и Чехословакии. В настоящее время тон задают спортсменки Беларуси, Новой Зеландии, Росси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3920" y="285840"/>
            <a:ext cx="335772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Хлёст туловищем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7" name="Содержимое 4" descr="414px-Bundesarchiv_Bild_183-W0704-0300,_Udo_Beyer.jpg"/>
          <p:cNvPicPr/>
          <p:nvPr/>
        </p:nvPicPr>
        <p:blipFill>
          <a:blip r:embed="rId1"/>
          <a:stretch/>
        </p:blipFill>
        <p:spPr>
          <a:xfrm>
            <a:off x="4857840" y="357120"/>
            <a:ext cx="4038480" cy="58532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85920" y="713880"/>
            <a:ext cx="36432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 1950-е годы выдающийся американский атлет Пери О’Брайен разработал новый метод толчка, который называют «хлёст туловищем» Атлет начинает движение, стоя спиной к будущему направлению толчка, отклоняется далеко вперёд, вынося ядро за пределы круга. Затем мощным движением, поворачиваясь на 180 градусов и одновременно распрямляясь, посылает ядро вперёд и вверх. Стиль «хлёст туловищем» особенно популярен в России, им пользуются атлеты многих других стран, и он имеет большее распространение по сравнению с другими стилями у толкательниц-женщин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3429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Круговой мах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0" name="Содержимое 4" descr="479px-張銘煌.JPG"/>
          <p:cNvPicPr/>
          <p:nvPr/>
        </p:nvPicPr>
        <p:blipFill>
          <a:blip r:embed="rId1"/>
          <a:stretch/>
        </p:blipFill>
        <p:spPr>
          <a:xfrm>
            <a:off x="4464000" y="285840"/>
            <a:ext cx="4680000" cy="58528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85560" y="928440"/>
            <a:ext cx="31431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970-х годах был разработан новый оригинальный метод «кругового маха» .Его автор — выдающийся советский тренер Виктор Алексеев. Выполняя толчок этим стилем, спортсмен становится спиной к сектору и, выполнив полтора оборота, выпускает ядро толчковой руко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71800" y="-360"/>
            <a:ext cx="30081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cc66"/>
                </a:solidFill>
                <a:latin typeface="Times New Roman"/>
              </a:rPr>
              <a:t>Мета́ние мо́лота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3" name="Содержимое 4" descr="454px-2008_Ronald_Gram.JPG"/>
          <p:cNvPicPr/>
          <p:nvPr/>
        </p:nvPicPr>
        <p:blipFill>
          <a:blip r:embed="rId1"/>
          <a:stretch/>
        </p:blipFill>
        <p:spPr>
          <a:xfrm>
            <a:off x="4929120" y="714240"/>
            <a:ext cx="4435560" cy="5853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71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ак спорт метание молота возникло в Шотландии и Ирландии, где изначально бросали какой-либо массивный груз с прикреплённой деревянной рукоятью. С 1866 года в Англии проводятся первые соревнования по метанию молота с жёсткой ручкой. Первый рекорд составлял 24.50 м. Современные правила были установлены в Англия в 1887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71840" y="-360"/>
            <a:ext cx="264312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Спортивная 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      ходьба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6" name="Содержимое 4" descr="800px-2005_World_Championships_in_Athletics_4.jpg.JPG"/>
          <p:cNvPicPr/>
          <p:nvPr/>
        </p:nvPicPr>
        <p:blipFill>
          <a:blip r:embed="rId1"/>
          <a:stretch/>
        </p:blipFill>
        <p:spPr>
          <a:xfrm>
            <a:off x="4476600" y="1643040"/>
            <a:ext cx="4667400" cy="35006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42640" y="1000080"/>
            <a:ext cx="3429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портивная ходьба является чередованием шагов, которые должны выполняться так, чтобы ходок постоянно имел контакт с землёй. При этом должны выполняться следующие два правила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еобходимо, чтобы спортсмен постоянно осуществлял контакт с землей и при этом не происходило видимой для человеческого глаза потери контакт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ынесенная вперед нога должна быть полностью выпрямлена (т.е. не согнута в колене) с момента первого контакта с землей до прохождения вертикал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25714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     </a:t>
            </a:r>
            <a:r>
              <a:rPr b="0" lang="ru-RU" sz="6000" spc="-1" strike="noStrike">
                <a:solidFill>
                  <a:srgbClr val="ffcc66"/>
                </a:solidFill>
                <a:latin typeface="Times New Roman"/>
              </a:rPr>
              <a:t>Конец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428400"/>
            <a:ext cx="278604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Виды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Содержимое 4" descr="400_F_9029555_l4wTMQnh0U5gVgB375oZ8u0cHFKKyZEZ.jpg"/>
          <p:cNvPicPr/>
          <p:nvPr/>
        </p:nvPicPr>
        <p:blipFill>
          <a:blip r:embed="rId1"/>
          <a:stretch/>
        </p:blipFill>
        <p:spPr>
          <a:xfrm>
            <a:off x="4143240" y="1143000"/>
            <a:ext cx="4722840" cy="4649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428480"/>
            <a:ext cx="2786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ег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ег с барьерам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ег с препятствиями(Стипль-чез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Эстафетный бег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ертикальные прыжк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оризонтальные прыжк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ногоборья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етания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Толкание ядра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етание диска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етание молота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етание копья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портивная ходьб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4280" y="272520"/>
            <a:ext cx="3500640" cy="12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Бег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Содержимое 4" descr="485px-Osaka07_D2M_Christine_Arron.jpg"/>
          <p:cNvPicPr/>
          <p:nvPr/>
        </p:nvPicPr>
        <p:blipFill>
          <a:blip r:embed="rId1"/>
          <a:stretch/>
        </p:blipFill>
        <p:spPr>
          <a:xfrm>
            <a:off x="4357800" y="357120"/>
            <a:ext cx="4619520" cy="57056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499760"/>
            <a:ext cx="3214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оревнования по бегу — один из самых старых видов спорта. Включены в программу с самых первых олимпийских игр 1896 года. Для бегунов важнейшими качествами являются: способность поддерживать высокую скорость на дистанции, выносливость (для средних и длинных), скоростная выносливость (для длинного спринта), реакция и тактическое мышление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357192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Бег с барьерами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Содержимое 6" descr="800px-Osaka07_D8M_M110MH_Decathlon_Scene.jpg"/>
          <p:cNvPicPr/>
          <p:nvPr/>
        </p:nvPicPr>
        <p:blipFill>
          <a:blip r:embed="rId1"/>
          <a:stretch/>
        </p:blipFill>
        <p:spPr>
          <a:xfrm>
            <a:off x="4911840" y="1928880"/>
            <a:ext cx="4136760" cy="32148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1428480"/>
            <a:ext cx="3571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ервые упоминания о официальных стартах в барьерном беге относятся к соревнованиям в Англии в 1837 году. В 1885 году бегун Крум из университета Оксфорда продемонстрировал технику преодоления барьеров близкую к современной. Олимпийский дебют на дистанции 110 метров с барьерами состоялся в 1896 году. С 1920-х годов барьерным спринтом начали заниматься и женщины. В 1935 году T-образные барьеры были заменены менее травмоопасными L-образными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тандарт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219320" y="1600200"/>
          <a:ext cx="7772400" cy="43084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560"/>
                <a:gridCol w="1554480"/>
                <a:gridCol w="155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Мужчин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Юнош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Женщин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вушк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Дистанц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110 м/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400 м/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100 м/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400 м/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Расстояние от линии старта до первого барьер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13,7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Расстояние между барьерам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9,1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8,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Расстояние от последнего барьера до  линии финиш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14,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10,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0b5b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357120"/>
            <a:ext cx="42861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Бег с препятствиями</a:t>
            </a:r>
            <a:br>
              <a:rPr sz="2800"/>
            </a:b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(Стипль-чез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Содержимое 6" descr="_40672754_shaheen400.jpg"/>
          <p:cNvPicPr/>
          <p:nvPr/>
        </p:nvPicPr>
        <p:blipFill>
          <a:blip r:embed="rId1"/>
          <a:stretch/>
        </p:blipFill>
        <p:spPr>
          <a:xfrm>
            <a:off x="5334120" y="1785960"/>
            <a:ext cx="3714480" cy="27860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285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ег на 3000 метров с препятствиями ведётся на специально спрофилированной дистанции. При этом препятствие яма с водой выносится на специальный вираж, поэтому старт дистанции даётся с отдельной отметки отличающейся от старта гладких 3000 метров. Дистанция включает в себя преодоление в общей сложности 35 препятствий (включая 7 ям с водой), по 5 на каждом круг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ысота барьеров у мужчин 914 мм (36 дюймов) и у женщин 762 мм (30 дюймов). Длина ямы с водой 3.66 метра (12 футов). Глубина ямы изменяется от 700 миллиметров у барьера до нуля у края ямы. Все барьеры неподвижно закреплены так, чтобы их нельзя было сдвинуть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Бе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Содержимое 4" descr="image011.gif"/>
          <p:cNvPicPr/>
          <p:nvPr/>
        </p:nvPicPr>
        <p:blipFill>
          <a:blip r:embed="rId1"/>
          <a:stretch/>
        </p:blipFill>
        <p:spPr>
          <a:xfrm>
            <a:off x="1357200" y="1928880"/>
            <a:ext cx="7382160" cy="371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09:53:44Z</dcterms:created>
  <dc:creator>Андрюха</dc:creator>
  <dc:description/>
  <dc:language>en-US</dc:language>
  <cp:lastModifiedBy>Admin</cp:lastModifiedBy>
  <dcterms:modified xsi:type="dcterms:W3CDTF">2010-05-17T04:53:07Z</dcterms:modified>
  <cp:revision>53</cp:revision>
  <dc:subject/>
  <dc:title>Физическая культура                 в  начальной школе.</dc:title>
</cp:coreProperties>
</file>