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128-8313-4F0B-A98A-F94DD48B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05A-2A26-4C75-AC3F-7838D246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CCF6-5EAC-41CA-8665-A34732A0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A74-8797-4E9B-83F2-04E12D94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564-4A3F-4E87-8B3C-FA3EA519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2F0-F043-4EC6-8955-3289BCE5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D5E3-BD68-41EB-9B53-F365B8F3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DF0B-1FFA-4966-93AF-8BCE9EB2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7188-BDAD-4170-995D-B4628258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F33-930D-4A7B-8534-9978044A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E9B-745F-4EC5-A05A-6125F350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EB7-CC04-4792-BFB4-30E83F00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6635-C6E9-4A54-A640-E843A6F18C7E}" type="slidenum"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7" descr=""/>
          <p:cNvPicPr/>
          <p:nvPr/>
        </p:nvPicPr>
        <p:blipFill>
          <a:blip r:embed="rId1"/>
          <a:stretch/>
        </p:blipFill>
        <p:spPr>
          <a:xfrm>
            <a:off x="633240" y="1066680"/>
            <a:ext cx="7785360" cy="122580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8" descr=""/>
          <p:cNvPicPr/>
          <p:nvPr/>
        </p:nvPicPr>
        <p:blipFill>
          <a:blip r:embed="rId2"/>
          <a:stretch/>
        </p:blipFill>
        <p:spPr>
          <a:xfrm>
            <a:off x="396720" y="3462480"/>
            <a:ext cx="8253720" cy="1542960"/>
          </a:xfrm>
          <a:prstGeom prst="rect">
            <a:avLst/>
          </a:prstGeom>
          <a:ln w="0">
            <a:noFill/>
          </a:ln>
        </p:spPr>
      </p:pic>
      <p:sp>
        <p:nvSpPr>
          <p:cNvPr id="43" name="Стрелка вниз 11"/>
          <p:cNvSpPr/>
          <p:nvPr/>
        </p:nvSpPr>
        <p:spPr>
          <a:xfrm>
            <a:off x="1285920" y="2428920"/>
            <a:ext cx="428760" cy="1071360"/>
          </a:xfrm>
          <a:prstGeom prst="downArrow">
            <a:avLst>
              <a:gd name="adj1" fmla="val 35574"/>
              <a:gd name="adj2" fmla="val 49975"/>
            </a:avLst>
          </a:prstGeom>
          <a:solidFill>
            <a:srgbClr val="e6b9b8"/>
          </a:solidFill>
          <a:ln w="25560">
            <a:solidFill>
              <a:srgbClr val="ca6e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Стрелка вниз 12"/>
          <p:cNvSpPr/>
          <p:nvPr/>
        </p:nvSpPr>
        <p:spPr>
          <a:xfrm>
            <a:off x="4214880" y="2428920"/>
            <a:ext cx="285840" cy="107136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e6b9b8"/>
          </a:solidFill>
          <a:ln w="25560">
            <a:solidFill>
              <a:srgbClr val="ca6e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Стрелка вниз 13"/>
          <p:cNvSpPr/>
          <p:nvPr/>
        </p:nvSpPr>
        <p:spPr>
          <a:xfrm>
            <a:off x="7072200" y="2428920"/>
            <a:ext cx="285840" cy="107136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e6b9b8"/>
          </a:solidFill>
          <a:ln w="25560">
            <a:solidFill>
              <a:srgbClr val="ca6e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3" descr=""/>
          <p:cNvPicPr/>
          <p:nvPr/>
        </p:nvPicPr>
        <p:blipFill>
          <a:blip r:embed="rId1"/>
          <a:stretch/>
        </p:blipFill>
        <p:spPr>
          <a:xfrm>
            <a:off x="426960" y="-6480"/>
            <a:ext cx="8339040" cy="1676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571400"/>
            <a:ext cx="404028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6" name="Содержимое 8" descr="i.jpeg"/>
          <p:cNvPicPr/>
          <p:nvPr/>
        </p:nvPicPr>
        <p:blipFill>
          <a:blip r:embed="rId2"/>
          <a:stretch/>
        </p:blipFill>
        <p:spPr>
          <a:xfrm>
            <a:off x="642960" y="2714760"/>
            <a:ext cx="3643200" cy="3643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8" name="Содержимое 15" descr="0031-001 - копия.jpg"/>
          <p:cNvPicPr/>
          <p:nvPr/>
        </p:nvPicPr>
        <p:blipFill>
          <a:blip r:embed="rId3"/>
          <a:stretch/>
        </p:blipFill>
        <p:spPr>
          <a:xfrm>
            <a:off x="4714920" y="2714760"/>
            <a:ext cx="389880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1" name="Содержимое 6" descr="image.jpeg"/>
          <p:cNvPicPr/>
          <p:nvPr/>
        </p:nvPicPr>
        <p:blipFill>
          <a:blip r:embed="rId2"/>
          <a:stretch/>
        </p:blipFill>
        <p:spPr>
          <a:xfrm>
            <a:off x="457200" y="2295360"/>
            <a:ext cx="4040280" cy="3710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3" name="Содержимое 7" descr="babel.jpg"/>
          <p:cNvPicPr/>
          <p:nvPr/>
        </p:nvPicPr>
        <p:blipFill>
          <a:blip r:embed="rId3"/>
          <a:stretch/>
        </p:blipFill>
        <p:spPr>
          <a:xfrm>
            <a:off x="4667400" y="2286000"/>
            <a:ext cx="404784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493560" y="353880"/>
            <a:ext cx="8431200" cy="2133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928800" y="2642760"/>
            <a:ext cx="75722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«Покупают сообща буйвола. Если каждые 7 семей внесут по 190 , то недостаток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равен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330.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Если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же каждые 9 семей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внесут по 270,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то избыток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равен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30.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колько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было семей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сколько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стоит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буйвол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Составьте  систему  уравнений  к  задаче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13880" y="2285640"/>
            <a:ext cx="76438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    Для одной лошади и двух коров выдают ежедневно 34 кг сена, а для двух лошадей и одной коровы 35 кг сена. Сколько сена выдают ежедневно для одной лошади и для одной коровы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-42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85880" y="1428480"/>
            <a:ext cx="72151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2    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Все имеющиеся яблоки можно разложить в 6 одинаковых пакетов или в 4 одинаковые коробки. Сколько килограммов  яблок имеется, если в пакет помещается на 1 кг яблок меньше, чем в коробку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85880" y="1500120"/>
            <a:ext cx="75009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    У причала находилось 6 лодок, часть из которых были двухместными, а часть трёхместными . Всего в эти лодки может поместиться 14 человек. Сколько двухместных лодок было у причала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26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0720" y="1073160"/>
            <a:ext cx="8242560" cy="39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26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ятно 1 5"/>
          <p:cNvSpPr/>
          <p:nvPr/>
        </p:nvSpPr>
        <p:spPr>
          <a:xfrm>
            <a:off x="1643040" y="1785960"/>
            <a:ext cx="928800" cy="10000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Пятно 1 7"/>
          <p:cNvSpPr/>
          <p:nvPr/>
        </p:nvSpPr>
        <p:spPr>
          <a:xfrm>
            <a:off x="6929280" y="2500200"/>
            <a:ext cx="914400" cy="91440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Пятно 1 8"/>
          <p:cNvSpPr/>
          <p:nvPr/>
        </p:nvSpPr>
        <p:spPr>
          <a:xfrm>
            <a:off x="5786280" y="5000760"/>
            <a:ext cx="914400" cy="91440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Пятно 1 9"/>
          <p:cNvSpPr/>
          <p:nvPr/>
        </p:nvSpPr>
        <p:spPr>
          <a:xfrm>
            <a:off x="1571760" y="5000760"/>
            <a:ext cx="914400" cy="91440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Пятно 1 11"/>
          <p:cNvSpPr/>
          <p:nvPr/>
        </p:nvSpPr>
        <p:spPr>
          <a:xfrm>
            <a:off x="4143240" y="3071880"/>
            <a:ext cx="914400" cy="91440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Пятно 1 12"/>
          <p:cNvSpPr/>
          <p:nvPr/>
        </p:nvSpPr>
        <p:spPr>
          <a:xfrm>
            <a:off x="4714920" y="714240"/>
            <a:ext cx="914400" cy="91440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150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7" dur="150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150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5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2" dur="15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" dur="15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150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150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150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15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2" dur="15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" dur="15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7" dur="1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" dur="1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1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2" dur="1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1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2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Lake.wmv" descr=""/>
          <p:cNvPicPr/>
          <p:nvPr/>
        </p:nvPicPr>
        <p:blipFill>
          <a:blip r:embed="rId1"/>
          <a:stretch/>
        </p:blipFill>
        <p:spPr>
          <a:xfrm>
            <a:off x="1000080" y="1571760"/>
            <a:ext cx="7286760" cy="4572000"/>
          </a:xfrm>
          <a:prstGeom prst="rect">
            <a:avLst/>
          </a:prstGeom>
          <a:ln w="0">
            <a:noFill/>
          </a:ln>
        </p:spPr>
      </p:pic>
      <p:pic>
        <p:nvPicPr>
          <p:cNvPr id="47" name="Заголовок 6" descr=""/>
          <p:cNvPicPr/>
          <p:nvPr/>
        </p:nvPicPr>
        <p:blipFill>
          <a:blip r:embed="rId2"/>
          <a:stretch/>
        </p:blipFill>
        <p:spPr>
          <a:xfrm>
            <a:off x="384120" y="566640"/>
            <a:ext cx="835812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Gothic"/>
              </a:rPr>
              <a:t>задача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За 4 часа езды на автомобиле и 7 часов езды на поезде туристы проехали 640 км. Какова скорость автомобиля, если она на 5 км/ч больше скорости поезда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0" y="371448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Gothic"/>
              </a:rPr>
              <a:t>Х – У = 5    (1)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57168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усть скорость автомобиля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а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- х км/ч, а скорость поезда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– у км/ч. Зная, что скорость автомобиля больше скорости поезда на 5 км/ч, можно составить уравнение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022E-016 L -0.94219 0.00116 E">
                                      <p:cBhvr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0" y="364284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ru-RU" sz="4800" spc="-1" strike="noStrike">
                <a:solidFill>
                  <a:srgbClr val="000000"/>
                </a:solidFill>
                <a:latin typeface="Century Gothic"/>
              </a:rPr>
              <a:t>4у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64260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оезд     двигался   со   скоростью   у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км/ч 4 часа. Путь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, проделанный поездом за это время, можно записать выражением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156 0.01157 L -0.95 0.00115 E">
                                      <p:cBhvr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15120" y="35719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а </a:t>
            </a: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 = 7х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997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Автомобиль находился в пути 7 часов и двигаясь со скоростью х км/ч,  преодолел  расстояние  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L -0.73125 -0.00926 E">
                                      <p:cBhvr>
                                        <p:cTn id="2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143920" y="40719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Gothic"/>
              </a:rPr>
              <a:t>7х + 4у = 640   (2)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400" y="856800"/>
            <a:ext cx="825804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о условию задачи всего туристы проехали 640 км. Весь путь 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остоит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из пути проделанного поездом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и пути проделанного автомобилем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праведливо равенство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а.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оставим второе уравнение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022E-016 L -0.83282 -0.00903 E">
                                      <p:cBhvr>
                                        <p:cTn id="3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6" descr=""/>
          <p:cNvPicPr/>
          <p:nvPr/>
        </p:nvPicPr>
        <p:blipFill>
          <a:blip r:embed="rId1"/>
          <a:stretch/>
        </p:blipFill>
        <p:spPr>
          <a:xfrm>
            <a:off x="360360" y="4449600"/>
            <a:ext cx="8418600" cy="1627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00040" y="571320"/>
            <a:ext cx="8229600" cy="375732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бъединим  уравнения  (1)  и  (2)  в систему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7х + 4у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640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Левая фигурная скобка 3"/>
          <p:cNvSpPr/>
          <p:nvPr/>
        </p:nvSpPr>
        <p:spPr>
          <a:xfrm>
            <a:off x="3214800" y="228600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Ответ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скорость автомобил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60 км/ч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2" name="Содержимое 8" descr="Копия CV0116 - копия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9" descr="Копия CV0116.JPG"/>
          <p:cNvPicPr/>
          <p:nvPr/>
        </p:nvPicPr>
        <p:blipFill>
          <a:blip r:embed="rId2"/>
          <a:stretch/>
        </p:blipFill>
        <p:spPr>
          <a:xfrm>
            <a:off x="9564840" y="4572000"/>
            <a:ext cx="43750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125 -0.00371 L -1.59618 0.00694 E">
                                      <p:cBhvr>
                                        <p:cTn id="47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40:27Z</dcterms:created>
  <dc:creator>Катя</dc:creator>
  <dc:description/>
  <dc:language>en-US</dc:language>
  <cp:lastModifiedBy>школа</cp:lastModifiedBy>
  <dcterms:modified xsi:type="dcterms:W3CDTF">2012-02-08T06:13:51Z</dcterms:modified>
  <cp:revision>88</cp:revision>
  <dc:subject/>
  <dc:title>Слайд 1</dc:title>
</cp:coreProperties>
</file>