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wmf" ContentType="image/x-wmf"/>
  <Override PartName="/ppt/media/image7.jpeg" ContentType="image/jpeg"/>
  <Override PartName="/ppt/media/image10.wmf" ContentType="image/x-wmf"/>
  <Override PartName="/ppt/media/image6.wmf" ContentType="image/x-wmf"/>
  <Override PartName="/ppt/media/image8.wmf" ContentType="image/x-wmf"/>
  <Override PartName="/ppt/media/image9.wmf" ContentType="image/x-wmf"/>
  <Override PartName="/ppt/media/image11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9E8F-87C4-4844-9D46-A4BFAE409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DC6B-FFBD-47F7-B0A7-FA6B62E93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A1CE-433A-4750-BFDB-8A7E0C479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D829-F6CB-4FCF-8B03-C4A16BA4B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9674F-3A29-4A5B-93E3-0E71D3C87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53CB5-48EA-4861-B593-EC2458D4C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026A3-4CAF-42AA-9D9E-4B30D63B7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62C62-F4B4-4850-89C4-8277ABE12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EA19E-05D3-420D-9A69-ADF05B3D9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D68E8-0144-46F8-B1C9-892686512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EB016-284B-4F3E-BF2D-28BD4B34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A74D-6338-42EB-9D63-8CEB0D557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17821-EF70-4B8A-8934-1229751B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98EA8-BBEB-4AD2-BF37-A05154EF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D389D-57B5-4BCD-9B1A-2470C5367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30971-3F94-4E14-9AED-53EB2F4CA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7B0C7-8ECC-4643-9703-3D5872D87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1051-F75B-4FFB-B9C5-1C762B017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5882-1FD1-49E9-9D5B-5AF491070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9CA6-80EC-4343-8B51-E0F5B5834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5A45-BB76-4250-8197-E5125D9BE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6BDB-B604-4006-84F9-90446937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AC9C-4628-4D85-BA53-868815DA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4450-F7C8-464C-8790-FD526A0C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33EDB-8B4B-416F-8F5A-34DACDCCF34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C699E-C52A-4ABE-8291-A92D8C426E6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523520" y="388584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езентация учеников 2 класса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уровцевой Анастасии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узиной Александр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лушковой Анн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WordArt 4"/>
          <p:cNvSpPr txBox="1"/>
          <p:nvPr/>
        </p:nvSpPr>
        <p:spPr>
          <a:xfrm>
            <a:off x="1523880" y="1066680"/>
            <a:ext cx="6400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О чём может рассказать вода?</a:t>
            </a:r>
            <a:endParaRPr b="1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Что мы хотим узнать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чему Землю называют «Голубая планета»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де есть вода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ие свойства имеет вода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чем нужна вода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Для этого мы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ссматриваем глобус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дбираем картинки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водим опыты по изучению свойств воды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водим опрос одноклассников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зучаем дополнительную литератур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очему Землю называют «Голубая планета?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ды на планете очень много! Гораздо больше, чем суш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оря и океаны занимают 71 % площади Земл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1030" descr="C:\Program Files\Common Files\Microsoft Shared\Clipart\cagcat50\MP00640_.wmf"/>
          <p:cNvPicPr/>
          <p:nvPr/>
        </p:nvPicPr>
        <p:blipFill>
          <a:blip r:embed="rId1"/>
          <a:stretch/>
        </p:blipFill>
        <p:spPr>
          <a:xfrm>
            <a:off x="685800" y="2141640"/>
            <a:ext cx="3276720" cy="32623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Где есть вода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8" name="Picture 11" descr="C:\Documents and Settings\user709.IPKPS\Рабочий стол\Lyashko-Nazina-Peremishlennikova\media-materials\река4.jpg"/>
          <p:cNvPicPr/>
          <p:nvPr/>
        </p:nvPicPr>
        <p:blipFill>
          <a:blip r:embed="rId1"/>
          <a:stretch/>
        </p:blipFill>
        <p:spPr>
          <a:xfrm>
            <a:off x="457200" y="4419720"/>
            <a:ext cx="2189160" cy="1904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C:\Documents and Settings\user709.IPKPS\Рабочий стол\Lyashko-Nazina-Peremishlennikova\media-materials\дождь2.jpg"/>
          <p:cNvPicPr/>
          <p:nvPr/>
        </p:nvPicPr>
        <p:blipFill>
          <a:blip r:embed="rId2"/>
          <a:stretch/>
        </p:blipFill>
        <p:spPr>
          <a:xfrm>
            <a:off x="6248520" y="4419720"/>
            <a:ext cx="2541600" cy="1800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5" descr="C:\Program Files\Common Files\Microsoft Shared\Clipart\cagcat50\NA01441_.wmf"/>
          <p:cNvPicPr/>
          <p:nvPr/>
        </p:nvPicPr>
        <p:blipFill>
          <a:blip r:embed="rId3"/>
          <a:stretch/>
        </p:blipFill>
        <p:spPr>
          <a:xfrm>
            <a:off x="1066680" y="1752480"/>
            <a:ext cx="1687680" cy="1905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6" descr="C:\Program Files\Common Files\Microsoft Shared\Clipart\cagcat50\AN02097_.wmf"/>
          <p:cNvPicPr/>
          <p:nvPr/>
        </p:nvPicPr>
        <p:blipFill>
          <a:blip r:embed="rId4"/>
          <a:stretch/>
        </p:blipFill>
        <p:spPr>
          <a:xfrm>
            <a:off x="4343400" y="2133720"/>
            <a:ext cx="1108080" cy="1295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8" descr="C:\Documents and Settings\user709.IPKPS\Рабочий стол\Lyashko-Nazina-Peremishlennikova\media-materials\капелька1.jpg"/>
          <p:cNvPicPr/>
          <p:nvPr/>
        </p:nvPicPr>
        <p:blipFill>
          <a:blip r:embed="rId5"/>
          <a:stretch/>
        </p:blipFill>
        <p:spPr>
          <a:xfrm>
            <a:off x="6705720" y="1905120"/>
            <a:ext cx="2019240" cy="19810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9"/>
          <p:cNvSpPr/>
          <p:nvPr/>
        </p:nvSpPr>
        <p:spPr>
          <a:xfrm>
            <a:off x="3429000" y="4267080"/>
            <a:ext cx="2514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луже, в реке, в море, в водопроводе, в растениях , животных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Какие свойства имеет вода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ода прозрачная (в ней видны опущенные в неё предметы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ода бесцветная (её можно подкрасить акварельными красками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е имеет запаха (ее запах зависит от растворённого в ней вещества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ода жидкая (принимает форму сосуда в котором находится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и нагревании вода превращается в пар, при охлаждении в ле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Зачем нужна вода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190760" y="4191120"/>
            <a:ext cx="373356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Жизнь  человека, животных и растений невозможна без воды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4" descr="C:\Program Files\Common Files\Microsoft Shared\Clipart\cagcat50\AN02542_.wmf"/>
          <p:cNvPicPr/>
          <p:nvPr/>
        </p:nvPicPr>
        <p:blipFill>
          <a:blip r:embed="rId1"/>
          <a:stretch/>
        </p:blipFill>
        <p:spPr>
          <a:xfrm>
            <a:off x="1447920" y="5105520"/>
            <a:ext cx="1108080" cy="1071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C:\Program Files\Common Files\Microsoft Shared\Clipart\cagcat50\NA00864_.wmf"/>
          <p:cNvPicPr/>
          <p:nvPr/>
        </p:nvPicPr>
        <p:blipFill>
          <a:blip r:embed="rId2"/>
          <a:stretch/>
        </p:blipFill>
        <p:spPr>
          <a:xfrm>
            <a:off x="5943600" y="1366920"/>
            <a:ext cx="2514600" cy="2173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C:\Program Files\Common Files\Microsoft Shared\Clipart\cagcat50\PE02043_.wmf"/>
          <p:cNvPicPr/>
          <p:nvPr/>
        </p:nvPicPr>
        <p:blipFill>
          <a:blip r:embed="rId3"/>
          <a:stretch/>
        </p:blipFill>
        <p:spPr>
          <a:xfrm>
            <a:off x="7543800" y="4894200"/>
            <a:ext cx="1344600" cy="1963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C:\Documents and Settings\user709.IPKPS\Рабочий стол\Lyashko-Nazina-Peremishlennikova\media-materials\река3.jpg"/>
          <p:cNvPicPr/>
          <p:nvPr/>
        </p:nvPicPr>
        <p:blipFill>
          <a:blip r:embed="rId4"/>
          <a:stretch/>
        </p:blipFill>
        <p:spPr>
          <a:xfrm>
            <a:off x="685800" y="1981080"/>
            <a:ext cx="3429000" cy="2971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Литература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сё обо всём – энциклопедия (в 14 томах) М., 1998-2000г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итрих А.К., Юрмин Г.Почемучка. М., 1988г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icture 4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5257800" y="4191120"/>
            <a:ext cx="2063880" cy="1800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07:59:25Z</dcterms:created>
  <dc:creator>user709</dc:creator>
  <dc:description/>
  <dc:language>en-US</dc:language>
  <cp:lastModifiedBy>Пользователь</cp:lastModifiedBy>
  <dcterms:modified xsi:type="dcterms:W3CDTF">2012-02-11T13:43:14Z</dcterms:modified>
  <cp:revision>12</cp:revision>
  <dc:subject/>
  <dc:title>О чём может рассказать вода?</dc:title>
</cp:coreProperties>
</file>