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60D-6D4C-4952-B609-27F76975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3DA-5537-4EF6-9808-685EC124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935-D6ED-4176-A74B-CC41C060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6F3-8D3E-4A05-AC3B-FB8103D6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F4B-5013-4861-A632-028D6527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A71-7C23-459D-877A-E2783B36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8D4-B9DC-412A-8D3D-F2B5A736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FE4-2357-4CA6-AE89-395244E4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CBF-1677-4F84-996E-210641AE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F58-182A-495F-AF51-AF0075BE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200-4EC7-4B72-A402-2241A7D0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CD5-5328-4051-897E-316C64EF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85C5-4895-4384-B8A8-42460737B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39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cc99"/>
                </a:solidFill>
                <a:latin typeface="Arial Black"/>
              </a:rPr>
              <a:t>Обобщение и  систематизация знаний по теме « Химические</a:t>
            </a:r>
            <a:br>
              <a:rPr sz="4400"/>
            </a:br>
            <a:r>
              <a:rPr b="0" lang="ru-RU" sz="4400" spc="-1" strike="noStrike">
                <a:solidFill>
                  <a:srgbClr val="00cc99"/>
                </a:solidFill>
                <a:latin typeface="Arial Black"/>
              </a:rPr>
              <a:t>реакц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solidFill>
            <a:srgbClr val="88fa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е количество теплоты выделится при нейтрализаци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×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олекул серной кислот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solidFill>
            <a:srgbClr val="88fa6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×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4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молекул                            </a:t>
            </a:r>
            <a:r>
              <a:rPr b="1" lang="ru-RU" sz="4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? кДж</a:t>
            </a:r>
            <a:r>
              <a:rPr b="1" lang="ru-RU" sz="32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aO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+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+Na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+290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Д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solidFill>
            <a:srgbClr val="a1e7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тавь коэффициен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йди реакции, в которых взаимодействуют между собой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жел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зеленый и небесно-голубой; б) тяжелый и  светло-желта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зловонный и светящий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7efa81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 = 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s =Cs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Ba + S = B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l 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C 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O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P + 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P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P  + 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H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ариант                          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амостоятельная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924280"/>
          </a:xfrm>
          <a:prstGeom prst="rect">
            <a:avLst/>
          </a:prstGeom>
          <a:solidFill>
            <a:srgbClr val="f1fb8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Расшифруйте схемы химических процессов, запиши их с помощью химических символов и индексов, расставьте коэффициенты, определите тип 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9144000" cy="3716280"/>
          </a:xfrm>
          <a:prstGeom prst="rect">
            <a:avLst/>
          </a:prstGeom>
          <a:solidFill>
            <a:srgbClr val="f8922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   1-1 + 8-8   = 1-8-1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   1-1 + 12-8 = 12 + 1-8-1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   1-1 + 16    = 1-16-1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)     8-8-8    =   8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9bd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авьте коэффициенты и определите тип реа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3fca2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g + CuCl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= AgCl +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eS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+NaOH = Fe(OH)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+ Na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e(OH)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= Fe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+ 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  + Cl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= KCl +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Arial"/>
              </a:rPr>
              <a:t>Химическая реакция</a:t>
            </a:r>
            <a:br>
              <a:rPr sz="4400"/>
            </a:br>
            <a:r>
              <a:rPr b="0" lang="ru-RU" sz="4400" spc="-1" strike="noStrike">
                <a:solidFill>
                  <a:srgbClr val="008080"/>
                </a:solidFill>
                <a:latin typeface="Arial"/>
              </a:rPr>
              <a:t> Признаки химических реакций</a:t>
            </a:r>
            <a:br>
              <a:rPr sz="4400"/>
            </a:br>
            <a:r>
              <a:rPr b="0" lang="ru-RU" sz="4400" spc="-1" strike="noStrike">
                <a:solidFill>
                  <a:srgbClr val="008080"/>
                </a:solidFill>
                <a:latin typeface="Arial"/>
              </a:rPr>
              <a:t>Реагенты</a:t>
            </a:r>
            <a:br>
              <a:rPr sz="4400"/>
            </a:br>
            <a:r>
              <a:rPr b="0" lang="ru-RU" sz="4400" spc="-1" strike="noStrike">
                <a:solidFill>
                  <a:srgbClr val="008080"/>
                </a:solidFill>
                <a:latin typeface="Arial"/>
              </a:rPr>
              <a:t>По каким признакам классифицируют химические реакц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efa8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рь себя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1fb8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g + CuCl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gCl +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eS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aOH = Fe(OH)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+ Na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e(OH)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= Fe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+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  + Cl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Cl +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примере реакции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 2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ажите справедливость закона сохранения массы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«Крестики-нолик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ыигрышный путь – металлы, вступающие в реакцию с кисло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3fca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Cu         Al        M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Fe         Zn       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Ag         Hg      P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2627280" y="2708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4643280" y="270828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1258920" y="37162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258920" y="5516640"/>
            <a:ext cx="47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bdfca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«Крестики-нолики»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игрышный путь- металлы, вытесняющие медь из хлорида меди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        Zn       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i         Fe       H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         Ag     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76720" y="263700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5076720" y="270828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908000" y="3789360"/>
            <a:ext cx="47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908000" y="5229360"/>
            <a:ext cx="47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сстановите за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a1e7f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моль              ?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OH)..</a:t>
            </a:r>
            <a:r>
              <a:rPr b="1" lang="ru-RU" sz="40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+Н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..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= Ba(N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.. +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×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4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молекул                            </a:t>
            </a:r>
            <a:r>
              <a:rPr b="1" lang="ru-RU" sz="4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? кДж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aO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+ 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+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... +290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Д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81360"/>
          </a:xfrm>
          <a:prstGeom prst="rect">
            <a:avLst/>
          </a:prstGeom>
          <a:solidFill>
            <a:srgbClr val="88fa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масса азотной кислоты потребуется для полной нейтрализации гидроксида бария количеством 2 мо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88fa6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моль         ?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OH)</a:t>
            </a:r>
            <a:r>
              <a:rPr b="1" lang="ru-RU" sz="40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+2Н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1" lang="ru-RU" sz="4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= Ba(N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+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2Н</a:t>
            </a:r>
            <a:r>
              <a:rPr b="1" lang="ru-RU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8:13:32Z</dcterms:created>
  <dc:creator>MEMPHIS</dc:creator>
  <dc:description/>
  <dc:language>en-US</dc:language>
  <cp:lastModifiedBy>Пользователь</cp:lastModifiedBy>
  <dcterms:modified xsi:type="dcterms:W3CDTF">2012-02-10T14:59:59Z</dcterms:modified>
  <cp:revision>10</cp:revision>
  <dc:subject/>
  <dc:title>Обобщение и систематизация знаний по темам «Классификация сложных веществ» и «Химические реакции»</dc:title>
</cp:coreProperties>
</file>