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applause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A529-5AF3-46C8-BD1E-11AD8B976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95CB-16D3-431E-B1D4-8E50ADB6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1869-F78C-46C2-B2B7-E176CC980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C9B4-E152-4C0F-84B7-D1A2F617E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51A5-5341-4915-94D2-F32E37CA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C680-EF5E-49FB-A00E-EF04778E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F68D-6E12-4F84-A5F3-2F549929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CA3D-8035-4A8D-9488-3E510EDA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B59B-9D31-41A9-A245-95109C1D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4972-6ACC-4F06-8AE8-F9BC6549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27A0-9BEB-41A6-8FC0-F0ACCC3E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7817-0AFC-45D9-9870-C42FC57D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4697-84D2-48F4-B8AD-0058FA624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_SeriferExpTitul"/>
              </a:rPr>
              <a:t>Город на Ка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_LatinoTitulSpUp"/>
              </a:rPr>
              <a:t>Презента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_LatinoTitulSpUp"/>
              </a:rPr>
              <a:t>ученицы класса 8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_LatinoTitulSpUp"/>
              </a:rPr>
              <a:t>Ошмариной Анаста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diamond/>
    <p:sndAc>
      <p:stSnd>
        <p:snd r:embed="rId2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.Матросов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Последний рейс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 земле холодной ветер клон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брежные куст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жали желтые ладо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зябшие лис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да груженые по Ка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дут в последний рей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брызги падают на камен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росы на заре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тят вослед за карава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щальные гу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ымок, придавленный туман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ожится на пе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да идут. Синеют гор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деет плюш сос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щайте, камские простор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 Будущей весн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  <p:sndAc>
      <p:stSnd>
        <p:snd r:embed="rId2" name="applaus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Е.Трутн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уман за Камой тянется, как ва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еловые, в сосновые ле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ывут над Камой облака куда-т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правив в синем небе пар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нуют по Каме лодки – перепра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берега – смолой пропахший пл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 Камой лес – зеленая дуб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грибами, с клюквой, с кочками бол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  <p:sndAc>
      <p:stSnd>
        <p:snd r:embed="rId2" name="applaus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66"/>
                </a:solidFill>
                <a:latin typeface="Arial"/>
              </a:rPr>
              <a:t>Б.Михайлов</a:t>
            </a:r>
            <a:br>
              <a:rPr sz="4000"/>
            </a:br>
            <a:r>
              <a:rPr b="0" i="1" lang="en-US" sz="4000" spc="-1" strike="noStrike">
                <a:solidFill>
                  <a:srgbClr val="ff0066"/>
                </a:solidFill>
                <a:latin typeface="Arial"/>
              </a:rPr>
              <a:t>«На Кам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26920" y="1628280"/>
            <a:ext cx="453708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В кустах под откосом гитара бренчи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Над Камой зеленая чайка кричи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Волна налетит… И о камень разбит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Сиянием радуг осыплет раки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Обратно отхлынет весельем пол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Волна, молодая такая вол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Не птица готовится в дальний полет,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Качается мачта и ветер поет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Мы парус направим. И, носом ныря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Кипучую пену взметнув за корм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Послушная яхта в дорогу без к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Направится след начертить голуб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Мы трудимся дружно, а день выход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На солнце ласкает, качает волн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Не птица пускается в дальний поле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А яхта несется и ветер поет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_SeriferNrCps"/>
              </a:rPr>
              <a:t>В.Каменский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_SeriferNrCps"/>
              </a:rPr>
              <a:t>«Смотришь на Кам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_BodoniNova"/>
              </a:rPr>
              <a:t>Смотришь на Каму-</a:t>
            </a:r>
            <a:r>
              <a:rPr b="1" lang="en-US" sz="1800" spc="-1" strike="noStrike">
                <a:solidFill>
                  <a:srgbClr val="0066ff"/>
                </a:solidFill>
                <a:latin typeface="a_BodoniNov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_BodoniNova"/>
              </a:rPr>
              <a:t>                    </a:t>
            </a:r>
            <a:r>
              <a:rPr b="1" lang="en-US" sz="1800" spc="-1" strike="noStrike">
                <a:solidFill>
                  <a:srgbClr val="0066ff"/>
                </a:solidFill>
                <a:latin typeface="a_BodoniNova"/>
              </a:rPr>
              <a:t>Сверкают глаз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_BodoniNova"/>
              </a:rPr>
              <a:t>Вечно зовё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_BodoniNova"/>
              </a:rPr>
              <a:t>                   </a:t>
            </a:r>
            <a:r>
              <a:rPr b="1" lang="en-US" sz="1800" spc="-1" strike="noStrike">
                <a:solidFill>
                  <a:srgbClr val="0066ff"/>
                </a:solidFill>
                <a:latin typeface="a_BodoniNova"/>
              </a:rPr>
              <a:t>За собой бирюз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_BodoniNova"/>
              </a:rPr>
              <a:t>Так бы и се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_BodoniNova"/>
              </a:rPr>
              <a:t>                   </a:t>
            </a:r>
            <a:r>
              <a:rPr b="1" lang="en-US" sz="1800" spc="-1" strike="noStrike">
                <a:solidFill>
                  <a:srgbClr val="0066ff"/>
                </a:solidFill>
                <a:latin typeface="a_BodoniNova"/>
              </a:rPr>
              <a:t>На любой парохо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_BodoniNova"/>
              </a:rPr>
              <a:t>Покатил бы в раздоль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_BodoniNova"/>
              </a:rPr>
              <a:t>                   </a:t>
            </a:r>
            <a:r>
              <a:rPr b="1" lang="en-US" sz="1800" spc="-1" strike="noStrike">
                <a:solidFill>
                  <a:srgbClr val="0066ff"/>
                </a:solidFill>
                <a:latin typeface="a_BodoniNova"/>
              </a:rPr>
              <a:t>В зелёный про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_BodoniNova"/>
              </a:rPr>
              <a:t>Меж лесных берег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_BodoniNova"/>
              </a:rPr>
              <a:t>                   </a:t>
            </a:r>
            <a:r>
              <a:rPr b="1" lang="en-US" sz="1800" spc="-1" strike="noStrike">
                <a:solidFill>
                  <a:srgbClr val="0066ff"/>
                </a:solidFill>
                <a:latin typeface="a_BodoniNova"/>
              </a:rPr>
              <a:t>Аметистовых го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_BodoniNova"/>
              </a:rPr>
              <a:t>Меж полей и лу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_BodoniNova"/>
              </a:rPr>
              <a:t>                   </a:t>
            </a:r>
            <a:r>
              <a:rPr b="1" lang="en-US" sz="1800" spc="-1" strike="noStrike">
                <a:solidFill>
                  <a:srgbClr val="0066ff"/>
                </a:solidFill>
                <a:latin typeface="a_BodoniNova"/>
              </a:rPr>
              <a:t>На узорный прост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_BodoniNova"/>
              </a:rPr>
              <a:t>Зазвенели б в ду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_BodoniNova"/>
              </a:rPr>
              <a:t>                   </a:t>
            </a:r>
            <a:r>
              <a:rPr b="1" lang="en-US" sz="1800" spc="-1" strike="noStrike">
                <a:solidFill>
                  <a:srgbClr val="0066ff"/>
                </a:solidFill>
                <a:latin typeface="a_BodoniNova"/>
              </a:rPr>
              <a:t>Васильковые дн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_BodoniNova"/>
              </a:rPr>
              <a:t>Загорелись бы звёз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_BodoniNova"/>
              </a:rPr>
              <a:t>                   </a:t>
            </a:r>
            <a:r>
              <a:rPr b="1" lang="en-US" sz="1800" spc="-1" strike="noStrike">
                <a:solidFill>
                  <a:srgbClr val="0066ff"/>
                </a:solidFill>
                <a:latin typeface="a_BodoniNova"/>
              </a:rPr>
              <a:t>Золотые</a:t>
            </a:r>
            <a:r>
              <a:rPr b="0" lang="en-US" sz="1800" spc="-1" strike="noStrike">
                <a:solidFill>
                  <a:srgbClr val="0066ff"/>
                </a:solidFill>
                <a:latin typeface="a_BodoniNova"/>
              </a:rPr>
              <a:t> ог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_BodoniNova"/>
              </a:rPr>
              <a:t>Засветились бы песни</a:t>
            </a:r>
            <a:r>
              <a:rPr b="0" lang="en-US" sz="1800" spc="-1" strike="noStrike">
                <a:solidFill>
                  <a:srgbClr val="0066ff"/>
                </a:solidFill>
                <a:latin typeface="a_BodoniNov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_BodoniNova"/>
              </a:rPr>
              <a:t>           </a:t>
            </a:r>
            <a:r>
              <a:rPr b="1" lang="en-US" sz="1800" spc="-1" strike="noStrike">
                <a:solidFill>
                  <a:srgbClr val="0066ff"/>
                </a:solidFill>
                <a:latin typeface="a_BodoniNova"/>
              </a:rPr>
              <a:t>Как мир разод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_BodoniNova"/>
              </a:rPr>
              <a:t>Как мы всё чудесн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_BodoniNova"/>
              </a:rPr>
              <a:t>                      </a:t>
            </a:r>
            <a:r>
              <a:rPr b="1" lang="en-US" sz="1800" spc="-1" strike="noStrike">
                <a:solidFill>
                  <a:srgbClr val="0066ff"/>
                </a:solidFill>
                <a:latin typeface="a_BodoniNova"/>
              </a:rPr>
              <a:t>Растём для побе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_BodoniNova"/>
              </a:rPr>
              <a:t>Мы свою Родин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_BodoniNova"/>
              </a:rPr>
              <a:t>                      </a:t>
            </a:r>
            <a:r>
              <a:rPr b="1" lang="en-US" sz="1800" spc="-1" strike="noStrike">
                <a:solidFill>
                  <a:srgbClr val="0066ff"/>
                </a:solidFill>
                <a:latin typeface="a_BodoniNova"/>
              </a:rPr>
              <a:t>каждый цвет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_BodoniNova"/>
              </a:rPr>
              <a:t>Озаряем любовь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_BodoniNova"/>
              </a:rPr>
              <a:t>                      </a:t>
            </a:r>
            <a:r>
              <a:rPr b="1" lang="en-US" sz="1800" spc="-1" strike="noStrike">
                <a:solidFill>
                  <a:srgbClr val="0066ff"/>
                </a:solidFill>
                <a:latin typeface="a_BodoniNova"/>
              </a:rPr>
              <a:t>Как солнца вос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_BodoniNova"/>
              </a:rPr>
              <a:t>Смотришь на Кам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_BodoniNova"/>
              </a:rPr>
              <a:t>                      </a:t>
            </a:r>
            <a:r>
              <a:rPr b="1" lang="en-US" sz="1800" spc="-1" strike="noStrike">
                <a:solidFill>
                  <a:srgbClr val="0066ff"/>
                </a:solidFill>
                <a:latin typeface="a_BodoniNova"/>
              </a:rPr>
              <a:t>В жемчужную дал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_BodoniNova"/>
              </a:rPr>
              <a:t>И чувствуешь силу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_BodoniNova"/>
              </a:rPr>
              <a:t>                      </a:t>
            </a:r>
            <a:r>
              <a:rPr b="1" lang="en-US" sz="1800" spc="-1" strike="noStrike">
                <a:solidFill>
                  <a:srgbClr val="0066ff"/>
                </a:solidFill>
                <a:latin typeface="a_BodoniNova"/>
              </a:rPr>
              <a:t>все дружную ст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_BodoniNova"/>
              </a:rPr>
              <a:t>Всеми храни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_BodoniNova"/>
              </a:rPr>
              <a:t>                      </a:t>
            </a:r>
            <a:r>
              <a:rPr b="1" lang="en-US" sz="1800" spc="-1" strike="noStrike">
                <a:solidFill>
                  <a:srgbClr val="0066ff"/>
                </a:solidFill>
                <a:latin typeface="a_BodoniNova"/>
              </a:rPr>
              <a:t>Несметной сем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_BodoniNova"/>
              </a:rPr>
              <a:t>Нашей любим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_BodoniNova"/>
              </a:rPr>
              <a:t>                      </a:t>
            </a:r>
            <a:r>
              <a:rPr b="1" lang="en-US" sz="1800" spc="-1" strike="noStrike">
                <a:solidFill>
                  <a:srgbClr val="0066ff"/>
                </a:solidFill>
                <a:latin typeface="a_BodoniNova"/>
              </a:rPr>
              <a:t>Бессмертной зем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diamond/>
    <p:sndAc>
      <p:stSnd>
        <p:snd r:embed="rId2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" dur="5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50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" dur="500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" dur="500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" dur="500"/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1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6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6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1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1" dur="5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6" dur="5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1" dur="50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6" dur="500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1" dur="500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6" dur="500"/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1" dur="500"/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.Смородинов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Окраин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Harpoon"/>
              </a:rPr>
              <a:t>Раздавив палисадник с герань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Harpoon"/>
              </a:rPr>
              <a:t>на обломках бревенчатых ст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Harpoon"/>
              </a:rPr>
              <a:t>подрастает высокое здан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Harpoon"/>
              </a:rPr>
              <a:t>Кукушонком в синичьем гнез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Harpoon"/>
              </a:rPr>
              <a:t>Мотовилих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Harpoon"/>
              </a:rPr>
              <a:t>            </a:t>
            </a:r>
            <a:r>
              <a:rPr b="1" lang="en-US" sz="1800" spc="-1" strike="noStrike">
                <a:solidFill>
                  <a:srgbClr val="0000ff"/>
                </a:solidFill>
                <a:latin typeface="Harpoon"/>
              </a:rPr>
              <a:t>В городе г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Harpoon"/>
              </a:rPr>
              <a:t>Флаг над Выш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Harpoon"/>
              </a:rPr>
              <a:t>              </a:t>
            </a:r>
            <a:r>
              <a:rPr b="1" lang="en-US" sz="1800" spc="-1" strike="noStrike">
                <a:solidFill>
                  <a:srgbClr val="0000ff"/>
                </a:solidFill>
                <a:latin typeface="Harpoon"/>
              </a:rPr>
              <a:t>летит в обла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Harpoon"/>
              </a:rPr>
              <a:t>Снежный 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Harpoon"/>
              </a:rPr>
              <a:t>             </a:t>
            </a:r>
            <a:r>
              <a:rPr b="1" lang="en-US" sz="1800" spc="-1" strike="noStrike">
                <a:solidFill>
                  <a:srgbClr val="0000ff"/>
                </a:solidFill>
                <a:latin typeface="Harpoon"/>
              </a:rPr>
              <a:t>с высоких уг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Harpoon"/>
              </a:rPr>
              <a:t>в Каму катится эхо гу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Harpoon"/>
              </a:rPr>
              <a:t>Уезжал 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Harpoon"/>
              </a:rPr>
              <a:t>        </a:t>
            </a:r>
            <a:r>
              <a:rPr b="1" lang="en-US" sz="1800" spc="-1" strike="noStrike">
                <a:solidFill>
                  <a:srgbClr val="0000ff"/>
                </a:solidFill>
                <a:latin typeface="Harpoon"/>
              </a:rPr>
              <a:t>Как к солнышку птиц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Harpoon"/>
              </a:rPr>
              <a:t>к дому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Harpoon"/>
              </a:rPr>
              <a:t>          </a:t>
            </a:r>
            <a:r>
              <a:rPr b="1" lang="en-US" sz="1800" spc="-1" strike="noStrike">
                <a:solidFill>
                  <a:srgbClr val="0000ff"/>
                </a:solidFill>
                <a:latin typeface="Harpoon"/>
              </a:rPr>
              <a:t>думы тянулись мои</a:t>
            </a:r>
            <a:r>
              <a:rPr b="1" lang="en-US" sz="1800" spc="-1" strike="noStrike">
                <a:solidFill>
                  <a:srgbClr val="0000ff"/>
                </a:solidFill>
                <a:latin typeface="Lath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Harpoon"/>
              </a:rPr>
              <a:t>Детство снило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Harpoon"/>
              </a:rPr>
              <a:t>              </a:t>
            </a:r>
            <a:r>
              <a:rPr b="1" lang="en-US" sz="1800" spc="-1" strike="noStrike">
                <a:solidFill>
                  <a:srgbClr val="0000ff"/>
                </a:solidFill>
                <a:latin typeface="Harpoon"/>
              </a:rPr>
              <a:t>Мартенов зарн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Harpoon"/>
              </a:rPr>
              <a:t>В свете их - погребуш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Harpoon"/>
              </a:rPr>
              <a:t>                      </a:t>
            </a:r>
            <a:r>
              <a:rPr b="1" lang="en-US" sz="1800" spc="-1" strike="noStrike">
                <a:solidFill>
                  <a:srgbClr val="0000ff"/>
                </a:solidFill>
                <a:latin typeface="Harpoon"/>
              </a:rPr>
              <a:t>плет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Harpoon"/>
              </a:rPr>
              <a:t>Возвраща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Harpoon"/>
              </a:rPr>
              <a:t>              </a:t>
            </a:r>
            <a:r>
              <a:rPr b="1" lang="en-US" sz="1800" spc="-1" strike="noStrike">
                <a:solidFill>
                  <a:srgbClr val="0000ff"/>
                </a:solidFill>
                <a:latin typeface="Harpoon"/>
              </a:rPr>
              <a:t>Стоял, ошараше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Harpoon"/>
              </a:rPr>
              <a:t>наяву не узн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Harpoon"/>
              </a:rPr>
              <a:t>                </a:t>
            </a:r>
            <a:r>
              <a:rPr b="1" lang="en-US" sz="1800" spc="-1" strike="noStrike">
                <a:solidFill>
                  <a:srgbClr val="0000ff"/>
                </a:solidFill>
                <a:latin typeface="Harpoon"/>
              </a:rPr>
              <a:t>свои с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Harpoon"/>
              </a:rPr>
              <a:t>Вырывалась окраина на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Harpoon"/>
              </a:rPr>
              <a:t>из бревенчатых ла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Harpoon"/>
              </a:rPr>
              <a:t>                 </a:t>
            </a:r>
            <a:r>
              <a:rPr b="1" lang="en-US" sz="1800" spc="-1" strike="noStrike">
                <a:solidFill>
                  <a:srgbClr val="0000ff"/>
                </a:solidFill>
                <a:latin typeface="Harpoon"/>
              </a:rPr>
              <a:t>стари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Harpoon"/>
              </a:rPr>
              <a:t>И, любя её с прежнею сил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Harpoon"/>
              </a:rPr>
              <a:t>Понимал я, взрослей становя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Harpoon"/>
              </a:rPr>
              <a:t>Что была она сердцу – Росси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Harpoon"/>
              </a:rPr>
              <a:t>а окраиной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Harpoon"/>
              </a:rPr>
              <a:t>             </a:t>
            </a:r>
            <a:r>
              <a:rPr b="1" lang="en-US" sz="1800" spc="-1" strike="noStrike">
                <a:solidFill>
                  <a:srgbClr val="0000ff"/>
                </a:solidFill>
                <a:latin typeface="Harpoon"/>
              </a:rPr>
              <a:t>просто звала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diamond/>
    <p:sndAc>
      <p:stSnd>
        <p:snd r:embed="rId2" name="applause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68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73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78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83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88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93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98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03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08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13" dur="5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18" dur="5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23" dur="50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28" dur="50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33" dur="500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38" dur="500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4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48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5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58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6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6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73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78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83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88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93" dur="50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98" dur="5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03" dur="500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08" dur="5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13" dur="50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18" dur="500"/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                           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В.Собол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92720" y="1557360"/>
            <a:ext cx="33940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orgia"/>
              </a:rPr>
              <a:t>Вначале чай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orgia"/>
              </a:rPr>
              <a:t>                          </a:t>
            </a:r>
            <a:r>
              <a:rPr b="1" lang="en-US" sz="1600" spc="-1" strike="noStrike">
                <a:solidFill>
                  <a:srgbClr val="0000ff"/>
                </a:solidFill>
                <a:latin typeface="Georgia"/>
              </a:rPr>
              <a:t>прокрича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orgia"/>
              </a:rPr>
              <a:t>-Пора ко сну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orgia"/>
              </a:rPr>
              <a:t>                          </a:t>
            </a:r>
            <a:r>
              <a:rPr b="1" lang="en-US" sz="1600" spc="-1" strike="noStrike">
                <a:solidFill>
                  <a:srgbClr val="0000ff"/>
                </a:solidFill>
                <a:latin typeface="Georgia"/>
              </a:rPr>
              <a:t>Пора ко сну!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orgia"/>
              </a:rPr>
              <a:t>Волна у синего прич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orgia"/>
              </a:rPr>
              <a:t>Качала сонно тиши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orgia"/>
              </a:rPr>
              <a:t>Но, заглушив т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orgia"/>
              </a:rPr>
              <a:t>                            </a:t>
            </a:r>
            <a:r>
              <a:rPr b="1" lang="en-US" sz="1600" spc="-1" strike="noStrike">
                <a:solidFill>
                  <a:srgbClr val="0000ff"/>
                </a:solidFill>
                <a:latin typeface="Georgia"/>
              </a:rPr>
              <a:t>крик гудкам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orgia"/>
              </a:rPr>
              <a:t>Своим ответны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orgia"/>
              </a:rPr>
              <a:t>                        </a:t>
            </a:r>
            <a:r>
              <a:rPr b="1" lang="en-US" sz="1600" spc="-1" strike="noStrike">
                <a:solidFill>
                  <a:srgbClr val="0000ff"/>
                </a:solidFill>
                <a:latin typeface="Georgia"/>
              </a:rPr>
              <a:t>-Не до сна - а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orgia"/>
              </a:rPr>
              <a:t>Всё шли и шли с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orgia"/>
              </a:rPr>
              <a:t>                                  </a:t>
            </a:r>
            <a:r>
              <a:rPr b="1" lang="en-US" sz="1600" spc="-1" strike="noStrike">
                <a:solidFill>
                  <a:srgbClr val="0000ff"/>
                </a:solidFill>
                <a:latin typeface="Georgia"/>
              </a:rPr>
              <a:t>по Каме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orgia"/>
              </a:rPr>
              <a:t>И отступала тиши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orgia"/>
              </a:rPr>
              <a:t>В воде, оранжевой от масл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orgia"/>
              </a:rPr>
              <a:t>Не доставая свет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orgia"/>
              </a:rPr>
              <a:t>                                    </a:t>
            </a:r>
            <a:r>
              <a:rPr b="1" lang="en-US" sz="1600" spc="-1" strike="noStrike">
                <a:solidFill>
                  <a:srgbClr val="0000ff"/>
                </a:solidFill>
                <a:latin typeface="Georgia"/>
              </a:rPr>
              <a:t>д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orgia"/>
              </a:rPr>
              <a:t>Всю ночь горе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orgia"/>
              </a:rPr>
              <a:t>                               </a:t>
            </a:r>
            <a:r>
              <a:rPr b="1" lang="en-US" sz="1600" spc="-1" strike="noStrike">
                <a:solidFill>
                  <a:srgbClr val="0000ff"/>
                </a:solidFill>
                <a:latin typeface="Georgia"/>
              </a:rPr>
              <a:t>и не гас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orgia"/>
              </a:rPr>
              <a:t>Не то заря, не то луна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diamond/>
    <p:sndAc>
      <p:stSnd>
        <p:snd r:embed="rId2" name="applause.wav"/>
      </p:stSnd>
    </p:sndAc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4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5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50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50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50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8" dur="50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50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7" dur="50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2" dur="500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6" dur="500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1" dur="500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5" dur="500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0" dur="500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4" dur="500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9" dur="500"/>
                                        <p:tgtEl>
                                          <p:spTgt spid="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/>
                                        <p:tgtEl>
                                          <p:spTgt spid="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/>
                                        <p:tgtEl>
                                          <p:spTgt spid="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/>
                                        <p:tgtEl>
                                          <p:spTgt spid="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3" dur="500"/>
                                        <p:tgtEl>
                                          <p:spTgt spid="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8" dur="500"/>
                                        <p:tgtEl>
                                          <p:spTgt spid="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/>
                                        <p:tgtEl>
                                          <p:spTgt spid="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/>
                                        <p:tgtEl>
                                          <p:spTgt spid="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/>
                                        <p:tgtEl>
                                          <p:spTgt spid="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2" dur="500"/>
                                        <p:tgtEl>
                                          <p:spTgt spid="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7" dur="500"/>
                                        <p:tgtEl>
                                          <p:spTgt spid="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/>
                                        <p:tgtEl>
                                          <p:spTgt spid="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/>
                                        <p:tgtEl>
                                          <p:spTgt spid="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/>
                                        <p:tgtEl>
                                          <p:spTgt spid="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                          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А.Реше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63280" y="1484280"/>
            <a:ext cx="6861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zx26"/>
              </a:rPr>
              <a:t>На траве золотые бли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zx26"/>
              </a:rPr>
              <a:t>Ствол сосновый в душистой смол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zx26"/>
              </a:rPr>
              <a:t>И румяной щекой земля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zx26"/>
              </a:rPr>
              <a:t>Прикоснулась к прогретой зем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zx26"/>
              </a:rPr>
              <a:t>И над Камой, жарой опаленны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zx26"/>
              </a:rPr>
              <a:t>Низко-низко склонились кусты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zx26"/>
              </a:rPr>
              <a:t>Им бы сбросить рубашки зеле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zx26"/>
              </a:rPr>
              <a:t>Да поплыть, догоняя пл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diamond/>
    <p:sndAc>
      <p:stSnd>
        <p:snd r:embed="rId2" name="applause.wav"/>
      </p:stSnd>
    </p:sndAc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0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5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9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4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8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3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7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2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6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1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5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0066"/>
                </a:solidFill>
                <a:latin typeface="Arial"/>
              </a:rPr>
              <a:t>И.Трайнин</a:t>
            </a:r>
            <a:br>
              <a:rPr sz="4000"/>
            </a:br>
            <a:r>
              <a:rPr b="0" i="1" lang="en-US" sz="4000" spc="-1" strike="noStrike">
                <a:solidFill>
                  <a:srgbClr val="ff0066"/>
                </a:solidFill>
                <a:latin typeface="Arial"/>
              </a:rPr>
              <a:t>«Белая ноч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35280" y="160020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Намаявшись изрядно за ден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Леж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Солн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За ре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Скрыл полумеся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В Каме пламен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Чтоб не вспугнуть земной по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Рыбак возился у мере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Буксир огней не зажига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На свете он немало прож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И белой но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                        </a:t>
            </a: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доверя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diamond/>
    <p:sndAc>
      <p:stSnd>
        <p:snd r:embed="rId2" name="applause.wav"/>
      </p:stSnd>
    </p:sndAc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3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5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0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5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5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6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1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6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8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6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5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6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6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9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6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6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6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3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6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0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                              </a:t>
            </a: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А.Спеши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11280" y="1600200"/>
            <a:ext cx="62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Book Antiqua"/>
              </a:rPr>
              <a:t>Вешний паводок бурли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Book Antiqua"/>
              </a:rPr>
              <a:t>В пене мокрые пе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Book Antiqua"/>
              </a:rPr>
              <a:t>Рассыпают листья 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Book Antiqua"/>
              </a:rPr>
              <a:t>С берегов родной ре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Book Antiqua"/>
              </a:rPr>
              <a:t>А она несёт, как песн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Book Antiqua"/>
              </a:rPr>
              <a:t>Воды буйные сво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Book Antiqua"/>
              </a:rPr>
              <a:t>В прибережном краснолес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Book Antiqua"/>
              </a:rPr>
              <a:t>Звонко свищут соловь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Book Antiqua"/>
              </a:rPr>
              <a:t>Скрылось солнце за го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Book Antiqua"/>
              </a:rPr>
              <a:t>Пролетели журав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Book Antiqua"/>
              </a:rPr>
              <a:t>Брызжут волны за кормо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Book Antiqua"/>
              </a:rPr>
              <a:t>И расходятся вд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diamond/>
    <p:sndAc>
      <p:stSnd>
        <p:snd r:embed="rId2" name="applause.wav"/>
      </p:stSnd>
    </p:sndAc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5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0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3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8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1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6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9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4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7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2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5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0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3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8" dur="5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1" dur="5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6" dur="50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9" dur="50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Е.Винокуров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«Кам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403848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Буксирный катер «Пролетар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Будил просторы по утру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Читаю медленно Плутар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И за борт на тайгу смотрю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На палубе лежат вповалк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Русь как бы двинулась в проход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Картуз склонился к полушал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И под гармонику по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И раненый из медсанб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Глядит светло и глубок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2920" y="2276280"/>
            <a:ext cx="403884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Рогожи подстелив, реб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Бесстрастно режутся в «очк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И, чувствуя себя средь тощ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Людей, как не в своем мир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Сидит с портфелем заговорщ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В брезентовом дождевике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И в знак, что ведь еще нем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Хлебнуть всем будет сужде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У раненого проступ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Сквозь бинт кровавое пят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  <p:sndAc>
      <p:stSnd>
        <p:snd r:embed="rId2" name="applaus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Н. Чебык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Вагон поплы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и скрылась Пермь-втора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С моста над Кам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              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город виден ве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Огни заводов в небе полыхаю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А дальше лес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          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поля и снова ле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Плывут снега у безымянных реч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Плывет в снег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поселках желтый св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Стучат колес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встре-чу, встре-чу, встре-ч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И сами отвечаю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              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нет. Нет. Н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И я не встреч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И меня не встретя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Качу на юг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туда, где потеп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Гуляет по Прикам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                   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стылый вете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Метет подзе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             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по щекам по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А там вес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       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цветущие жардел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Тюльпанов плам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           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возле белых ха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Но я-то знаю, что через недел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Меня потянет в Перм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                     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домой, наза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12:39:27Z</dcterms:created>
  <dc:creator>Дима Ошмарин</dc:creator>
  <dc:description/>
  <dc:language>en-US</dc:language>
  <cp:lastModifiedBy>Дима Ошмарин</cp:lastModifiedBy>
  <dcterms:modified xsi:type="dcterms:W3CDTF">2007-03-03T14:58:19Z</dcterms:modified>
  <cp:revision>3</cp:revision>
  <dc:subject/>
  <dc:title>Город на Каме</dc:title>
</cp:coreProperties>
</file>