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4B2-9C05-4DAC-9436-D3556969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B6C-0624-478B-8976-6DFB5201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A6E-9861-45D5-B396-FED6D37F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C6B-8A7C-4471-97DD-4EABB6F0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E450-34F7-4B43-B1A4-491263D6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8EC2-7D71-4BEB-933E-DE71641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F711-97E4-4B21-9DAB-3794EF0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6ED-E3D5-471D-AD93-C0495422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391-3321-46C0-91FE-63031F8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7ABA-1885-444C-A9C8-87D5B4D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55D7-215B-4FA5-8F63-C89D157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D49-1CB0-457F-BC93-063F9B86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D69B-4802-456D-82C7-93FD624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153-E369-4D1A-8D30-47D7DF8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645F-E86E-4D87-944C-B38CF44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23DD-7210-4192-9BCA-9C8AACF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31A5-FC2A-4C6F-9237-79FBA957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BF1-D821-40C8-9310-A1F1C7B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5BB-B69C-4A38-9E11-DDE248C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9E4-4C57-4195-8818-A362C1D6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0FB-16F3-4DA5-9A13-27809BEB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19A-170A-450F-8DBB-C086331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634-8073-4B19-9642-A2768D0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CB7-D323-44CE-BC17-69B7D71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012-8316-45A5-AD26-8568C7ADB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818-AB96-43F1-9131-DC6DF81E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onetic exercis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[ ei ]     c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ke, m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[ i: ]   m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t, t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t, ch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ee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se, ice-cr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e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[ 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] sandwi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ch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j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am,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j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uice, porri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dg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[ а  ]  h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m, c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rot,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pple, c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bb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[ А  ] b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u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tter, h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u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ngry, n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u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t, h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n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8305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Закончи предложения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Eat  carrots  and 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 Have  __________and  milk      for  breakf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.  Drink________  every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.  Don't  eat  many 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.  Walk and ________  with your  frie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. Be  happy  and  _____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12193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371600"/>
            <a:ext cx="26668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Ju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we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ealt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orri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p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899172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438640" cy="2400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20126400">
            <a:off x="914400" y="2362320"/>
            <a:ext cx="686268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Be wealthy and health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1436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28T12:22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