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E181-ED5E-45C9-B9FE-CBAC87618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8E8A-4818-47FC-A04D-F3C56C9B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9E08-632E-4913-958B-3AE0362CD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7E4D-A945-43BA-B2BB-9102AE1BB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4161-234E-4CE0-99FA-A6C142E2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66C3-D7A2-42A8-A80D-734D36D6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D4A7-F699-4C0F-BB19-4256A7AB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301E-6339-41AB-BC6C-A642BF03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5348-BC9B-40CE-B6D3-E69BA905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B09C-3911-4E07-866E-07EB4CBA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8C5B-182F-4356-BE01-783E154D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0A7A-3C6B-4224-BD64-B3DFAA03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90E9-5193-468E-9A42-075336D848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Звездный ча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619280" y="3860280"/>
            <a:ext cx="6400800" cy="32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«Знатоки химии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Ag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2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Cl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3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n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5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ая пара ионов участвует в химической реакции при приливании раствора хлорида цинка к раствору гидроксида натри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ое из ионных уравнений не может существовать, так как подобную реакцию нельзя провести практическ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асставьте коэффициен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42960" y="16430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(OH)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O+ H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(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+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OH+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+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OH+ZnCl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→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KCl+Zn(OH)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5-й тур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ипы химических реакц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D:\Documents and Settings\Администратор\Рабочий стол\Не удалять!!!\redox.jpg"/>
          <p:cNvPicPr/>
          <p:nvPr/>
        </p:nvPicPr>
        <p:blipFill>
          <a:blip r:embed="rId1"/>
          <a:stretch/>
        </p:blipFill>
        <p:spPr>
          <a:xfrm>
            <a:off x="1785960" y="2571840"/>
            <a:ext cx="5396040" cy="346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(OH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2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Cl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→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→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4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n + HC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 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авнение какой реакции относится к реакции замещ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авнение какой реакции относится к реакции соедин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авнения какой реакции относится к реакции обме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авнение какой реакции относится к реакции разлож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6-й тур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Химия и математи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D:\Documents and Settings\Администратор\Рабочий стол\Не удалять!!!\geron.gif"/>
          <p:cNvPicPr/>
          <p:nvPr/>
        </p:nvPicPr>
        <p:blipFill>
          <a:blip r:embed="rId1"/>
          <a:stretch/>
        </p:blipFill>
        <p:spPr>
          <a:xfrm>
            <a:off x="5357880" y="3857760"/>
            <a:ext cx="3232080" cy="450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D:\Documents and Settings\Администратор\Рабочий стол\Не удалять!!!\kvuravnenie.gif"/>
          <p:cNvPicPr/>
          <p:nvPr/>
        </p:nvPicPr>
        <p:blipFill>
          <a:blip r:embed="rId2"/>
          <a:stretch/>
        </p:blipFill>
        <p:spPr>
          <a:xfrm>
            <a:off x="5357880" y="5072040"/>
            <a:ext cx="2786040" cy="928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D:\Documents and Settings\Администратор\Рабочий стол\Не удалять!!!\15515823_WPERMSE.gif"/>
          <p:cNvPicPr/>
          <p:nvPr/>
        </p:nvPicPr>
        <p:blipFill>
          <a:blip r:embed="rId3"/>
          <a:stretch/>
        </p:blipFill>
        <p:spPr>
          <a:xfrm>
            <a:off x="500040" y="2286000"/>
            <a:ext cx="4429080" cy="4324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3      2)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7     3)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10       4)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4        5 )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олько молекул воды приходится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 молекулу сульфата меди в медном купорос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олько молей ионов натрия образуется при полной диссоциации одного моля фосфата натри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олько молей серной кислоты содержится в 392 г серной кислот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7-й тур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еликие хим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D:\Documents and Settings\Администратор\Рабочий стол\Не удалять!!!\19997980_tonnel.gif"/>
          <p:cNvPicPr/>
          <p:nvPr/>
        </p:nvPicPr>
        <p:blipFill>
          <a:blip r:embed="rId1"/>
          <a:stretch/>
        </p:blipFill>
        <p:spPr>
          <a:xfrm>
            <a:off x="214200" y="2500200"/>
            <a:ext cx="2857680" cy="393408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6"/>
          <p:cNvSpPr/>
          <p:nvPr/>
        </p:nvSpPr>
        <p:spPr>
          <a:xfrm>
            <a:off x="0" y="18572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.И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енделее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D:\Documents and Settings\Администратор\Рабочий стол\Не удалять!!!\lomonosov.jpg"/>
          <p:cNvPicPr/>
          <p:nvPr/>
        </p:nvPicPr>
        <p:blipFill>
          <a:blip r:embed="rId2"/>
          <a:stretch/>
        </p:blipFill>
        <p:spPr>
          <a:xfrm>
            <a:off x="3429000" y="2500200"/>
            <a:ext cx="2825640" cy="385776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8"/>
          <p:cNvSpPr/>
          <p:nvPr/>
        </p:nvSpPr>
        <p:spPr>
          <a:xfrm>
            <a:off x="3071880" y="6211800"/>
            <a:ext cx="353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В. Ломоно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D:\Documents and Settings\Администратор\Рабочий стол\Не удалять!!!\foto-01.jpg"/>
          <p:cNvPicPr/>
          <p:nvPr/>
        </p:nvPicPr>
        <p:blipFill>
          <a:blip r:embed="rId3"/>
          <a:stretch/>
        </p:blipFill>
        <p:spPr>
          <a:xfrm>
            <a:off x="6540480" y="2571840"/>
            <a:ext cx="2603520" cy="364320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12"/>
          <p:cNvSpPr/>
          <p:nvPr/>
        </p:nvSpPr>
        <p:spPr>
          <a:xfrm>
            <a:off x="6225120" y="1928880"/>
            <a:ext cx="29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Н.</a:t>
            </a:r>
            <a:r>
              <a:rPr b="1" lang="vi-V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ён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420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1) Ломоносов  2) Аррениус  3) Берцелиу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4) Каблуков    5) Семен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у из ученых принадлежит идея о гидратации ионов в растворах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у из ученых принадлежит это высказывание: «Широко распростирает химия руки свои в дела человеческие»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то из ученых является основоположником теории электролитической диссоциаци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Times New Roman"/>
              </a:rPr>
              <a:t>8-й ту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Химическая связь в веществ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D:\Documents and Settings\Администратор\Рабочий стол\Не удалять!!!\ch4.jpg"/>
          <p:cNvPicPr/>
          <p:nvPr/>
        </p:nvPicPr>
        <p:blipFill>
          <a:blip r:embed="rId1"/>
          <a:stretch/>
        </p:blipFill>
        <p:spPr>
          <a:xfrm>
            <a:off x="2714760" y="2357280"/>
            <a:ext cx="4214520" cy="4214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3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О   2) НС1   3) РН</a:t>
            </a:r>
            <a:r>
              <a:rPr b="1" lang="en-US" sz="3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    4)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 Na</a:t>
            </a:r>
            <a:r>
              <a:rPr b="1" lang="en-US" sz="3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     5)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3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лекула, какого вещества образована ионной связью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молекуле какого вещества две ковалентных полярных связ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лекула, какого вещества имеет двойную ковалентную неполярную связ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Тур 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Химические эле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D:\Documents and Settings\Администратор\Рабочий стол\Не удалять!!!\m.gif"/>
          <p:cNvPicPr/>
          <p:nvPr/>
        </p:nvPicPr>
        <p:blipFill>
          <a:blip r:embed="rId1"/>
          <a:stretch/>
        </p:blipFill>
        <p:spPr>
          <a:xfrm>
            <a:off x="857160" y="1643040"/>
            <a:ext cx="7191360" cy="495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становите соответств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звание вещества              Форму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рбонат кальция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HS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идросульфат натрия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глекислый газ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емниевая кислота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тановите соответств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0" y="1428840"/>
            <a:ext cx="91440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зическая величина       Единица изме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ярная масса                          А. 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ичество вещества                 Б. л/м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ярный объем                        В. г/м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сса                                           Г.  м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тановите соответств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имический элемент       Состав ат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льций                              А.3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4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35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ом                                   Б.19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2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1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лий                                  В.3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4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3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шьяк                               Г.2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2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2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He     2.Co    3.Po     4.Ru    5.Np   6.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Химический элемент, названный в честь планеты Солнечной системы, которая в свою очередь названа в честь древнеримского бога – покровителя воды и морей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Химический элемент, названный в честь Солнца. Шотландский химик У.Рамзай доказал, что этот элемент, открытый на Солнце, существует и на Земл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В 1844 году профессор Казанского университета К.Клаус в остатках после извлечения из руд платины обнаружил этот элемент, впоследствии названный в честь России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Этот химический  элемент был открыт в 1898 году французскими учеными М.Склодовской – Кюри и П.Кюри в урановой руде.  Назван в честь родины М Кюр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В 1735 г. Шведский химик Г.Бранд открыл в руде этот химический элемент. Рудокопы полагали, что руда, которая была внешне похожа на медную, но из которой никак не удавалось получить медь, была заколдована горными духами – кобольдами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Тур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58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Химические элементы и здоров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28760" y="285840"/>
            <a:ext cx="847224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1.Se    2.Pb      3.Cl      4. P    5. Mg     6.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Химический элемент, входящий в состав средства для дезинфекции воды в плавательных бассейнах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Химический элемент содержится в костной ткани, способствует выведению из организма солей тяжелых металлов  и участвует в свертывании кров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Антиоксидант, который защищает от раковых заболеваний, болезней сердца, ядов и продлевает жизнь челове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Химический элемент, снижает уровень холестерина, незаменим для профилактики хронической усталости и стресс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Металл, используемый для защиты от рентгеновского излуч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3-й ту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войства веществ различных классов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D:\Documents and Settings\Администратор\Рабочий стол\Не удалять!!!\menu_down.jpg"/>
          <p:cNvPicPr/>
          <p:nvPr/>
        </p:nvPicPr>
        <p:blipFill>
          <a:blip r:embed="rId1"/>
          <a:stretch/>
        </p:blipFill>
        <p:spPr>
          <a:xfrm>
            <a:off x="2928960" y="2928960"/>
            <a:ext cx="2946240" cy="2865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2) А1(ОН)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3) СаСО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gO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5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ие из приведенных веществ взаимодействуют с раствором гидроксида натри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ие из веществ подвергаются разложению при нагреван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ие из указанных веществ при растворении в воде образуют кислот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каком из веществ массовая доля кислорода составляет 50 %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Тур 4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еакции ионного обм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D:\Documents and Settings\Администратор\Рабочий стол\Не удалять!!!\1074test_tubes.jpg"/>
          <p:cNvPicPr/>
          <p:nvPr/>
        </p:nvPicPr>
        <p:blipFill>
          <a:blip r:embed="rId1"/>
          <a:stretch/>
        </p:blipFill>
        <p:spPr>
          <a:xfrm>
            <a:off x="2571840" y="2714760"/>
            <a:ext cx="4286160" cy="285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Ag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2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Cl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3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n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5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ая пара ионов участвует в химической реакции при приливании раствора нитрата серебра к раствору хлорида кали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ая пара ионов участвует в химической реакции при  приливании раствора нитрата бария к раствору сульфата натри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18:58:50Z</dcterms:created>
  <dc:creator>Tarantino</dc:creator>
  <dc:description/>
  <dc:language>en-US</dc:language>
  <cp:lastModifiedBy>катя</cp:lastModifiedBy>
  <dcterms:modified xsi:type="dcterms:W3CDTF">2010-04-18T15:23:56Z</dcterms:modified>
  <cp:revision>62</cp:revision>
  <dc:subject/>
  <dc:title>Слайд 1</dc:title>
</cp:coreProperties>
</file>